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FC3-7F94-4110-B545-3E680E61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4DA-189E-4ECF-A836-94494BA1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B1A-A2DA-4B5D-AFC2-E90FF5EE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1DC-FAC6-4F3F-8F8E-60EC63FD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6A1-9FD7-4724-A531-C7AB8C45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3A7-5D0D-4F56-BAAA-89CD0EBD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EB1-05EF-44FD-96E1-35D87888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110-3AB9-446A-9354-6F93A29E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A95-3AF6-46FD-9452-86926FFD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1FE-B5FA-428E-B60E-C94A57A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DEB-A7F2-46C8-844D-702AF77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D97-F0E9-46B9-A110-448B9DDF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E798-73D2-41AC-94F2-01AB74739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914400"/>
          <a:ext cx="32004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32004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429000" y="914400"/>
          <a:ext cx="329256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914400"/>
                    <a:ext cx="32925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743200" y="5257800"/>
            <a:ext cx="885960" cy="1374840"/>
          </a:xfrm>
          <a:custGeom>
            <a:avLst/>
            <a:gdLst/>
            <a:ahLst/>
            <a:rect l="l" t="t" r="r" b="b"/>
            <a:pathLst>
              <a:path w="1069" h="1927">
                <a:moveTo>
                  <a:pt x="94" y="1832"/>
                </a:moveTo>
                <a:cubicBezTo>
                  <a:pt x="89" y="1719"/>
                  <a:pt x="84" y="1536"/>
                  <a:pt x="80" y="1493"/>
                </a:cubicBezTo>
                <a:cubicBezTo>
                  <a:pt x="76" y="1450"/>
                  <a:pt x="93" y="1706"/>
                  <a:pt x="91" y="1663"/>
                </a:cubicBezTo>
                <a:cubicBezTo>
                  <a:pt x="88" y="1611"/>
                  <a:pt x="56" y="1262"/>
                  <a:pt x="66" y="1211"/>
                </a:cubicBezTo>
                <a:cubicBezTo>
                  <a:pt x="75" y="1167"/>
                  <a:pt x="109" y="1747"/>
                  <a:pt x="109" y="1747"/>
                </a:cubicBezTo>
                <a:cubicBezTo>
                  <a:pt x="79" y="1496"/>
                  <a:pt x="111" y="1927"/>
                  <a:pt x="79" y="1807"/>
                </a:cubicBezTo>
                <a:cubicBezTo>
                  <a:pt x="64" y="1751"/>
                  <a:pt x="38" y="745"/>
                  <a:pt x="38" y="745"/>
                </a:cubicBezTo>
                <a:cubicBezTo>
                  <a:pt x="49" y="578"/>
                  <a:pt x="0" y="368"/>
                  <a:pt x="91" y="277"/>
                </a:cubicBezTo>
                <a:cubicBezTo>
                  <a:pt x="96" y="211"/>
                  <a:pt x="74" y="308"/>
                  <a:pt x="123" y="265"/>
                </a:cubicBezTo>
                <a:cubicBezTo>
                  <a:pt x="180" y="215"/>
                  <a:pt x="429" y="101"/>
                  <a:pt x="504" y="95"/>
                </a:cubicBezTo>
                <a:cubicBezTo>
                  <a:pt x="560" y="91"/>
                  <a:pt x="455" y="107"/>
                  <a:pt x="511" y="103"/>
                </a:cubicBezTo>
                <a:cubicBezTo>
                  <a:pt x="522" y="124"/>
                  <a:pt x="522" y="64"/>
                  <a:pt x="603" y="53"/>
                </a:cubicBezTo>
                <a:cubicBezTo>
                  <a:pt x="684" y="42"/>
                  <a:pt x="930" y="43"/>
                  <a:pt x="998" y="39"/>
                </a:cubicBezTo>
                <a:cubicBezTo>
                  <a:pt x="1066" y="35"/>
                  <a:pt x="1007" y="32"/>
                  <a:pt x="1009" y="31"/>
                </a:cubicBezTo>
                <a:cubicBezTo>
                  <a:pt x="1011" y="30"/>
                  <a:pt x="1008" y="32"/>
                  <a:pt x="1009" y="31"/>
                </a:cubicBezTo>
                <a:lnTo>
                  <a:pt x="1015" y="25"/>
                </a:lnTo>
                <a:cubicBezTo>
                  <a:pt x="1065" y="0"/>
                  <a:pt x="957" y="85"/>
                  <a:pt x="1012" y="67"/>
                </a:cubicBezTo>
                <a:cubicBezTo>
                  <a:pt x="1021" y="539"/>
                  <a:pt x="973" y="1615"/>
                  <a:pt x="1069" y="1818"/>
                </a:cubicBezTo>
                <a:lnTo>
                  <a:pt x="85" y="1879"/>
                </a:ln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71600" y="5189400"/>
            <a:ext cx="1941480" cy="1440000"/>
          </a:xfrm>
          <a:custGeom>
            <a:avLst/>
            <a:gdLst/>
            <a:ahLst/>
            <a:rect l="l" t="t" r="r" b="b"/>
            <a:pathLst>
              <a:path w="2804" h="1908">
                <a:moveTo>
                  <a:pt x="0" y="1908"/>
                </a:moveTo>
                <a:cubicBezTo>
                  <a:pt x="133" y="1641"/>
                  <a:pt x="333" y="616"/>
                  <a:pt x="800" y="308"/>
                </a:cubicBezTo>
                <a:cubicBezTo>
                  <a:pt x="1267" y="0"/>
                  <a:pt x="2470" y="100"/>
                  <a:pt x="2804" y="58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01840" y="6627960"/>
            <a:ext cx="25750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01840" y="5108040"/>
            <a:ext cx="0" cy="1519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76680" y="5483160"/>
            <a:ext cx="0" cy="119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46440" y="5230800"/>
            <a:ext cx="0" cy="144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90320" y="5483160"/>
            <a:ext cx="443160" cy="3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35240" y="5257800"/>
            <a:ext cx="1455840" cy="11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84920"/>
            <a:ext cx="10144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Ûo1/(Vs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4/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6705720"/>
            <a:ext cx="3594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                 3.24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59436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7010280"/>
            <a:ext cx="1371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obremodul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61722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v. Onda-Cuad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752480" y="59436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71800" y="61722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038480" y="55623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07:20:13Z</dcterms:created>
  <dc:creator>Enrique Maset Sancho</dc:creator>
  <dc:description/>
  <dc:language>en-US</dc:language>
  <cp:lastModifiedBy>Enrique Maset Sancho</cp:lastModifiedBy>
  <dcterms:modified xsi:type="dcterms:W3CDTF">2002-04-30T07:25:07Z</dcterms:modified>
  <cp:revision>3</cp:revision>
  <dc:subject/>
  <dc:title>Presentación de PowerPoint</dc:title>
</cp:coreProperties>
</file>