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509E-837D-480A-8FB9-94379B291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97E9-C73E-4E44-BBB1-2B6E9053D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F7C0-3255-4125-A261-A73CB8A1A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6C05-85E2-4992-91F6-598544243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8C71-7891-46F7-800D-663AE05D3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2F8C-823B-4E4C-A16F-55C2A6CE9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96AB-8CE3-463D-9ACB-816C5561C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1B7A-2E72-4511-B8FC-EE179B56B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8545-3783-44D3-B395-1DCD1BB10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CEA5-ED6A-4A25-9B69-BE468813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A63C-050D-48A0-B509-CF8A4480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FE2F-C505-4EB0-8B25-C0A1B152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C907D-754B-4C5C-BCF3-4F0521FF6D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914400"/>
          <a:ext cx="3200400" cy="32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14400"/>
                    <a:ext cx="320040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3429000" y="914400"/>
          <a:ext cx="3292560" cy="3352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914400"/>
                    <a:ext cx="32925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2743200" y="5257800"/>
            <a:ext cx="885960" cy="1374840"/>
          </a:xfrm>
          <a:custGeom>
            <a:avLst/>
            <a:gdLst/>
            <a:ahLst/>
            <a:rect l="l" t="t" r="r" b="b"/>
            <a:pathLst>
              <a:path w="1069" h="1927">
                <a:moveTo>
                  <a:pt x="94" y="1832"/>
                </a:moveTo>
                <a:cubicBezTo>
                  <a:pt x="89" y="1719"/>
                  <a:pt x="84" y="1536"/>
                  <a:pt x="80" y="1493"/>
                </a:cubicBezTo>
                <a:cubicBezTo>
                  <a:pt x="76" y="1450"/>
                  <a:pt x="93" y="1706"/>
                  <a:pt x="91" y="1663"/>
                </a:cubicBezTo>
                <a:cubicBezTo>
                  <a:pt x="88" y="1611"/>
                  <a:pt x="56" y="1262"/>
                  <a:pt x="66" y="1211"/>
                </a:cubicBezTo>
                <a:cubicBezTo>
                  <a:pt x="75" y="1167"/>
                  <a:pt x="109" y="1747"/>
                  <a:pt x="109" y="1747"/>
                </a:cubicBezTo>
                <a:cubicBezTo>
                  <a:pt x="79" y="1496"/>
                  <a:pt x="111" y="1927"/>
                  <a:pt x="79" y="1807"/>
                </a:cubicBezTo>
                <a:cubicBezTo>
                  <a:pt x="64" y="1751"/>
                  <a:pt x="38" y="745"/>
                  <a:pt x="38" y="745"/>
                </a:cubicBezTo>
                <a:cubicBezTo>
                  <a:pt x="49" y="578"/>
                  <a:pt x="0" y="368"/>
                  <a:pt x="91" y="277"/>
                </a:cubicBezTo>
                <a:cubicBezTo>
                  <a:pt x="96" y="211"/>
                  <a:pt x="74" y="308"/>
                  <a:pt x="123" y="265"/>
                </a:cubicBezTo>
                <a:cubicBezTo>
                  <a:pt x="180" y="215"/>
                  <a:pt x="429" y="101"/>
                  <a:pt x="504" y="95"/>
                </a:cubicBezTo>
                <a:cubicBezTo>
                  <a:pt x="560" y="91"/>
                  <a:pt x="455" y="107"/>
                  <a:pt x="511" y="103"/>
                </a:cubicBezTo>
                <a:cubicBezTo>
                  <a:pt x="522" y="124"/>
                  <a:pt x="522" y="64"/>
                  <a:pt x="603" y="53"/>
                </a:cubicBezTo>
                <a:cubicBezTo>
                  <a:pt x="684" y="42"/>
                  <a:pt x="930" y="43"/>
                  <a:pt x="998" y="39"/>
                </a:cubicBezTo>
                <a:cubicBezTo>
                  <a:pt x="1066" y="35"/>
                  <a:pt x="1007" y="32"/>
                  <a:pt x="1009" y="31"/>
                </a:cubicBezTo>
                <a:cubicBezTo>
                  <a:pt x="1011" y="30"/>
                  <a:pt x="1008" y="32"/>
                  <a:pt x="1009" y="31"/>
                </a:cubicBezTo>
                <a:lnTo>
                  <a:pt x="1015" y="25"/>
                </a:lnTo>
                <a:cubicBezTo>
                  <a:pt x="1065" y="0"/>
                  <a:pt x="957" y="85"/>
                  <a:pt x="1012" y="67"/>
                </a:cubicBezTo>
                <a:cubicBezTo>
                  <a:pt x="1021" y="539"/>
                  <a:pt x="973" y="1615"/>
                  <a:pt x="1069" y="1818"/>
                </a:cubicBezTo>
                <a:lnTo>
                  <a:pt x="85" y="1879"/>
                </a:lnTo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71600" y="5189400"/>
            <a:ext cx="1941480" cy="1440000"/>
          </a:xfrm>
          <a:custGeom>
            <a:avLst/>
            <a:gdLst/>
            <a:ahLst/>
            <a:rect l="l" t="t" r="r" b="b"/>
            <a:pathLst>
              <a:path w="2804" h="1908">
                <a:moveTo>
                  <a:pt x="0" y="1908"/>
                </a:moveTo>
                <a:cubicBezTo>
                  <a:pt x="133" y="1641"/>
                  <a:pt x="333" y="616"/>
                  <a:pt x="800" y="308"/>
                </a:cubicBezTo>
                <a:cubicBezTo>
                  <a:pt x="1267" y="0"/>
                  <a:pt x="2470" y="100"/>
                  <a:pt x="2804" y="58"/>
                </a:cubicBezTo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01840" y="6627960"/>
            <a:ext cx="25750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01840" y="5108040"/>
            <a:ext cx="0" cy="15195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76680" y="5483160"/>
            <a:ext cx="0" cy="1198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46440" y="5230800"/>
            <a:ext cx="0" cy="1441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90320" y="5483160"/>
            <a:ext cx="443160" cy="3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235240" y="5257800"/>
            <a:ext cx="1455840" cy="111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81160" y="4984920"/>
            <a:ext cx="1014480" cy="20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Ûo1/(Vs/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4/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57400" y="6705720"/>
            <a:ext cx="35942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1                 3.24 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43000" y="5943600"/>
            <a:ext cx="762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ne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200" y="7010280"/>
            <a:ext cx="1371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Sobremodul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6172200"/>
            <a:ext cx="2057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Inv. Onda-Cuadr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752480" y="594360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2971800" y="617220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4038480" y="5562360"/>
            <a:ext cx="10670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30T07:20:13Z</dcterms:created>
  <dc:creator>Enrique Maset Sancho</dc:creator>
  <dc:description/>
  <dc:language>en-US</dc:language>
  <cp:lastModifiedBy>Enrique Maset Sancho</cp:lastModifiedBy>
  <dcterms:modified xsi:type="dcterms:W3CDTF">2002-04-30T07:25:07Z</dcterms:modified>
  <cp:revision>3</cp:revision>
  <dc:subject/>
  <dc:title>Presentación de PowerPoint</dc:title>
</cp:coreProperties>
</file>