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8.wmf" ContentType="image/x-wmf"/>
  <Override PartName="/ppt/media/image27.png" ContentType="image/png"/>
  <Override PartName="/ppt/media/image12.wmf" ContentType="image/x-wmf"/>
  <Override PartName="/ppt/media/image9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6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3886-0424-408B-A481-86C99BFE4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B4AB-2A84-47BB-8A8B-500A04685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0C12-DDBD-4A70-8EA4-D72C3169A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3175-76D8-466B-AB26-9D1B6EC72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0C2D-CF8B-463A-B210-694449AF90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1606-9858-4C46-96E8-F3059C83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EFBF-3AA8-47F7-B63A-FBBE5FE9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6D78-F90A-4CDA-A077-AE4B390CA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635A-3ED6-4E40-A340-7FD7C1809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2DF1-D15F-4546-862B-C0BB702A6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3942-90EF-48EC-AC5A-D0C2EA840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FCB9-E653-400D-89E0-FB4E3560F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52280" y="6553080"/>
            <a:ext cx="342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Introducción a la Electrónica de Potencia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969520" y="6522120"/>
            <a:ext cx="3224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600" spc="-1" strike="noStrike">
                <a:solidFill>
                  <a:srgbClr val="fcfeb9"/>
                </a:solidFill>
                <a:latin typeface="Arial"/>
              </a:rPr>
              <a:t>ITT.SE (Universitat de València)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0DE-4273-4C3E-B8C3-7EDFCC8F79C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5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6" marL="2057400" indent="-23004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72200" y="3262320"/>
            <a:ext cx="3733920" cy="228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92280" y="297000"/>
            <a:ext cx="6761160" cy="42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279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Arial Black"/>
              </a:rPr>
              <a:t>Ing. Técnica de Telecomunicación (S.E.)</a:t>
            </a:r>
            <a:endParaRPr b="0" lang="en-US" sz="2400" spc="1" strike="noStrike">
              <a:ln w="0">
                <a:noFill/>
              </a:ln>
              <a:solidFill>
                <a:srgbClr val="00279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uv2" descr=""/>
          <p:cNvPicPr/>
          <p:nvPr/>
        </p:nvPicPr>
        <p:blipFill>
          <a:blip r:embed="rId1"/>
          <a:stretch/>
        </p:blipFill>
        <p:spPr>
          <a:xfrm flipH="1" rot="10800000">
            <a:off x="2160720" y="740880"/>
            <a:ext cx="5559120" cy="743040"/>
          </a:xfrm>
          <a:prstGeom prst="rect">
            <a:avLst/>
          </a:prstGeom>
          <a:ln w="0">
            <a:noFill/>
          </a:ln>
        </p:spPr>
      </p:pic>
      <p:pic>
        <p:nvPicPr>
          <p:cNvPr id="44" name="Image86" descr=""/>
          <p:cNvPicPr/>
          <p:nvPr/>
        </p:nvPicPr>
        <p:blipFill>
          <a:blip r:embed="rId2"/>
          <a:stretch/>
        </p:blipFill>
        <p:spPr>
          <a:xfrm>
            <a:off x="574560" y="1903320"/>
            <a:ext cx="5691240" cy="4108680"/>
          </a:xfrm>
          <a:prstGeom prst="rect">
            <a:avLst/>
          </a:prstGeom>
          <a:ln w="0">
            <a:noFill/>
          </a:ln>
        </p:spPr>
      </p:pic>
      <p:pic>
        <p:nvPicPr>
          <p:cNvPr id="45" name="3" descr=""/>
          <p:cNvPicPr/>
          <p:nvPr/>
        </p:nvPicPr>
        <p:blipFill>
          <a:blip r:embed="rId3"/>
          <a:stretch/>
        </p:blipFill>
        <p:spPr>
          <a:xfrm>
            <a:off x="6145200" y="3720960"/>
            <a:ext cx="3430440" cy="2643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78040" y="1695600"/>
            <a:ext cx="8369280" cy="168408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5400" spc="-1" strike="noStrike">
                <a:solidFill>
                  <a:srgbClr val="fc0128"/>
                </a:solidFill>
                <a:latin typeface="Tahoma"/>
              </a:rPr>
              <a:t>Introducción a la Electrónica de Potencia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715A-56BF-4D68-9B44-669AA658064B}" type="slidenum">
              <a:t>1</a:t>
            </a:fld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52120" y="0"/>
            <a:ext cx="84200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RQUITECTURA DE CONVERTIDO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5920" y="703440"/>
            <a:ext cx="9196200" cy="5697360"/>
          </a:xfrm>
          <a:prstGeom prst="roundRect">
            <a:avLst>
              <a:gd name="adj" fmla="val 2329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95400" y="1046160"/>
            <a:ext cx="5496120" cy="5340240"/>
          </a:xfrm>
          <a:prstGeom prst="rect">
            <a:avLst/>
          </a:prstGeom>
          <a:solidFill>
            <a:srgbClr val="c0fef9"/>
          </a:solidFill>
          <a:ln w="255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11720" y="2887560"/>
            <a:ext cx="190044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13520" y="3465360"/>
            <a:ext cx="1900080" cy="53532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94480" y="946080"/>
            <a:ext cx="1928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1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13480" y="2457360"/>
            <a:ext cx="2138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2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23280" y="4154400"/>
            <a:ext cx="21366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Carga3 a V</a:t>
            </a:r>
            <a:r>
              <a:rPr b="1" lang="es-ES" sz="2000" spc="-1" strike="noStrike" baseline="-25000">
                <a:solidFill>
                  <a:srgbClr val="8901f3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8901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1800" y="817560"/>
            <a:ext cx="279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Fuente 1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800" y="3780000"/>
            <a:ext cx="279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Fuente 2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76680" y="2862360"/>
            <a:ext cx="187560" cy="17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24000" y="2263680"/>
            <a:ext cx="18756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74920" y="126828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937120" y="1341360"/>
            <a:ext cx="253224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38920" y="1919160"/>
            <a:ext cx="2504880" cy="40500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70680" y="4657680"/>
            <a:ext cx="190008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336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72120" y="5351400"/>
            <a:ext cx="1757520" cy="41904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1104" y="336"/>
                </a:lnTo>
                <a:lnTo>
                  <a:pt x="0" y="33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01760" y="1365120"/>
            <a:ext cx="3379680" cy="538200"/>
          </a:xfrm>
          <a:custGeom>
            <a:avLst/>
            <a:gdLst/>
            <a:ahLst/>
            <a:rect l="l" t="t" r="r" b="b"/>
            <a:pathLst>
              <a:path w="712" h="339">
                <a:moveTo>
                  <a:pt x="0" y="338"/>
                </a:moveTo>
                <a:lnTo>
                  <a:pt x="0" y="2"/>
                </a:lnTo>
                <a:lnTo>
                  <a:pt x="711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47840" y="1785960"/>
            <a:ext cx="3267000" cy="534960"/>
          </a:xfrm>
          <a:custGeom>
            <a:avLst/>
            <a:gdLst/>
            <a:ahLst/>
            <a:rect l="l" t="t" r="r" b="b"/>
            <a:pathLst>
              <a:path w="712" h="337">
                <a:moveTo>
                  <a:pt x="0" y="0"/>
                </a:moveTo>
                <a:lnTo>
                  <a:pt x="0" y="336"/>
                </a:lnTo>
                <a:lnTo>
                  <a:pt x="711" y="331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07680" y="1217520"/>
            <a:ext cx="477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017720" y="1609560"/>
            <a:ext cx="625320" cy="492120"/>
            <a:chOff x="1017720" y="1609560"/>
            <a:chExt cx="625320" cy="492120"/>
          </a:xfrm>
        </p:grpSpPr>
        <p:sp>
          <p:nvSpPr>
            <p:cNvPr id="742" name=""/>
            <p:cNvSpPr/>
            <p:nvPr/>
          </p:nvSpPr>
          <p:spPr>
            <a:xfrm>
              <a:off x="1017720" y="1609560"/>
              <a:ext cx="625320" cy="49212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1135440" y="1750680"/>
              <a:ext cx="195480" cy="254520"/>
              <a:chOff x="1135440" y="1750680"/>
              <a:chExt cx="195480" cy="254520"/>
            </a:xfrm>
          </p:grpSpPr>
          <p:sp>
            <p:nvSpPr>
              <p:cNvPr id="744" name=""/>
              <p:cNvSpPr/>
              <p:nvPr/>
            </p:nvSpPr>
            <p:spPr>
              <a:xfrm rot="16200000">
                <a:off x="1110240" y="1776960"/>
                <a:ext cx="237960" cy="18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363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36377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5400000">
                <a:off x="1109520" y="1783800"/>
                <a:ext cx="25452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93" y="21599"/>
                    </a:moveTo>
                    <a:arcTo wR="10800" hR="10800" stAng="5434205" swAng="53657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93" y="21599"/>
                    </a:moveTo>
                    <a:arcTo wR="10800" hR="10800" stAng="5434205" swAng="5365795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1331640" y="1735560"/>
              <a:ext cx="198000" cy="251640"/>
              <a:chOff x="1331640" y="1735560"/>
              <a:chExt cx="198000" cy="251640"/>
            </a:xfrm>
          </p:grpSpPr>
          <p:sp>
            <p:nvSpPr>
              <p:cNvPr id="747" name=""/>
              <p:cNvSpPr/>
              <p:nvPr/>
            </p:nvSpPr>
            <p:spPr>
              <a:xfrm rot="16200000">
                <a:off x="1315800" y="1772280"/>
                <a:ext cx="238680" cy="18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6" y="21599"/>
                    </a:moveTo>
                    <a:arcTo wR="10800" hR="10800" stAng="5436377" swAng="53636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6" y="21599"/>
                    </a:moveTo>
                    <a:arcTo wR="10800" hR="10800" stAng="5436377" swAng="5363623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5400000">
                <a:off x="1300320" y="1766880"/>
                <a:ext cx="251640" cy="18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"/>
          <p:cNvSpPr/>
          <p:nvPr/>
        </p:nvSpPr>
        <p:spPr>
          <a:xfrm>
            <a:off x="1341360" y="4473720"/>
            <a:ext cx="1900440" cy="239400"/>
          </a:xfrm>
          <a:custGeom>
            <a:avLst/>
            <a:gdLst/>
            <a:ahLst/>
            <a:rect l="l" t="t" r="r" b="b"/>
            <a:pathLst>
              <a:path w="1105" h="151">
                <a:moveTo>
                  <a:pt x="1" y="150"/>
                </a:moveTo>
                <a:lnTo>
                  <a:pt x="0" y="0"/>
                </a:lnTo>
                <a:lnTo>
                  <a:pt x="1104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341360" y="5540400"/>
            <a:ext cx="3359160" cy="326880"/>
          </a:xfrm>
          <a:custGeom>
            <a:avLst/>
            <a:gdLst/>
            <a:ahLst/>
            <a:rect l="l" t="t" r="r" b="b"/>
            <a:pathLst>
              <a:path w="1105" h="196">
                <a:moveTo>
                  <a:pt x="1" y="0"/>
                </a:moveTo>
                <a:lnTo>
                  <a:pt x="0" y="195"/>
                </a:lnTo>
                <a:lnTo>
                  <a:pt x="1104" y="195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78960" y="4362480"/>
            <a:ext cx="477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073160" y="4710240"/>
            <a:ext cx="555480" cy="601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98440" y="4844880"/>
            <a:ext cx="292320" cy="115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9920" y="5021280"/>
            <a:ext cx="555840" cy="60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12840" y="5159520"/>
            <a:ext cx="285840" cy="11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074600" y="5343480"/>
            <a:ext cx="555840" cy="60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4280" y="5484960"/>
            <a:ext cx="263520" cy="1126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347840" y="4925880"/>
            <a:ext cx="0" cy="106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49280" y="5251320"/>
            <a:ext cx="0" cy="106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89760" y="5351400"/>
            <a:ext cx="350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c0128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92720" y="1139760"/>
            <a:ext cx="1571400" cy="1411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57560" y="4259160"/>
            <a:ext cx="1573200" cy="1793880"/>
          </a:xfrm>
          <a:custGeom>
            <a:avLst/>
            <a:gdLst>
              <a:gd name="textAreaLeft" fmla="*/ 57240 w 1573200"/>
              <a:gd name="textAreaRight" fmla="*/ 1515960 w 1573200"/>
              <a:gd name="textAreaTop" fmla="*/ 57240 h 1793880"/>
              <a:gd name="textAreaBottom" fmla="*/ 1736640 h 1793880"/>
            </a:gdLst>
            <a:ahLst/>
            <a:rect l="textAreaLeft" t="textAreaTop" r="textAreaRight" b="textAreaBottom"/>
            <a:pathLst>
              <a:path w="21600" h="24629">
                <a:moveTo>
                  <a:pt x="2699" y="0"/>
                </a:moveTo>
                <a:arcTo wR="2699" hR="2699" stAng="16200000" swAng="-5400000"/>
                <a:lnTo>
                  <a:pt x="0" y="21930"/>
                </a:lnTo>
                <a:arcTo wR="2699" hR="2699" stAng="10800000" swAng="-5400000"/>
                <a:lnTo>
                  <a:pt x="18901" y="2462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237200" y="254160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Bus DC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476600" y="1378080"/>
            <a:ext cx="14418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1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AC/A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98760" y="1353960"/>
            <a:ext cx="0" cy="160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81120" y="2936880"/>
            <a:ext cx="348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24080" y="2249640"/>
            <a:ext cx="0" cy="1396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05000" y="3629160"/>
            <a:ext cx="396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629080" y="2708280"/>
            <a:ext cx="1555560" cy="12222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322360" y="4438800"/>
            <a:ext cx="1441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DC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bidirec.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29080" y="2817720"/>
            <a:ext cx="1618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2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AC/D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89360" y="4514760"/>
            <a:ext cx="622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411800" y="361116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97280" y="2937960"/>
            <a:ext cx="0" cy="292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10080" y="2662200"/>
            <a:ext cx="1667160" cy="1565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78240" y="3524400"/>
            <a:ext cx="187560" cy="17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73800" y="2938320"/>
            <a:ext cx="15652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4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D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27680" y="2938320"/>
            <a:ext cx="0" cy="2924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0040" y="5862600"/>
            <a:ext cx="995400" cy="1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95880" y="3629160"/>
            <a:ext cx="0" cy="885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78600" y="4514760"/>
            <a:ext cx="566640" cy="33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02280" y="356220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53160" y="2855880"/>
            <a:ext cx="187200" cy="17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397480" y="4390920"/>
            <a:ext cx="1701720" cy="1712880"/>
          </a:xfrm>
          <a:custGeom>
            <a:avLst/>
            <a:gdLst>
              <a:gd name="textAreaLeft" fmla="*/ 62280 w 1701720"/>
              <a:gd name="textAreaRight" fmla="*/ 1639440 w 1701720"/>
              <a:gd name="textAreaTop" fmla="*/ 62280 h 1712880"/>
              <a:gd name="textAreaBottom" fmla="*/ 1650600 h 1712880"/>
            </a:gdLst>
            <a:ahLst/>
            <a:rect l="textAreaLeft" t="textAreaTop" r="textAreaRight" b="textAreaBottom"/>
            <a:pathLst>
              <a:path w="21600" h="21742">
                <a:moveTo>
                  <a:pt x="2699" y="0"/>
                </a:moveTo>
                <a:arcTo wR="2699" hR="2699" stAng="16200000" swAng="-5400000"/>
                <a:lnTo>
                  <a:pt x="0" y="19043"/>
                </a:lnTo>
                <a:arcTo wR="2699" hR="2699" stAng="10800000" swAng="-5400000"/>
                <a:lnTo>
                  <a:pt x="18901" y="2174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91000" y="4633920"/>
            <a:ext cx="1636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37c03"/>
                </a:solidFill>
                <a:latin typeface="Arial"/>
              </a:rPr>
              <a:t>Convertidor 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(DC/AC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7812720" y="4968000"/>
            <a:ext cx="1132920" cy="621000"/>
            <a:chOff x="7812720" y="4968000"/>
            <a:chExt cx="1132920" cy="621000"/>
          </a:xfrm>
        </p:grpSpPr>
        <p:grpSp>
          <p:nvGrpSpPr>
            <p:cNvPr id="787" name=""/>
            <p:cNvGrpSpPr/>
            <p:nvPr/>
          </p:nvGrpSpPr>
          <p:grpSpPr>
            <a:xfrm>
              <a:off x="7812720" y="5154480"/>
              <a:ext cx="268560" cy="275040"/>
              <a:chOff x="7812720" y="5154480"/>
              <a:chExt cx="268560" cy="27504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7812720" y="5154480"/>
                <a:ext cx="268560" cy="275040"/>
                <a:chOff x="7812720" y="5154480"/>
                <a:chExt cx="268560" cy="275040"/>
              </a:xfrm>
            </p:grpSpPr>
            <p:grpSp>
              <p:nvGrpSpPr>
                <p:cNvPr id="789" name=""/>
                <p:cNvGrpSpPr/>
                <p:nvPr/>
              </p:nvGrpSpPr>
              <p:grpSpPr>
                <a:xfrm>
                  <a:off x="7812720" y="5226840"/>
                  <a:ext cx="63720" cy="148320"/>
                  <a:chOff x="7812720" y="5226840"/>
                  <a:chExt cx="63720" cy="1483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5305800">
                    <a:off x="7770960" y="5271120"/>
                    <a:ext cx="146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177">
                        <a:moveTo>
                          <a:pt x="0" y="0"/>
                        </a:moveTo>
                        <a:lnTo>
                          <a:pt x="90" y="141"/>
                        </a:lnTo>
                        <a:lnTo>
                          <a:pt x="98" y="149"/>
                        </a:lnTo>
                        <a:lnTo>
                          <a:pt x="109" y="155"/>
                        </a:lnTo>
                        <a:lnTo>
                          <a:pt x="122" y="159"/>
                        </a:lnTo>
                        <a:lnTo>
                          <a:pt x="137" y="166"/>
                        </a:lnTo>
                        <a:lnTo>
                          <a:pt x="156" y="170"/>
                        </a:lnTo>
                        <a:lnTo>
                          <a:pt x="169" y="171"/>
                        </a:lnTo>
                        <a:lnTo>
                          <a:pt x="184" y="173"/>
                        </a:lnTo>
                        <a:lnTo>
                          <a:pt x="199" y="175"/>
                        </a:lnTo>
                        <a:lnTo>
                          <a:pt x="218" y="177"/>
                        </a:lnTo>
                        <a:lnTo>
                          <a:pt x="231" y="177"/>
                        </a:lnTo>
                        <a:lnTo>
                          <a:pt x="250" y="175"/>
                        </a:lnTo>
                        <a:lnTo>
                          <a:pt x="265" y="173"/>
                        </a:lnTo>
                        <a:lnTo>
                          <a:pt x="283" y="171"/>
                        </a:lnTo>
                        <a:lnTo>
                          <a:pt x="298" y="170"/>
                        </a:lnTo>
                        <a:lnTo>
                          <a:pt x="313" y="165"/>
                        </a:lnTo>
                        <a:lnTo>
                          <a:pt x="328" y="162"/>
                        </a:lnTo>
                        <a:lnTo>
                          <a:pt x="341" y="155"/>
                        </a:lnTo>
                        <a:lnTo>
                          <a:pt x="352" y="148"/>
                        </a:lnTo>
                        <a:lnTo>
                          <a:pt x="357" y="143"/>
                        </a:lnTo>
                        <a:lnTo>
                          <a:pt x="364" y="136"/>
                        </a:lnTo>
                        <a:lnTo>
                          <a:pt x="44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5305800">
                    <a:off x="7811640" y="5253840"/>
                    <a:ext cx="6516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77">
                        <a:moveTo>
                          <a:pt x="0" y="0"/>
                        </a:moveTo>
                        <a:lnTo>
                          <a:pt x="55" y="159"/>
                        </a:lnTo>
                        <a:lnTo>
                          <a:pt x="67" y="166"/>
                        </a:lnTo>
                        <a:lnTo>
                          <a:pt x="86" y="170"/>
                        </a:lnTo>
                        <a:lnTo>
                          <a:pt x="99" y="171"/>
                        </a:lnTo>
                        <a:lnTo>
                          <a:pt x="114" y="173"/>
                        </a:lnTo>
                        <a:lnTo>
                          <a:pt x="129" y="175"/>
                        </a:lnTo>
                        <a:lnTo>
                          <a:pt x="148" y="177"/>
                        </a:lnTo>
                        <a:lnTo>
                          <a:pt x="161" y="177"/>
                        </a:lnTo>
                        <a:lnTo>
                          <a:pt x="180" y="175"/>
                        </a:lnTo>
                        <a:lnTo>
                          <a:pt x="2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54480" y="5154480"/>
                  <a:ext cx="226800" cy="275040"/>
                  <a:chOff x="7854480" y="5154480"/>
                  <a:chExt cx="226800" cy="2750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5305800">
                    <a:off x="7833240" y="5182200"/>
                    <a:ext cx="26928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643">
                        <a:moveTo>
                          <a:pt x="24" y="0"/>
                        </a:moveTo>
                        <a:lnTo>
                          <a:pt x="19" y="18"/>
                        </a:lnTo>
                        <a:lnTo>
                          <a:pt x="20" y="26"/>
                        </a:lnTo>
                        <a:lnTo>
                          <a:pt x="23" y="34"/>
                        </a:lnTo>
                        <a:lnTo>
                          <a:pt x="24" y="53"/>
                        </a:lnTo>
                        <a:lnTo>
                          <a:pt x="20" y="66"/>
                        </a:lnTo>
                        <a:lnTo>
                          <a:pt x="16" y="78"/>
                        </a:lnTo>
                        <a:lnTo>
                          <a:pt x="11" y="86"/>
                        </a:lnTo>
                        <a:lnTo>
                          <a:pt x="5" y="101"/>
                        </a:lnTo>
                        <a:lnTo>
                          <a:pt x="5" y="113"/>
                        </a:lnTo>
                        <a:lnTo>
                          <a:pt x="11" y="124"/>
                        </a:lnTo>
                        <a:lnTo>
                          <a:pt x="16" y="134"/>
                        </a:lnTo>
                        <a:lnTo>
                          <a:pt x="26" y="146"/>
                        </a:lnTo>
                        <a:lnTo>
                          <a:pt x="31" y="158"/>
                        </a:lnTo>
                        <a:lnTo>
                          <a:pt x="31" y="166"/>
                        </a:lnTo>
                        <a:lnTo>
                          <a:pt x="27" y="175"/>
                        </a:lnTo>
                        <a:lnTo>
                          <a:pt x="19" y="183"/>
                        </a:lnTo>
                        <a:lnTo>
                          <a:pt x="12" y="194"/>
                        </a:lnTo>
                        <a:lnTo>
                          <a:pt x="8" y="202"/>
                        </a:lnTo>
                        <a:lnTo>
                          <a:pt x="5" y="212"/>
                        </a:lnTo>
                        <a:lnTo>
                          <a:pt x="11" y="222"/>
                        </a:lnTo>
                        <a:lnTo>
                          <a:pt x="17" y="233"/>
                        </a:lnTo>
                        <a:lnTo>
                          <a:pt x="24" y="241"/>
                        </a:lnTo>
                        <a:lnTo>
                          <a:pt x="27" y="249"/>
                        </a:lnTo>
                        <a:lnTo>
                          <a:pt x="31" y="258"/>
                        </a:lnTo>
                        <a:lnTo>
                          <a:pt x="27" y="270"/>
                        </a:lnTo>
                        <a:lnTo>
                          <a:pt x="19" y="281"/>
                        </a:lnTo>
                        <a:lnTo>
                          <a:pt x="11" y="289"/>
                        </a:lnTo>
                        <a:lnTo>
                          <a:pt x="2" y="302"/>
                        </a:lnTo>
                        <a:lnTo>
                          <a:pt x="0" y="312"/>
                        </a:lnTo>
                        <a:lnTo>
                          <a:pt x="4" y="324"/>
                        </a:lnTo>
                        <a:lnTo>
                          <a:pt x="12" y="333"/>
                        </a:lnTo>
                        <a:lnTo>
                          <a:pt x="20" y="343"/>
                        </a:lnTo>
                        <a:lnTo>
                          <a:pt x="30" y="355"/>
                        </a:lnTo>
                        <a:lnTo>
                          <a:pt x="35" y="371"/>
                        </a:lnTo>
                        <a:lnTo>
                          <a:pt x="30" y="386"/>
                        </a:lnTo>
                        <a:lnTo>
                          <a:pt x="20" y="398"/>
                        </a:lnTo>
                        <a:lnTo>
                          <a:pt x="17" y="407"/>
                        </a:lnTo>
                        <a:lnTo>
                          <a:pt x="17" y="418"/>
                        </a:lnTo>
                        <a:lnTo>
                          <a:pt x="19" y="424"/>
                        </a:lnTo>
                        <a:lnTo>
                          <a:pt x="26" y="433"/>
                        </a:lnTo>
                        <a:lnTo>
                          <a:pt x="38" y="447"/>
                        </a:lnTo>
                        <a:lnTo>
                          <a:pt x="58" y="473"/>
                        </a:lnTo>
                        <a:lnTo>
                          <a:pt x="97" y="513"/>
                        </a:lnTo>
                        <a:lnTo>
                          <a:pt x="130" y="546"/>
                        </a:lnTo>
                        <a:lnTo>
                          <a:pt x="150" y="563"/>
                        </a:lnTo>
                        <a:lnTo>
                          <a:pt x="171" y="576"/>
                        </a:lnTo>
                        <a:lnTo>
                          <a:pt x="195" y="592"/>
                        </a:lnTo>
                        <a:lnTo>
                          <a:pt x="229" y="610"/>
                        </a:lnTo>
                        <a:lnTo>
                          <a:pt x="281" y="628"/>
                        </a:lnTo>
                        <a:lnTo>
                          <a:pt x="320" y="636"/>
                        </a:lnTo>
                        <a:lnTo>
                          <a:pt x="361" y="641"/>
                        </a:lnTo>
                        <a:lnTo>
                          <a:pt x="414" y="643"/>
                        </a:lnTo>
                        <a:lnTo>
                          <a:pt x="470" y="641"/>
                        </a:lnTo>
                        <a:lnTo>
                          <a:pt x="519" y="640"/>
                        </a:lnTo>
                        <a:lnTo>
                          <a:pt x="561" y="633"/>
                        </a:lnTo>
                        <a:lnTo>
                          <a:pt x="599" y="624"/>
                        </a:lnTo>
                        <a:lnTo>
                          <a:pt x="626" y="614"/>
                        </a:lnTo>
                        <a:lnTo>
                          <a:pt x="649" y="602"/>
                        </a:lnTo>
                        <a:lnTo>
                          <a:pt x="668" y="590"/>
                        </a:lnTo>
                        <a:lnTo>
                          <a:pt x="684" y="580"/>
                        </a:lnTo>
                        <a:lnTo>
                          <a:pt x="699" y="563"/>
                        </a:lnTo>
                        <a:lnTo>
                          <a:pt x="748" y="498"/>
                        </a:lnTo>
                        <a:lnTo>
                          <a:pt x="786" y="441"/>
                        </a:lnTo>
                        <a:lnTo>
                          <a:pt x="800" y="413"/>
                        </a:lnTo>
                        <a:lnTo>
                          <a:pt x="803" y="402"/>
                        </a:lnTo>
                        <a:lnTo>
                          <a:pt x="804" y="392"/>
                        </a:lnTo>
                        <a:lnTo>
                          <a:pt x="804" y="383"/>
                        </a:lnTo>
                        <a:lnTo>
                          <a:pt x="797" y="371"/>
                        </a:lnTo>
                        <a:lnTo>
                          <a:pt x="793" y="364"/>
                        </a:lnTo>
                        <a:lnTo>
                          <a:pt x="790" y="353"/>
                        </a:lnTo>
                        <a:lnTo>
                          <a:pt x="793" y="342"/>
                        </a:lnTo>
                        <a:lnTo>
                          <a:pt x="797" y="333"/>
                        </a:lnTo>
                        <a:lnTo>
                          <a:pt x="803" y="324"/>
                        </a:lnTo>
                        <a:lnTo>
                          <a:pt x="809" y="316"/>
                        </a:lnTo>
                        <a:lnTo>
                          <a:pt x="816" y="305"/>
                        </a:lnTo>
                        <a:lnTo>
                          <a:pt x="821" y="296"/>
                        </a:lnTo>
                        <a:lnTo>
                          <a:pt x="820" y="283"/>
                        </a:lnTo>
                        <a:lnTo>
                          <a:pt x="815" y="274"/>
                        </a:lnTo>
                        <a:lnTo>
                          <a:pt x="809" y="264"/>
                        </a:lnTo>
                        <a:lnTo>
                          <a:pt x="803" y="256"/>
                        </a:lnTo>
                        <a:lnTo>
                          <a:pt x="796" y="247"/>
                        </a:lnTo>
                        <a:lnTo>
                          <a:pt x="794" y="236"/>
                        </a:lnTo>
                        <a:lnTo>
                          <a:pt x="796" y="228"/>
                        </a:lnTo>
                        <a:lnTo>
                          <a:pt x="804" y="215"/>
                        </a:lnTo>
                        <a:lnTo>
                          <a:pt x="813" y="206"/>
                        </a:lnTo>
                        <a:lnTo>
                          <a:pt x="816" y="195"/>
                        </a:lnTo>
                        <a:lnTo>
                          <a:pt x="816" y="181"/>
                        </a:lnTo>
                        <a:lnTo>
                          <a:pt x="811" y="168"/>
                        </a:lnTo>
                        <a:lnTo>
                          <a:pt x="803" y="158"/>
                        </a:lnTo>
                        <a:lnTo>
                          <a:pt x="800" y="151"/>
                        </a:lnTo>
                        <a:lnTo>
                          <a:pt x="796" y="139"/>
                        </a:lnTo>
                        <a:lnTo>
                          <a:pt x="797" y="127"/>
                        </a:lnTo>
                        <a:lnTo>
                          <a:pt x="804" y="116"/>
                        </a:lnTo>
                        <a:lnTo>
                          <a:pt x="809" y="109"/>
                        </a:lnTo>
                        <a:lnTo>
                          <a:pt x="816" y="101"/>
                        </a:lnTo>
                        <a:lnTo>
                          <a:pt x="820" y="91"/>
                        </a:lnTo>
                        <a:lnTo>
                          <a:pt x="821" y="79"/>
                        </a:lnTo>
                        <a:lnTo>
                          <a:pt x="818" y="72"/>
                        </a:lnTo>
                        <a:lnTo>
                          <a:pt x="811" y="60"/>
                        </a:lnTo>
                        <a:lnTo>
                          <a:pt x="804" y="51"/>
                        </a:lnTo>
                        <a:lnTo>
                          <a:pt x="800" y="38"/>
                        </a:lnTo>
                        <a:lnTo>
                          <a:pt x="800" y="26"/>
                        </a:lnTo>
                        <a:lnTo>
                          <a:pt x="803" y="17"/>
                        </a:lnTo>
                        <a:lnTo>
                          <a:pt x="801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5305800">
                    <a:off x="8012520" y="5158800"/>
                    <a:ext cx="338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9">
                        <a:moveTo>
                          <a:pt x="6" y="0"/>
                        </a:moveTo>
                        <a:lnTo>
                          <a:pt x="12" y="12"/>
                        </a:lnTo>
                        <a:lnTo>
                          <a:pt x="22" y="23"/>
                        </a:lnTo>
                        <a:lnTo>
                          <a:pt x="40" y="39"/>
                        </a:lnTo>
                        <a:lnTo>
                          <a:pt x="61" y="52"/>
                        </a:lnTo>
                        <a:lnTo>
                          <a:pt x="82" y="60"/>
                        </a:lnTo>
                        <a:lnTo>
                          <a:pt x="102" y="65"/>
                        </a:lnTo>
                        <a:lnTo>
                          <a:pt x="94" y="80"/>
                        </a:lnTo>
                        <a:lnTo>
                          <a:pt x="68" y="76"/>
                        </a:lnTo>
                        <a:lnTo>
                          <a:pt x="40" y="79"/>
                        </a:lnTo>
                        <a:lnTo>
                          <a:pt x="22" y="89"/>
                        </a:lnTo>
                        <a:lnTo>
                          <a:pt x="26" y="80"/>
                        </a:lnTo>
                        <a:lnTo>
                          <a:pt x="25" y="70"/>
                        </a:lnTo>
                        <a:lnTo>
                          <a:pt x="19" y="56"/>
                        </a:lnTo>
                        <a:lnTo>
                          <a:pt x="11" y="45"/>
                        </a:lnTo>
                        <a:lnTo>
                          <a:pt x="3" y="30"/>
                        </a:lnTo>
                        <a:lnTo>
                          <a:pt x="0" y="15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5305800">
                    <a:off x="7973280" y="5167440"/>
                    <a:ext cx="432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75">
                        <a:moveTo>
                          <a:pt x="0" y="10"/>
                        </a:moveTo>
                        <a:lnTo>
                          <a:pt x="3" y="0"/>
                        </a:lnTo>
                        <a:lnTo>
                          <a:pt x="8" y="10"/>
                        </a:lnTo>
                        <a:lnTo>
                          <a:pt x="18" y="14"/>
                        </a:lnTo>
                        <a:lnTo>
                          <a:pt x="37" y="23"/>
                        </a:lnTo>
                        <a:lnTo>
                          <a:pt x="57" y="28"/>
                        </a:lnTo>
                        <a:lnTo>
                          <a:pt x="88" y="34"/>
                        </a:lnTo>
                        <a:lnTo>
                          <a:pt x="123" y="40"/>
                        </a:lnTo>
                        <a:lnTo>
                          <a:pt x="133" y="72"/>
                        </a:lnTo>
                        <a:lnTo>
                          <a:pt x="95" y="62"/>
                        </a:lnTo>
                        <a:lnTo>
                          <a:pt x="64" y="59"/>
                        </a:lnTo>
                        <a:lnTo>
                          <a:pt x="39" y="64"/>
                        </a:lnTo>
                        <a:lnTo>
                          <a:pt x="22" y="75"/>
                        </a:lnTo>
                        <a:lnTo>
                          <a:pt x="22" y="66"/>
                        </a:lnTo>
                        <a:lnTo>
                          <a:pt x="22" y="57"/>
                        </a:lnTo>
                        <a:lnTo>
                          <a:pt x="18" y="47"/>
                        </a:lnTo>
                        <a:lnTo>
                          <a:pt x="8" y="33"/>
                        </a:lnTo>
                        <a:lnTo>
                          <a:pt x="0" y="21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5305800">
                    <a:off x="7934040" y="5167440"/>
                    <a:ext cx="5112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94">
                        <a:moveTo>
                          <a:pt x="2" y="12"/>
                        </a:moveTo>
                        <a:lnTo>
                          <a:pt x="9" y="0"/>
                        </a:lnTo>
                        <a:lnTo>
                          <a:pt x="18" y="15"/>
                        </a:lnTo>
                        <a:lnTo>
                          <a:pt x="29" y="22"/>
                        </a:lnTo>
                        <a:lnTo>
                          <a:pt x="41" y="31"/>
                        </a:lnTo>
                        <a:lnTo>
                          <a:pt x="62" y="38"/>
                        </a:lnTo>
                        <a:lnTo>
                          <a:pt x="86" y="45"/>
                        </a:lnTo>
                        <a:lnTo>
                          <a:pt x="113" y="53"/>
                        </a:lnTo>
                        <a:lnTo>
                          <a:pt x="150" y="65"/>
                        </a:lnTo>
                        <a:lnTo>
                          <a:pt x="157" y="94"/>
                        </a:lnTo>
                        <a:lnTo>
                          <a:pt x="119" y="79"/>
                        </a:lnTo>
                        <a:lnTo>
                          <a:pt x="92" y="68"/>
                        </a:lnTo>
                        <a:lnTo>
                          <a:pt x="70" y="65"/>
                        </a:lnTo>
                        <a:lnTo>
                          <a:pt x="52" y="65"/>
                        </a:lnTo>
                        <a:lnTo>
                          <a:pt x="43" y="72"/>
                        </a:lnTo>
                        <a:lnTo>
                          <a:pt x="33" y="82"/>
                        </a:lnTo>
                        <a:lnTo>
                          <a:pt x="30" y="70"/>
                        </a:lnTo>
                        <a:lnTo>
                          <a:pt x="18" y="53"/>
                        </a:lnTo>
                        <a:lnTo>
                          <a:pt x="9" y="41"/>
                        </a:lnTo>
                        <a:lnTo>
                          <a:pt x="0" y="28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5305800">
                    <a:off x="7876080" y="5160240"/>
                    <a:ext cx="6048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07">
                        <a:moveTo>
                          <a:pt x="1" y="32"/>
                        </a:moveTo>
                        <a:lnTo>
                          <a:pt x="0" y="19"/>
                        </a:lnTo>
                        <a:lnTo>
                          <a:pt x="0" y="11"/>
                        </a:lnTo>
                        <a:lnTo>
                          <a:pt x="7" y="0"/>
                        </a:lnTo>
                        <a:lnTo>
                          <a:pt x="20" y="15"/>
                        </a:lnTo>
                        <a:lnTo>
                          <a:pt x="43" y="29"/>
                        </a:lnTo>
                        <a:lnTo>
                          <a:pt x="65" y="40"/>
                        </a:lnTo>
                        <a:lnTo>
                          <a:pt x="95" y="49"/>
                        </a:lnTo>
                        <a:lnTo>
                          <a:pt x="140" y="59"/>
                        </a:lnTo>
                        <a:lnTo>
                          <a:pt x="149" y="82"/>
                        </a:lnTo>
                        <a:lnTo>
                          <a:pt x="126" y="75"/>
                        </a:lnTo>
                        <a:lnTo>
                          <a:pt x="102" y="72"/>
                        </a:lnTo>
                        <a:lnTo>
                          <a:pt x="91" y="74"/>
                        </a:lnTo>
                        <a:lnTo>
                          <a:pt x="87" y="86"/>
                        </a:lnTo>
                        <a:lnTo>
                          <a:pt x="94" y="101"/>
                        </a:lnTo>
                        <a:lnTo>
                          <a:pt x="104" y="115"/>
                        </a:lnTo>
                        <a:lnTo>
                          <a:pt x="122" y="137"/>
                        </a:lnTo>
                        <a:lnTo>
                          <a:pt x="149" y="161"/>
                        </a:lnTo>
                        <a:lnTo>
                          <a:pt x="187" y="188"/>
                        </a:lnTo>
                        <a:lnTo>
                          <a:pt x="187" y="207"/>
                        </a:lnTo>
                        <a:lnTo>
                          <a:pt x="170" y="196"/>
                        </a:lnTo>
                        <a:lnTo>
                          <a:pt x="149" y="184"/>
                        </a:lnTo>
                        <a:lnTo>
                          <a:pt x="119" y="161"/>
                        </a:lnTo>
                        <a:lnTo>
                          <a:pt x="94" y="135"/>
                        </a:lnTo>
                        <a:lnTo>
                          <a:pt x="72" y="115"/>
                        </a:lnTo>
                        <a:lnTo>
                          <a:pt x="51" y="90"/>
                        </a:lnTo>
                        <a:lnTo>
                          <a:pt x="32" y="71"/>
                        </a:lnTo>
                        <a:lnTo>
                          <a:pt x="13" y="52"/>
                        </a:lnTo>
                        <a:lnTo>
                          <a:pt x="1" y="32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rot="5305800">
                    <a:off x="8043480" y="5163840"/>
                    <a:ext cx="26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62">
                        <a:moveTo>
                          <a:pt x="0" y="0"/>
                        </a:moveTo>
                        <a:lnTo>
                          <a:pt x="9" y="9"/>
                        </a:lnTo>
                        <a:lnTo>
                          <a:pt x="22" y="18"/>
                        </a:lnTo>
                        <a:lnTo>
                          <a:pt x="37" y="29"/>
                        </a:lnTo>
                        <a:lnTo>
                          <a:pt x="54" y="40"/>
                        </a:lnTo>
                        <a:lnTo>
                          <a:pt x="69" y="48"/>
                        </a:lnTo>
                        <a:lnTo>
                          <a:pt x="77" y="55"/>
                        </a:lnTo>
                        <a:lnTo>
                          <a:pt x="58" y="62"/>
                        </a:lnTo>
                        <a:lnTo>
                          <a:pt x="37" y="55"/>
                        </a:lnTo>
                        <a:lnTo>
                          <a:pt x="16" y="47"/>
                        </a:lnTo>
                        <a:lnTo>
                          <a:pt x="0" y="37"/>
                        </a:lnTo>
                        <a:lnTo>
                          <a:pt x="1" y="29"/>
                        </a:lnTo>
                        <a:lnTo>
                          <a:pt x="3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rot="5305800">
                    <a:off x="7862760" y="5212800"/>
                    <a:ext cx="216360" cy="209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9" h="617">
                        <a:moveTo>
                          <a:pt x="264" y="121"/>
                        </a:moveTo>
                        <a:lnTo>
                          <a:pt x="168" y="128"/>
                        </a:lnTo>
                        <a:lnTo>
                          <a:pt x="314" y="142"/>
                        </a:lnTo>
                        <a:lnTo>
                          <a:pt x="304" y="149"/>
                        </a:lnTo>
                        <a:lnTo>
                          <a:pt x="287" y="155"/>
                        </a:lnTo>
                        <a:lnTo>
                          <a:pt x="263" y="162"/>
                        </a:lnTo>
                        <a:lnTo>
                          <a:pt x="233" y="170"/>
                        </a:lnTo>
                        <a:lnTo>
                          <a:pt x="200" y="176"/>
                        </a:lnTo>
                        <a:lnTo>
                          <a:pt x="158" y="180"/>
                        </a:lnTo>
                        <a:lnTo>
                          <a:pt x="108" y="185"/>
                        </a:lnTo>
                        <a:lnTo>
                          <a:pt x="56" y="188"/>
                        </a:lnTo>
                        <a:lnTo>
                          <a:pt x="0" y="188"/>
                        </a:lnTo>
                        <a:lnTo>
                          <a:pt x="86" y="208"/>
                        </a:lnTo>
                        <a:lnTo>
                          <a:pt x="139" y="219"/>
                        </a:lnTo>
                        <a:lnTo>
                          <a:pt x="185" y="219"/>
                        </a:lnTo>
                        <a:lnTo>
                          <a:pt x="241" y="219"/>
                        </a:lnTo>
                        <a:lnTo>
                          <a:pt x="323" y="212"/>
                        </a:lnTo>
                        <a:lnTo>
                          <a:pt x="391" y="202"/>
                        </a:lnTo>
                        <a:lnTo>
                          <a:pt x="449" y="188"/>
                        </a:lnTo>
                        <a:lnTo>
                          <a:pt x="510" y="169"/>
                        </a:lnTo>
                        <a:lnTo>
                          <a:pt x="537" y="159"/>
                        </a:lnTo>
                        <a:lnTo>
                          <a:pt x="563" y="151"/>
                        </a:lnTo>
                        <a:lnTo>
                          <a:pt x="576" y="147"/>
                        </a:lnTo>
                        <a:lnTo>
                          <a:pt x="583" y="152"/>
                        </a:lnTo>
                        <a:lnTo>
                          <a:pt x="583" y="162"/>
                        </a:lnTo>
                        <a:lnTo>
                          <a:pt x="578" y="174"/>
                        </a:lnTo>
                        <a:lnTo>
                          <a:pt x="563" y="187"/>
                        </a:lnTo>
                        <a:lnTo>
                          <a:pt x="537" y="203"/>
                        </a:lnTo>
                        <a:lnTo>
                          <a:pt x="502" y="219"/>
                        </a:lnTo>
                        <a:lnTo>
                          <a:pt x="459" y="236"/>
                        </a:lnTo>
                        <a:lnTo>
                          <a:pt x="403" y="253"/>
                        </a:lnTo>
                        <a:lnTo>
                          <a:pt x="338" y="267"/>
                        </a:lnTo>
                        <a:lnTo>
                          <a:pt x="274" y="276"/>
                        </a:lnTo>
                        <a:lnTo>
                          <a:pt x="206" y="287"/>
                        </a:lnTo>
                        <a:lnTo>
                          <a:pt x="86" y="298"/>
                        </a:lnTo>
                        <a:lnTo>
                          <a:pt x="160" y="316"/>
                        </a:lnTo>
                        <a:lnTo>
                          <a:pt x="219" y="323"/>
                        </a:lnTo>
                        <a:lnTo>
                          <a:pt x="294" y="321"/>
                        </a:lnTo>
                        <a:lnTo>
                          <a:pt x="370" y="311"/>
                        </a:lnTo>
                        <a:lnTo>
                          <a:pt x="426" y="298"/>
                        </a:lnTo>
                        <a:lnTo>
                          <a:pt x="472" y="287"/>
                        </a:lnTo>
                        <a:lnTo>
                          <a:pt x="510" y="276"/>
                        </a:lnTo>
                        <a:lnTo>
                          <a:pt x="549" y="263"/>
                        </a:lnTo>
                        <a:lnTo>
                          <a:pt x="579" y="251"/>
                        </a:lnTo>
                        <a:lnTo>
                          <a:pt x="593" y="248"/>
                        </a:lnTo>
                        <a:lnTo>
                          <a:pt x="601" y="248"/>
                        </a:lnTo>
                        <a:lnTo>
                          <a:pt x="600" y="257"/>
                        </a:lnTo>
                        <a:lnTo>
                          <a:pt x="594" y="268"/>
                        </a:lnTo>
                        <a:lnTo>
                          <a:pt x="583" y="282"/>
                        </a:lnTo>
                        <a:lnTo>
                          <a:pt x="556" y="301"/>
                        </a:lnTo>
                        <a:lnTo>
                          <a:pt x="525" y="317"/>
                        </a:lnTo>
                        <a:lnTo>
                          <a:pt x="491" y="332"/>
                        </a:lnTo>
                        <a:lnTo>
                          <a:pt x="446" y="350"/>
                        </a:lnTo>
                        <a:lnTo>
                          <a:pt x="395" y="365"/>
                        </a:lnTo>
                        <a:lnTo>
                          <a:pt x="317" y="382"/>
                        </a:lnTo>
                        <a:lnTo>
                          <a:pt x="264" y="392"/>
                        </a:lnTo>
                        <a:lnTo>
                          <a:pt x="214" y="398"/>
                        </a:lnTo>
                        <a:lnTo>
                          <a:pt x="139" y="403"/>
                        </a:lnTo>
                        <a:lnTo>
                          <a:pt x="215" y="413"/>
                        </a:lnTo>
                        <a:lnTo>
                          <a:pt x="275" y="418"/>
                        </a:lnTo>
                        <a:lnTo>
                          <a:pt x="324" y="419"/>
                        </a:lnTo>
                        <a:lnTo>
                          <a:pt x="381" y="418"/>
                        </a:lnTo>
                        <a:lnTo>
                          <a:pt x="433" y="411"/>
                        </a:lnTo>
                        <a:lnTo>
                          <a:pt x="477" y="400"/>
                        </a:lnTo>
                        <a:lnTo>
                          <a:pt x="511" y="389"/>
                        </a:lnTo>
                        <a:lnTo>
                          <a:pt x="566" y="370"/>
                        </a:lnTo>
                        <a:lnTo>
                          <a:pt x="573" y="370"/>
                        </a:lnTo>
                        <a:lnTo>
                          <a:pt x="579" y="373"/>
                        </a:lnTo>
                        <a:lnTo>
                          <a:pt x="578" y="385"/>
                        </a:lnTo>
                        <a:lnTo>
                          <a:pt x="571" y="398"/>
                        </a:lnTo>
                        <a:lnTo>
                          <a:pt x="558" y="411"/>
                        </a:lnTo>
                        <a:lnTo>
                          <a:pt x="539" y="425"/>
                        </a:lnTo>
                        <a:lnTo>
                          <a:pt x="506" y="441"/>
                        </a:lnTo>
                        <a:lnTo>
                          <a:pt x="472" y="457"/>
                        </a:lnTo>
                        <a:lnTo>
                          <a:pt x="441" y="467"/>
                        </a:lnTo>
                        <a:lnTo>
                          <a:pt x="403" y="475"/>
                        </a:lnTo>
                        <a:lnTo>
                          <a:pt x="369" y="481"/>
                        </a:lnTo>
                        <a:lnTo>
                          <a:pt x="324" y="486"/>
                        </a:lnTo>
                        <a:lnTo>
                          <a:pt x="275" y="488"/>
                        </a:lnTo>
                        <a:lnTo>
                          <a:pt x="226" y="490"/>
                        </a:lnTo>
                        <a:lnTo>
                          <a:pt x="149" y="490"/>
                        </a:lnTo>
                        <a:lnTo>
                          <a:pt x="191" y="504"/>
                        </a:lnTo>
                        <a:lnTo>
                          <a:pt x="228" y="513"/>
                        </a:lnTo>
                        <a:lnTo>
                          <a:pt x="272" y="519"/>
                        </a:lnTo>
                        <a:lnTo>
                          <a:pt x="308" y="520"/>
                        </a:lnTo>
                        <a:lnTo>
                          <a:pt x="345" y="522"/>
                        </a:lnTo>
                        <a:lnTo>
                          <a:pt x="384" y="520"/>
                        </a:lnTo>
                        <a:lnTo>
                          <a:pt x="416" y="519"/>
                        </a:lnTo>
                        <a:lnTo>
                          <a:pt x="445" y="513"/>
                        </a:lnTo>
                        <a:lnTo>
                          <a:pt x="486" y="504"/>
                        </a:lnTo>
                        <a:lnTo>
                          <a:pt x="517" y="497"/>
                        </a:lnTo>
                        <a:lnTo>
                          <a:pt x="529" y="498"/>
                        </a:lnTo>
                        <a:lnTo>
                          <a:pt x="530" y="506"/>
                        </a:lnTo>
                        <a:lnTo>
                          <a:pt x="526" y="515"/>
                        </a:lnTo>
                        <a:lnTo>
                          <a:pt x="518" y="525"/>
                        </a:lnTo>
                        <a:lnTo>
                          <a:pt x="505" y="535"/>
                        </a:lnTo>
                        <a:lnTo>
                          <a:pt x="490" y="542"/>
                        </a:lnTo>
                        <a:lnTo>
                          <a:pt x="472" y="551"/>
                        </a:lnTo>
                        <a:lnTo>
                          <a:pt x="445" y="558"/>
                        </a:lnTo>
                        <a:lnTo>
                          <a:pt x="389" y="566"/>
                        </a:lnTo>
                        <a:lnTo>
                          <a:pt x="335" y="573"/>
                        </a:lnTo>
                        <a:lnTo>
                          <a:pt x="228" y="581"/>
                        </a:lnTo>
                        <a:lnTo>
                          <a:pt x="367" y="588"/>
                        </a:lnTo>
                        <a:lnTo>
                          <a:pt x="395" y="588"/>
                        </a:lnTo>
                        <a:lnTo>
                          <a:pt x="408" y="594"/>
                        </a:lnTo>
                        <a:lnTo>
                          <a:pt x="415" y="600"/>
                        </a:lnTo>
                        <a:lnTo>
                          <a:pt x="412" y="610"/>
                        </a:lnTo>
                        <a:lnTo>
                          <a:pt x="419" y="615"/>
                        </a:lnTo>
                        <a:lnTo>
                          <a:pt x="437" y="617"/>
                        </a:lnTo>
                        <a:lnTo>
                          <a:pt x="464" y="607"/>
                        </a:lnTo>
                        <a:lnTo>
                          <a:pt x="487" y="595"/>
                        </a:lnTo>
                        <a:lnTo>
                          <a:pt x="506" y="583"/>
                        </a:lnTo>
                        <a:lnTo>
                          <a:pt x="522" y="573"/>
                        </a:lnTo>
                        <a:lnTo>
                          <a:pt x="537" y="556"/>
                        </a:lnTo>
                        <a:lnTo>
                          <a:pt x="586" y="491"/>
                        </a:lnTo>
                        <a:lnTo>
                          <a:pt x="624" y="434"/>
                        </a:lnTo>
                        <a:lnTo>
                          <a:pt x="638" y="406"/>
                        </a:lnTo>
                        <a:lnTo>
                          <a:pt x="641" y="395"/>
                        </a:lnTo>
                        <a:lnTo>
                          <a:pt x="642" y="385"/>
                        </a:lnTo>
                        <a:lnTo>
                          <a:pt x="642" y="376"/>
                        </a:lnTo>
                        <a:lnTo>
                          <a:pt x="635" y="364"/>
                        </a:lnTo>
                        <a:lnTo>
                          <a:pt x="631" y="357"/>
                        </a:lnTo>
                        <a:lnTo>
                          <a:pt x="628" y="346"/>
                        </a:lnTo>
                        <a:lnTo>
                          <a:pt x="631" y="335"/>
                        </a:lnTo>
                        <a:lnTo>
                          <a:pt x="635" y="326"/>
                        </a:lnTo>
                        <a:lnTo>
                          <a:pt x="641" y="317"/>
                        </a:lnTo>
                        <a:lnTo>
                          <a:pt x="647" y="309"/>
                        </a:lnTo>
                        <a:lnTo>
                          <a:pt x="654" y="298"/>
                        </a:lnTo>
                        <a:lnTo>
                          <a:pt x="659" y="289"/>
                        </a:lnTo>
                        <a:lnTo>
                          <a:pt x="658" y="276"/>
                        </a:lnTo>
                        <a:lnTo>
                          <a:pt x="653" y="267"/>
                        </a:lnTo>
                        <a:lnTo>
                          <a:pt x="647" y="257"/>
                        </a:lnTo>
                        <a:lnTo>
                          <a:pt x="641" y="249"/>
                        </a:lnTo>
                        <a:lnTo>
                          <a:pt x="634" y="240"/>
                        </a:lnTo>
                        <a:lnTo>
                          <a:pt x="632" y="229"/>
                        </a:lnTo>
                        <a:lnTo>
                          <a:pt x="634" y="221"/>
                        </a:lnTo>
                        <a:lnTo>
                          <a:pt x="642" y="208"/>
                        </a:lnTo>
                        <a:lnTo>
                          <a:pt x="651" y="199"/>
                        </a:lnTo>
                        <a:lnTo>
                          <a:pt x="654" y="188"/>
                        </a:lnTo>
                        <a:lnTo>
                          <a:pt x="654" y="174"/>
                        </a:lnTo>
                        <a:lnTo>
                          <a:pt x="649" y="161"/>
                        </a:lnTo>
                        <a:lnTo>
                          <a:pt x="641" y="151"/>
                        </a:lnTo>
                        <a:lnTo>
                          <a:pt x="638" y="144"/>
                        </a:lnTo>
                        <a:lnTo>
                          <a:pt x="634" y="132"/>
                        </a:lnTo>
                        <a:lnTo>
                          <a:pt x="635" y="120"/>
                        </a:lnTo>
                        <a:lnTo>
                          <a:pt x="642" y="109"/>
                        </a:lnTo>
                        <a:lnTo>
                          <a:pt x="647" y="102"/>
                        </a:lnTo>
                        <a:lnTo>
                          <a:pt x="654" y="94"/>
                        </a:lnTo>
                        <a:lnTo>
                          <a:pt x="658" y="84"/>
                        </a:lnTo>
                        <a:lnTo>
                          <a:pt x="659" y="72"/>
                        </a:lnTo>
                        <a:lnTo>
                          <a:pt x="656" y="65"/>
                        </a:lnTo>
                        <a:lnTo>
                          <a:pt x="649" y="53"/>
                        </a:lnTo>
                        <a:lnTo>
                          <a:pt x="642" y="44"/>
                        </a:lnTo>
                        <a:lnTo>
                          <a:pt x="638" y="31"/>
                        </a:lnTo>
                        <a:lnTo>
                          <a:pt x="638" y="0"/>
                        </a:lnTo>
                        <a:lnTo>
                          <a:pt x="571" y="45"/>
                        </a:lnTo>
                        <a:lnTo>
                          <a:pt x="530" y="63"/>
                        </a:lnTo>
                        <a:lnTo>
                          <a:pt x="483" y="78"/>
                        </a:lnTo>
                        <a:lnTo>
                          <a:pt x="428" y="94"/>
                        </a:lnTo>
                        <a:lnTo>
                          <a:pt x="378" y="105"/>
                        </a:lnTo>
                        <a:lnTo>
                          <a:pt x="329" y="113"/>
                        </a:lnTo>
                        <a:lnTo>
                          <a:pt x="264" y="12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7911000" y="5334840"/>
                <a:ext cx="134280" cy="66600"/>
                <a:chOff x="7911000" y="5334840"/>
                <a:chExt cx="134280" cy="66600"/>
              </a:xfrm>
            </p:grpSpPr>
            <p:sp>
              <p:nvSpPr>
                <p:cNvPr id="801" name=""/>
                <p:cNvSpPr/>
                <p:nvPr/>
              </p:nvSpPr>
              <p:spPr>
                <a:xfrm rot="5305800">
                  <a:off x="7972920" y="5362200"/>
                  <a:ext cx="49680" cy="20160"/>
                </a:xfrm>
                <a:custGeom>
                  <a:avLst/>
                  <a:gdLst/>
                  <a:ahLst/>
                  <a:rect l="l" t="t" r="r" b="b"/>
                  <a:pathLst>
                    <a:path w="150" h="62">
                      <a:moveTo>
                        <a:pt x="150" y="12"/>
                      </a:moveTo>
                      <a:lnTo>
                        <a:pt x="136" y="0"/>
                      </a:lnTo>
                      <a:lnTo>
                        <a:pt x="90" y="24"/>
                      </a:lnTo>
                      <a:lnTo>
                        <a:pt x="45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39" y="62"/>
                      </a:lnTo>
                      <a:lnTo>
                        <a:pt x="80" y="54"/>
                      </a:lnTo>
                      <a:lnTo>
                        <a:pt x="117" y="35"/>
                      </a:lnTo>
                      <a:lnTo>
                        <a:pt x="150" y="12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rot="5305800">
                  <a:off x="7941600" y="5367240"/>
                  <a:ext cx="42840" cy="24120"/>
                </a:xfrm>
                <a:custGeom>
                  <a:avLst/>
                  <a:gdLst/>
                  <a:ahLst/>
                  <a:rect l="l" t="t" r="r" b="b"/>
                  <a:pathLst>
                    <a:path w="131" h="70">
                      <a:moveTo>
                        <a:pt x="131" y="14"/>
                      </a:moveTo>
                      <a:lnTo>
                        <a:pt x="124" y="0"/>
                      </a:lnTo>
                      <a:lnTo>
                        <a:pt x="80" y="30"/>
                      </a:lnTo>
                      <a:lnTo>
                        <a:pt x="45" y="46"/>
                      </a:lnTo>
                      <a:lnTo>
                        <a:pt x="0" y="60"/>
                      </a:lnTo>
                      <a:lnTo>
                        <a:pt x="9" y="70"/>
                      </a:lnTo>
                      <a:lnTo>
                        <a:pt x="37" y="70"/>
                      </a:lnTo>
                      <a:lnTo>
                        <a:pt x="67" y="62"/>
                      </a:lnTo>
                      <a:lnTo>
                        <a:pt x="101" y="41"/>
                      </a:lnTo>
                      <a:lnTo>
                        <a:pt x="131" y="1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5305800">
                  <a:off x="7901280" y="5366520"/>
                  <a:ext cx="43200" cy="23040"/>
                </a:xfrm>
                <a:custGeom>
                  <a:avLst/>
                  <a:gdLst/>
                  <a:ahLst/>
                  <a:rect l="l" t="t" r="r" b="b"/>
                  <a:pathLst>
                    <a:path w="134" h="69">
                      <a:moveTo>
                        <a:pt x="134" y="11"/>
                      </a:moveTo>
                      <a:lnTo>
                        <a:pt x="124" y="0"/>
                      </a:lnTo>
                      <a:lnTo>
                        <a:pt x="83" y="28"/>
                      </a:lnTo>
                      <a:lnTo>
                        <a:pt x="44" y="45"/>
                      </a:lnTo>
                      <a:lnTo>
                        <a:pt x="0" y="56"/>
                      </a:lnTo>
                      <a:lnTo>
                        <a:pt x="8" y="69"/>
                      </a:lnTo>
                      <a:lnTo>
                        <a:pt x="37" y="67"/>
                      </a:lnTo>
                      <a:lnTo>
                        <a:pt x="72" y="59"/>
                      </a:lnTo>
                      <a:lnTo>
                        <a:pt x="109" y="37"/>
                      </a:lnTo>
                      <a:lnTo>
                        <a:pt x="134" y="1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rot="5305800">
                  <a:off x="8008560" y="5348880"/>
                  <a:ext cx="49680" cy="21600"/>
                </a:xfrm>
                <a:custGeom>
                  <a:avLst/>
                  <a:gdLst/>
                  <a:ahLst/>
                  <a:rect l="l" t="t" r="r" b="b"/>
                  <a:pathLst>
                    <a:path w="154" h="61">
                      <a:moveTo>
                        <a:pt x="154" y="11"/>
                      </a:moveTo>
                      <a:lnTo>
                        <a:pt x="139" y="0"/>
                      </a:lnTo>
                      <a:lnTo>
                        <a:pt x="87" y="23"/>
                      </a:lnTo>
                      <a:lnTo>
                        <a:pt x="45" y="37"/>
                      </a:lnTo>
                      <a:lnTo>
                        <a:pt x="0" y="49"/>
                      </a:lnTo>
                      <a:lnTo>
                        <a:pt x="10" y="61"/>
                      </a:lnTo>
                      <a:lnTo>
                        <a:pt x="38" y="60"/>
                      </a:lnTo>
                      <a:lnTo>
                        <a:pt x="74" y="51"/>
                      </a:lnTo>
                      <a:lnTo>
                        <a:pt x="114" y="36"/>
                      </a:lnTo>
                      <a:lnTo>
                        <a:pt x="154" y="1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5" name=""/>
            <p:cNvGrpSpPr/>
            <p:nvPr/>
          </p:nvGrpSpPr>
          <p:grpSpPr>
            <a:xfrm>
              <a:off x="8039880" y="4968000"/>
              <a:ext cx="905760" cy="621000"/>
              <a:chOff x="8039880" y="4968000"/>
              <a:chExt cx="905760" cy="621000"/>
            </a:xfrm>
          </p:grpSpPr>
          <p:sp>
            <p:nvSpPr>
              <p:cNvPr id="806" name=""/>
              <p:cNvSpPr/>
              <p:nvPr/>
            </p:nvSpPr>
            <p:spPr>
              <a:xfrm rot="5305800">
                <a:off x="8194320" y="4833360"/>
                <a:ext cx="596880" cy="889920"/>
              </a:xfrm>
              <a:custGeom>
                <a:avLst/>
                <a:gdLst/>
                <a:ahLst/>
                <a:rect l="l" t="t" r="r" b="b"/>
                <a:pathLst>
                  <a:path w="1814" h="2602">
                    <a:moveTo>
                      <a:pt x="1271" y="2533"/>
                    </a:moveTo>
                    <a:lnTo>
                      <a:pt x="1287" y="2522"/>
                    </a:lnTo>
                    <a:lnTo>
                      <a:pt x="1298" y="2512"/>
                    </a:lnTo>
                    <a:lnTo>
                      <a:pt x="1305" y="2505"/>
                    </a:lnTo>
                    <a:lnTo>
                      <a:pt x="1310" y="2496"/>
                    </a:lnTo>
                    <a:lnTo>
                      <a:pt x="1315" y="2492"/>
                    </a:lnTo>
                    <a:lnTo>
                      <a:pt x="1317" y="2486"/>
                    </a:lnTo>
                    <a:lnTo>
                      <a:pt x="1321" y="2481"/>
                    </a:lnTo>
                    <a:lnTo>
                      <a:pt x="1322" y="2474"/>
                    </a:lnTo>
                    <a:lnTo>
                      <a:pt x="1324" y="2466"/>
                    </a:lnTo>
                    <a:lnTo>
                      <a:pt x="1325" y="2455"/>
                    </a:lnTo>
                    <a:lnTo>
                      <a:pt x="1334" y="2414"/>
                    </a:lnTo>
                    <a:lnTo>
                      <a:pt x="1386" y="2078"/>
                    </a:lnTo>
                    <a:lnTo>
                      <a:pt x="1396" y="2030"/>
                    </a:lnTo>
                    <a:lnTo>
                      <a:pt x="1404" y="1994"/>
                    </a:lnTo>
                    <a:lnTo>
                      <a:pt x="1417" y="1946"/>
                    </a:lnTo>
                    <a:lnTo>
                      <a:pt x="1436" y="1892"/>
                    </a:lnTo>
                    <a:lnTo>
                      <a:pt x="1454" y="1845"/>
                    </a:lnTo>
                    <a:lnTo>
                      <a:pt x="1472" y="1806"/>
                    </a:lnTo>
                    <a:lnTo>
                      <a:pt x="1487" y="1772"/>
                    </a:lnTo>
                    <a:lnTo>
                      <a:pt x="1503" y="1739"/>
                    </a:lnTo>
                    <a:lnTo>
                      <a:pt x="1533" y="1682"/>
                    </a:lnTo>
                    <a:lnTo>
                      <a:pt x="1564" y="1630"/>
                    </a:lnTo>
                    <a:lnTo>
                      <a:pt x="1593" y="1580"/>
                    </a:lnTo>
                    <a:lnTo>
                      <a:pt x="1616" y="1543"/>
                    </a:lnTo>
                    <a:lnTo>
                      <a:pt x="1659" y="1472"/>
                    </a:lnTo>
                    <a:lnTo>
                      <a:pt x="1688" y="1423"/>
                    </a:lnTo>
                    <a:lnTo>
                      <a:pt x="1712" y="1382"/>
                    </a:lnTo>
                    <a:lnTo>
                      <a:pt x="1731" y="1335"/>
                    </a:lnTo>
                    <a:lnTo>
                      <a:pt x="1754" y="1279"/>
                    </a:lnTo>
                    <a:lnTo>
                      <a:pt x="1769" y="1230"/>
                    </a:lnTo>
                    <a:lnTo>
                      <a:pt x="1783" y="1178"/>
                    </a:lnTo>
                    <a:lnTo>
                      <a:pt x="1792" y="1133"/>
                    </a:lnTo>
                    <a:lnTo>
                      <a:pt x="1803" y="1084"/>
                    </a:lnTo>
                    <a:lnTo>
                      <a:pt x="1810" y="1022"/>
                    </a:lnTo>
                    <a:lnTo>
                      <a:pt x="1814" y="950"/>
                    </a:lnTo>
                    <a:lnTo>
                      <a:pt x="1814" y="884"/>
                    </a:lnTo>
                    <a:lnTo>
                      <a:pt x="1808" y="831"/>
                    </a:lnTo>
                    <a:lnTo>
                      <a:pt x="1800" y="782"/>
                    </a:lnTo>
                    <a:lnTo>
                      <a:pt x="1791" y="737"/>
                    </a:lnTo>
                    <a:lnTo>
                      <a:pt x="1777" y="680"/>
                    </a:lnTo>
                    <a:lnTo>
                      <a:pt x="1761" y="621"/>
                    </a:lnTo>
                    <a:lnTo>
                      <a:pt x="1743" y="567"/>
                    </a:lnTo>
                    <a:lnTo>
                      <a:pt x="1722" y="518"/>
                    </a:lnTo>
                    <a:lnTo>
                      <a:pt x="1696" y="473"/>
                    </a:lnTo>
                    <a:lnTo>
                      <a:pt x="1662" y="417"/>
                    </a:lnTo>
                    <a:lnTo>
                      <a:pt x="1623" y="360"/>
                    </a:lnTo>
                    <a:lnTo>
                      <a:pt x="1586" y="317"/>
                    </a:lnTo>
                    <a:lnTo>
                      <a:pt x="1552" y="280"/>
                    </a:lnTo>
                    <a:lnTo>
                      <a:pt x="1512" y="243"/>
                    </a:lnTo>
                    <a:lnTo>
                      <a:pt x="1470" y="208"/>
                    </a:lnTo>
                    <a:lnTo>
                      <a:pt x="1429" y="175"/>
                    </a:lnTo>
                    <a:lnTo>
                      <a:pt x="1379" y="142"/>
                    </a:lnTo>
                    <a:lnTo>
                      <a:pt x="1322" y="107"/>
                    </a:lnTo>
                    <a:lnTo>
                      <a:pt x="1268" y="80"/>
                    </a:lnTo>
                    <a:lnTo>
                      <a:pt x="1205" y="54"/>
                    </a:lnTo>
                    <a:lnTo>
                      <a:pt x="1147" y="36"/>
                    </a:lnTo>
                    <a:lnTo>
                      <a:pt x="1100" y="24"/>
                    </a:lnTo>
                    <a:lnTo>
                      <a:pt x="1048" y="12"/>
                    </a:lnTo>
                    <a:lnTo>
                      <a:pt x="1001" y="5"/>
                    </a:lnTo>
                    <a:lnTo>
                      <a:pt x="946" y="0"/>
                    </a:lnTo>
                    <a:lnTo>
                      <a:pt x="896" y="0"/>
                    </a:lnTo>
                    <a:lnTo>
                      <a:pt x="841" y="0"/>
                    </a:lnTo>
                    <a:lnTo>
                      <a:pt x="795" y="5"/>
                    </a:lnTo>
                    <a:lnTo>
                      <a:pt x="742" y="17"/>
                    </a:lnTo>
                    <a:lnTo>
                      <a:pt x="702" y="25"/>
                    </a:lnTo>
                    <a:lnTo>
                      <a:pt x="653" y="39"/>
                    </a:lnTo>
                    <a:lnTo>
                      <a:pt x="607" y="53"/>
                    </a:lnTo>
                    <a:lnTo>
                      <a:pt x="566" y="70"/>
                    </a:lnTo>
                    <a:lnTo>
                      <a:pt x="526" y="87"/>
                    </a:lnTo>
                    <a:lnTo>
                      <a:pt x="486" y="108"/>
                    </a:lnTo>
                    <a:lnTo>
                      <a:pt x="450" y="129"/>
                    </a:lnTo>
                    <a:lnTo>
                      <a:pt x="410" y="156"/>
                    </a:lnTo>
                    <a:lnTo>
                      <a:pt x="367" y="187"/>
                    </a:lnTo>
                    <a:lnTo>
                      <a:pt x="328" y="216"/>
                    </a:lnTo>
                    <a:lnTo>
                      <a:pt x="293" y="248"/>
                    </a:lnTo>
                    <a:lnTo>
                      <a:pt x="255" y="283"/>
                    </a:lnTo>
                    <a:lnTo>
                      <a:pt x="218" y="322"/>
                    </a:lnTo>
                    <a:lnTo>
                      <a:pt x="185" y="359"/>
                    </a:lnTo>
                    <a:lnTo>
                      <a:pt x="158" y="394"/>
                    </a:lnTo>
                    <a:lnTo>
                      <a:pt x="126" y="443"/>
                    </a:lnTo>
                    <a:lnTo>
                      <a:pt x="95" y="495"/>
                    </a:lnTo>
                    <a:lnTo>
                      <a:pt x="67" y="555"/>
                    </a:lnTo>
                    <a:lnTo>
                      <a:pt x="47" y="613"/>
                    </a:lnTo>
                    <a:lnTo>
                      <a:pt x="31" y="672"/>
                    </a:lnTo>
                    <a:lnTo>
                      <a:pt x="16" y="732"/>
                    </a:lnTo>
                    <a:lnTo>
                      <a:pt x="6" y="786"/>
                    </a:lnTo>
                    <a:lnTo>
                      <a:pt x="0" y="841"/>
                    </a:lnTo>
                    <a:lnTo>
                      <a:pt x="0" y="894"/>
                    </a:lnTo>
                    <a:lnTo>
                      <a:pt x="0" y="941"/>
                    </a:lnTo>
                    <a:lnTo>
                      <a:pt x="0" y="997"/>
                    </a:lnTo>
                    <a:lnTo>
                      <a:pt x="3" y="1047"/>
                    </a:lnTo>
                    <a:lnTo>
                      <a:pt x="12" y="1109"/>
                    </a:lnTo>
                    <a:lnTo>
                      <a:pt x="22" y="1163"/>
                    </a:lnTo>
                    <a:lnTo>
                      <a:pt x="36" y="1216"/>
                    </a:lnTo>
                    <a:lnTo>
                      <a:pt x="56" y="1277"/>
                    </a:lnTo>
                    <a:lnTo>
                      <a:pt x="78" y="1332"/>
                    </a:lnTo>
                    <a:lnTo>
                      <a:pt x="101" y="1380"/>
                    </a:lnTo>
                    <a:lnTo>
                      <a:pt x="129" y="1434"/>
                    </a:lnTo>
                    <a:lnTo>
                      <a:pt x="160" y="1485"/>
                    </a:lnTo>
                    <a:lnTo>
                      <a:pt x="187" y="1535"/>
                    </a:lnTo>
                    <a:lnTo>
                      <a:pt x="215" y="1584"/>
                    </a:lnTo>
                    <a:lnTo>
                      <a:pt x="244" y="1638"/>
                    </a:lnTo>
                    <a:lnTo>
                      <a:pt x="290" y="1715"/>
                    </a:lnTo>
                    <a:lnTo>
                      <a:pt x="333" y="1796"/>
                    </a:lnTo>
                    <a:lnTo>
                      <a:pt x="357" y="1837"/>
                    </a:lnTo>
                    <a:lnTo>
                      <a:pt x="370" y="1871"/>
                    </a:lnTo>
                    <a:lnTo>
                      <a:pt x="385" y="1913"/>
                    </a:lnTo>
                    <a:lnTo>
                      <a:pt x="399" y="1962"/>
                    </a:lnTo>
                    <a:lnTo>
                      <a:pt x="411" y="2004"/>
                    </a:lnTo>
                    <a:lnTo>
                      <a:pt x="422" y="2051"/>
                    </a:lnTo>
                    <a:lnTo>
                      <a:pt x="430" y="2116"/>
                    </a:lnTo>
                    <a:lnTo>
                      <a:pt x="442" y="2187"/>
                    </a:lnTo>
                    <a:lnTo>
                      <a:pt x="450" y="2243"/>
                    </a:lnTo>
                    <a:lnTo>
                      <a:pt x="459" y="2315"/>
                    </a:lnTo>
                    <a:lnTo>
                      <a:pt x="465" y="2365"/>
                    </a:lnTo>
                    <a:lnTo>
                      <a:pt x="472" y="2410"/>
                    </a:lnTo>
                    <a:lnTo>
                      <a:pt x="483" y="2454"/>
                    </a:lnTo>
                    <a:lnTo>
                      <a:pt x="486" y="2466"/>
                    </a:lnTo>
                    <a:lnTo>
                      <a:pt x="487" y="2476"/>
                    </a:lnTo>
                    <a:lnTo>
                      <a:pt x="490" y="2481"/>
                    </a:lnTo>
                    <a:lnTo>
                      <a:pt x="491" y="2486"/>
                    </a:lnTo>
                    <a:lnTo>
                      <a:pt x="496" y="2492"/>
                    </a:lnTo>
                    <a:lnTo>
                      <a:pt x="502" y="2500"/>
                    </a:lnTo>
                    <a:lnTo>
                      <a:pt x="510" y="2508"/>
                    </a:lnTo>
                    <a:lnTo>
                      <a:pt x="518" y="2516"/>
                    </a:lnTo>
                    <a:lnTo>
                      <a:pt x="532" y="2527"/>
                    </a:lnTo>
                    <a:lnTo>
                      <a:pt x="548" y="2535"/>
                    </a:lnTo>
                    <a:lnTo>
                      <a:pt x="571" y="2548"/>
                    </a:lnTo>
                    <a:lnTo>
                      <a:pt x="591" y="2556"/>
                    </a:lnTo>
                    <a:lnTo>
                      <a:pt x="612" y="2563"/>
                    </a:lnTo>
                    <a:lnTo>
                      <a:pt x="632" y="2568"/>
                    </a:lnTo>
                    <a:lnTo>
                      <a:pt x="649" y="2573"/>
                    </a:lnTo>
                    <a:lnTo>
                      <a:pt x="676" y="2580"/>
                    </a:lnTo>
                    <a:lnTo>
                      <a:pt x="699" y="2586"/>
                    </a:lnTo>
                    <a:lnTo>
                      <a:pt x="721" y="2588"/>
                    </a:lnTo>
                    <a:lnTo>
                      <a:pt x="744" y="2591"/>
                    </a:lnTo>
                    <a:lnTo>
                      <a:pt x="770" y="2595"/>
                    </a:lnTo>
                    <a:lnTo>
                      <a:pt x="794" y="2597"/>
                    </a:lnTo>
                    <a:lnTo>
                      <a:pt x="814" y="2598"/>
                    </a:lnTo>
                    <a:lnTo>
                      <a:pt x="840" y="2601"/>
                    </a:lnTo>
                    <a:lnTo>
                      <a:pt x="862" y="2602"/>
                    </a:lnTo>
                    <a:lnTo>
                      <a:pt x="884" y="2602"/>
                    </a:lnTo>
                    <a:lnTo>
                      <a:pt x="904" y="2602"/>
                    </a:lnTo>
                    <a:lnTo>
                      <a:pt x="926" y="2602"/>
                    </a:lnTo>
                    <a:lnTo>
                      <a:pt x="953" y="2602"/>
                    </a:lnTo>
                    <a:lnTo>
                      <a:pt x="976" y="2601"/>
                    </a:lnTo>
                    <a:lnTo>
                      <a:pt x="996" y="2601"/>
                    </a:lnTo>
                    <a:lnTo>
                      <a:pt x="1019" y="2597"/>
                    </a:lnTo>
                    <a:lnTo>
                      <a:pt x="1047" y="2595"/>
                    </a:lnTo>
                    <a:lnTo>
                      <a:pt x="1067" y="2591"/>
                    </a:lnTo>
                    <a:lnTo>
                      <a:pt x="1093" y="2588"/>
                    </a:lnTo>
                    <a:lnTo>
                      <a:pt x="1115" y="2583"/>
                    </a:lnTo>
                    <a:lnTo>
                      <a:pt x="1136" y="2580"/>
                    </a:lnTo>
                    <a:lnTo>
                      <a:pt x="1158" y="2575"/>
                    </a:lnTo>
                    <a:lnTo>
                      <a:pt x="1176" y="2569"/>
                    </a:lnTo>
                    <a:lnTo>
                      <a:pt x="1199" y="2563"/>
                    </a:lnTo>
                    <a:lnTo>
                      <a:pt x="1216" y="2556"/>
                    </a:lnTo>
                    <a:lnTo>
                      <a:pt x="1235" y="2549"/>
                    </a:lnTo>
                    <a:lnTo>
                      <a:pt x="1254" y="2541"/>
                    </a:lnTo>
                    <a:lnTo>
                      <a:pt x="1271" y="2533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8055720" y="5157360"/>
                <a:ext cx="798480" cy="356040"/>
                <a:chOff x="8055720" y="5157360"/>
                <a:chExt cx="798480" cy="356040"/>
              </a:xfrm>
            </p:grpSpPr>
            <p:sp>
              <p:nvSpPr>
                <p:cNvPr id="808" name=""/>
                <p:cNvSpPr/>
                <p:nvPr/>
              </p:nvSpPr>
              <p:spPr>
                <a:xfrm rot="5305800">
                  <a:off x="7973280" y="5244120"/>
                  <a:ext cx="261360" cy="900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5305800">
                  <a:off x="8736480" y="5395320"/>
                  <a:ext cx="99720" cy="132480"/>
                </a:xfrm>
                <a:custGeom>
                  <a:avLst/>
                  <a:gdLst/>
                  <a:ahLst/>
                  <a:rect l="l" t="t" r="r" b="b"/>
                  <a:pathLst>
                    <a:path w="304" h="387">
                      <a:moveTo>
                        <a:pt x="0" y="0"/>
                      </a:moveTo>
                      <a:lnTo>
                        <a:pt x="81" y="41"/>
                      </a:lnTo>
                      <a:lnTo>
                        <a:pt x="155" y="87"/>
                      </a:lnTo>
                      <a:lnTo>
                        <a:pt x="211" y="132"/>
                      </a:lnTo>
                      <a:lnTo>
                        <a:pt x="248" y="182"/>
                      </a:lnTo>
                      <a:lnTo>
                        <a:pt x="274" y="232"/>
                      </a:lnTo>
                      <a:lnTo>
                        <a:pt x="293" y="276"/>
                      </a:lnTo>
                      <a:lnTo>
                        <a:pt x="304" y="320"/>
                      </a:lnTo>
                      <a:lnTo>
                        <a:pt x="198" y="387"/>
                      </a:lnTo>
                      <a:lnTo>
                        <a:pt x="187" y="324"/>
                      </a:lnTo>
                      <a:lnTo>
                        <a:pt x="171" y="257"/>
                      </a:lnTo>
                      <a:lnTo>
                        <a:pt x="145" y="188"/>
                      </a:lnTo>
                      <a:lnTo>
                        <a:pt x="112" y="129"/>
                      </a:lnTo>
                      <a:lnTo>
                        <a:pt x="66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8116920" y="5191560"/>
                  <a:ext cx="555120" cy="171000"/>
                  <a:chOff x="8116920" y="5191560"/>
                  <a:chExt cx="555120" cy="1710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rot="5305800">
                    <a:off x="8228160" y="5122080"/>
                    <a:ext cx="10116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0" h="942">
                        <a:moveTo>
                          <a:pt x="0" y="72"/>
                        </a:moveTo>
                        <a:lnTo>
                          <a:pt x="6" y="225"/>
                        </a:lnTo>
                        <a:lnTo>
                          <a:pt x="21" y="245"/>
                        </a:lnTo>
                        <a:lnTo>
                          <a:pt x="15" y="873"/>
                        </a:lnTo>
                        <a:lnTo>
                          <a:pt x="37" y="942"/>
                        </a:lnTo>
                        <a:lnTo>
                          <a:pt x="88" y="942"/>
                        </a:lnTo>
                        <a:lnTo>
                          <a:pt x="132" y="908"/>
                        </a:lnTo>
                        <a:lnTo>
                          <a:pt x="181" y="908"/>
                        </a:lnTo>
                        <a:lnTo>
                          <a:pt x="221" y="942"/>
                        </a:lnTo>
                        <a:lnTo>
                          <a:pt x="276" y="942"/>
                        </a:lnTo>
                        <a:lnTo>
                          <a:pt x="295" y="873"/>
                        </a:lnTo>
                        <a:lnTo>
                          <a:pt x="285" y="245"/>
                        </a:lnTo>
                        <a:lnTo>
                          <a:pt x="299" y="225"/>
                        </a:lnTo>
                        <a:lnTo>
                          <a:pt x="310" y="72"/>
                        </a:lnTo>
                        <a:lnTo>
                          <a:pt x="242" y="15"/>
                        </a:lnTo>
                        <a:lnTo>
                          <a:pt x="208" y="15"/>
                        </a:lnTo>
                        <a:lnTo>
                          <a:pt x="189" y="0"/>
                        </a:lnTo>
                        <a:lnTo>
                          <a:pt x="110" y="0"/>
                        </a:lnTo>
                        <a:lnTo>
                          <a:pt x="94" y="15"/>
                        </a:lnTo>
                        <a:lnTo>
                          <a:pt x="65" y="15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rot="5305800">
                    <a:off x="8412120" y="5275440"/>
                    <a:ext cx="13320" cy="216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fafd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8415360" y="5191560"/>
                    <a:ext cx="256680" cy="171000"/>
                    <a:chOff x="8415360" y="5191560"/>
                    <a:chExt cx="256680" cy="17100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 rot="5305800">
                      <a:off x="8550720" y="5233680"/>
                      <a:ext cx="151920" cy="85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rot="5305800">
                      <a:off x="8441280" y="5170680"/>
                      <a:ext cx="16524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5" h="625">
                          <a:moveTo>
                            <a:pt x="322" y="625"/>
                          </a:moveTo>
                          <a:lnTo>
                            <a:pt x="505" y="61"/>
                          </a:lnTo>
                          <a:lnTo>
                            <a:pt x="473" y="49"/>
                          </a:lnTo>
                          <a:lnTo>
                            <a:pt x="435" y="34"/>
                          </a:lnTo>
                          <a:lnTo>
                            <a:pt x="387" y="21"/>
                          </a:lnTo>
                          <a:lnTo>
                            <a:pt x="345" y="10"/>
                          </a:lnTo>
                          <a:lnTo>
                            <a:pt x="308" y="3"/>
                          </a:lnTo>
                          <a:lnTo>
                            <a:pt x="266" y="0"/>
                          </a:lnTo>
                          <a:lnTo>
                            <a:pt x="223" y="2"/>
                          </a:lnTo>
                          <a:lnTo>
                            <a:pt x="167" y="8"/>
                          </a:lnTo>
                          <a:lnTo>
                            <a:pt x="119" y="21"/>
                          </a:lnTo>
                          <a:lnTo>
                            <a:pt x="72" y="34"/>
                          </a:lnTo>
                          <a:lnTo>
                            <a:pt x="31" y="51"/>
                          </a:lnTo>
                          <a:lnTo>
                            <a:pt x="0" y="68"/>
                          </a:lnTo>
                          <a:lnTo>
                            <a:pt x="177" y="62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8148240" y="5249880"/>
                    <a:ext cx="246600" cy="63000"/>
                    <a:chOff x="8148240" y="5249880"/>
                    <a:chExt cx="246600" cy="6300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 flipH="1">
                      <a:off x="8148240" y="5259240"/>
                      <a:ext cx="238680" cy="756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 flipV="1">
                      <a:off x="8150400" y="5298480"/>
                      <a:ext cx="237600" cy="5400"/>
                    </a:xfrm>
                    <a:prstGeom prst="line">
                      <a:avLst/>
                    </a:prstGeom>
                    <a:ln w="32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flipV="1">
                      <a:off x="8155800" y="5307480"/>
                      <a:ext cx="239040" cy="540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V="1">
                      <a:off x="8154360" y="5249880"/>
                      <a:ext cx="239040" cy="7560"/>
                    </a:xfrm>
                    <a:prstGeom prst="line">
                      <a:avLst/>
                    </a:prstGeom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afd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21" name=""/>
                <p:cNvSpPr/>
                <p:nvPr/>
              </p:nvSpPr>
              <p:spPr>
                <a:xfrm rot="5305800">
                  <a:off x="8093880" y="5251680"/>
                  <a:ext cx="161280" cy="207360"/>
                </a:xfrm>
                <a:custGeom>
                  <a:avLst/>
                  <a:gdLst/>
                  <a:ahLst/>
                  <a:rect l="l" t="t" r="r" b="b"/>
                  <a:pathLst>
                    <a:path w="491" h="609">
                      <a:moveTo>
                        <a:pt x="491" y="0"/>
                      </a:moveTo>
                      <a:lnTo>
                        <a:pt x="471" y="18"/>
                      </a:lnTo>
                      <a:lnTo>
                        <a:pt x="389" y="395"/>
                      </a:lnTo>
                      <a:lnTo>
                        <a:pt x="373" y="432"/>
                      </a:lnTo>
                      <a:lnTo>
                        <a:pt x="349" y="464"/>
                      </a:lnTo>
                      <a:lnTo>
                        <a:pt x="312" y="492"/>
                      </a:lnTo>
                      <a:lnTo>
                        <a:pt x="276" y="514"/>
                      </a:lnTo>
                      <a:lnTo>
                        <a:pt x="236" y="535"/>
                      </a:lnTo>
                      <a:lnTo>
                        <a:pt x="194" y="553"/>
                      </a:lnTo>
                      <a:lnTo>
                        <a:pt x="147" y="570"/>
                      </a:lnTo>
                      <a:lnTo>
                        <a:pt x="107" y="579"/>
                      </a:lnTo>
                      <a:lnTo>
                        <a:pt x="59" y="587"/>
                      </a:lnTo>
                      <a:lnTo>
                        <a:pt x="0" y="583"/>
                      </a:lnTo>
                      <a:lnTo>
                        <a:pt x="10" y="606"/>
                      </a:lnTo>
                      <a:lnTo>
                        <a:pt x="49" y="609"/>
                      </a:lnTo>
                      <a:lnTo>
                        <a:pt x="78" y="609"/>
                      </a:lnTo>
                      <a:lnTo>
                        <a:pt x="121" y="606"/>
                      </a:lnTo>
                      <a:lnTo>
                        <a:pt x="156" y="603"/>
                      </a:lnTo>
                      <a:lnTo>
                        <a:pt x="204" y="595"/>
                      </a:lnTo>
                      <a:lnTo>
                        <a:pt x="242" y="588"/>
                      </a:lnTo>
                      <a:lnTo>
                        <a:pt x="284" y="575"/>
                      </a:lnTo>
                      <a:lnTo>
                        <a:pt x="309" y="568"/>
                      </a:lnTo>
                      <a:lnTo>
                        <a:pt x="345" y="553"/>
                      </a:lnTo>
                      <a:lnTo>
                        <a:pt x="384" y="528"/>
                      </a:lnTo>
                      <a:lnTo>
                        <a:pt x="396" y="514"/>
                      </a:lnTo>
                      <a:lnTo>
                        <a:pt x="406" y="495"/>
                      </a:lnTo>
                      <a:lnTo>
                        <a:pt x="416" y="458"/>
                      </a:lnTo>
                      <a:lnTo>
                        <a:pt x="424" y="420"/>
                      </a:lnTo>
                      <a:lnTo>
                        <a:pt x="49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2" name=""/>
          <p:cNvGrpSpPr/>
          <p:nvPr/>
        </p:nvGrpSpPr>
        <p:grpSpPr>
          <a:xfrm>
            <a:off x="7745400" y="2979720"/>
            <a:ext cx="638280" cy="1019160"/>
            <a:chOff x="7745400" y="2979720"/>
            <a:chExt cx="638280" cy="1019160"/>
          </a:xfrm>
        </p:grpSpPr>
        <p:sp>
          <p:nvSpPr>
            <p:cNvPr id="823" name=""/>
            <p:cNvSpPr/>
            <p:nvPr/>
          </p:nvSpPr>
          <p:spPr>
            <a:xfrm>
              <a:off x="7788600" y="3708720"/>
              <a:ext cx="584640" cy="234000"/>
            </a:xfrm>
            <a:custGeom>
              <a:avLst/>
              <a:gdLst/>
              <a:ahLst/>
              <a:rect l="l" t="t" r="r" b="b"/>
              <a:pathLst>
                <a:path w="2154" h="713">
                  <a:moveTo>
                    <a:pt x="2154" y="713"/>
                  </a:moveTo>
                  <a:lnTo>
                    <a:pt x="1056" y="260"/>
                  </a:lnTo>
                  <a:lnTo>
                    <a:pt x="0" y="0"/>
                  </a:lnTo>
                  <a:lnTo>
                    <a:pt x="108" y="207"/>
                  </a:lnTo>
                  <a:lnTo>
                    <a:pt x="1032" y="536"/>
                  </a:lnTo>
                  <a:lnTo>
                    <a:pt x="2154" y="713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93800" y="3836520"/>
              <a:ext cx="389880" cy="162360"/>
            </a:xfrm>
            <a:custGeom>
              <a:avLst/>
              <a:gdLst/>
              <a:ahLst/>
              <a:rect l="l" t="t" r="r" b="b"/>
              <a:pathLst>
                <a:path w="1437" h="496">
                  <a:moveTo>
                    <a:pt x="168" y="0"/>
                  </a:moveTo>
                  <a:lnTo>
                    <a:pt x="0" y="10"/>
                  </a:lnTo>
                  <a:lnTo>
                    <a:pt x="0" y="78"/>
                  </a:lnTo>
                  <a:lnTo>
                    <a:pt x="91" y="168"/>
                  </a:lnTo>
                  <a:lnTo>
                    <a:pt x="1320" y="492"/>
                  </a:lnTo>
                  <a:lnTo>
                    <a:pt x="1347" y="496"/>
                  </a:lnTo>
                  <a:lnTo>
                    <a:pt x="1371" y="492"/>
                  </a:lnTo>
                  <a:lnTo>
                    <a:pt x="1392" y="475"/>
                  </a:lnTo>
                  <a:lnTo>
                    <a:pt x="1417" y="434"/>
                  </a:lnTo>
                  <a:lnTo>
                    <a:pt x="1431" y="403"/>
                  </a:lnTo>
                  <a:lnTo>
                    <a:pt x="1437" y="374"/>
                  </a:lnTo>
                  <a:lnTo>
                    <a:pt x="1425" y="344"/>
                  </a:lnTo>
                  <a:lnTo>
                    <a:pt x="1396" y="325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745400" y="2979720"/>
              <a:ext cx="561960" cy="911880"/>
            </a:xfrm>
            <a:custGeom>
              <a:avLst/>
              <a:gdLst/>
              <a:ahLst/>
              <a:rect l="l" t="t" r="r" b="b"/>
              <a:pathLst>
                <a:path w="2069" h="2772">
                  <a:moveTo>
                    <a:pt x="2069" y="361"/>
                  </a:moveTo>
                  <a:lnTo>
                    <a:pt x="2064" y="332"/>
                  </a:lnTo>
                  <a:lnTo>
                    <a:pt x="2043" y="312"/>
                  </a:lnTo>
                  <a:lnTo>
                    <a:pt x="2012" y="288"/>
                  </a:lnTo>
                  <a:lnTo>
                    <a:pt x="1902" y="239"/>
                  </a:lnTo>
                  <a:lnTo>
                    <a:pt x="1410" y="57"/>
                  </a:lnTo>
                  <a:lnTo>
                    <a:pt x="1340" y="35"/>
                  </a:lnTo>
                  <a:lnTo>
                    <a:pt x="1295" y="21"/>
                  </a:lnTo>
                  <a:lnTo>
                    <a:pt x="1239" y="9"/>
                  </a:lnTo>
                  <a:lnTo>
                    <a:pt x="1205" y="3"/>
                  </a:lnTo>
                  <a:lnTo>
                    <a:pt x="1154" y="0"/>
                  </a:lnTo>
                  <a:lnTo>
                    <a:pt x="1107" y="3"/>
                  </a:lnTo>
                  <a:lnTo>
                    <a:pt x="1073" y="5"/>
                  </a:lnTo>
                  <a:lnTo>
                    <a:pt x="1022" y="15"/>
                  </a:lnTo>
                  <a:lnTo>
                    <a:pt x="972" y="30"/>
                  </a:lnTo>
                  <a:lnTo>
                    <a:pt x="927" y="50"/>
                  </a:lnTo>
                  <a:lnTo>
                    <a:pt x="881" y="69"/>
                  </a:lnTo>
                  <a:lnTo>
                    <a:pt x="836" y="89"/>
                  </a:lnTo>
                  <a:lnTo>
                    <a:pt x="786" y="113"/>
                  </a:lnTo>
                  <a:lnTo>
                    <a:pt x="738" y="144"/>
                  </a:lnTo>
                  <a:lnTo>
                    <a:pt x="711" y="164"/>
                  </a:lnTo>
                  <a:lnTo>
                    <a:pt x="689" y="188"/>
                  </a:lnTo>
                  <a:lnTo>
                    <a:pt x="672" y="223"/>
                  </a:lnTo>
                  <a:lnTo>
                    <a:pt x="14" y="2169"/>
                  </a:lnTo>
                  <a:lnTo>
                    <a:pt x="0" y="2209"/>
                  </a:lnTo>
                  <a:lnTo>
                    <a:pt x="0" y="2228"/>
                  </a:lnTo>
                  <a:lnTo>
                    <a:pt x="0" y="2253"/>
                  </a:lnTo>
                  <a:lnTo>
                    <a:pt x="2" y="2277"/>
                  </a:lnTo>
                  <a:lnTo>
                    <a:pt x="15" y="2318"/>
                  </a:lnTo>
                  <a:lnTo>
                    <a:pt x="26" y="2337"/>
                  </a:lnTo>
                  <a:lnTo>
                    <a:pt x="53" y="2368"/>
                  </a:lnTo>
                  <a:lnTo>
                    <a:pt x="71" y="2389"/>
                  </a:lnTo>
                  <a:lnTo>
                    <a:pt x="110" y="2418"/>
                  </a:lnTo>
                  <a:lnTo>
                    <a:pt x="155" y="2443"/>
                  </a:lnTo>
                  <a:lnTo>
                    <a:pt x="216" y="2471"/>
                  </a:lnTo>
                  <a:lnTo>
                    <a:pt x="266" y="2492"/>
                  </a:lnTo>
                  <a:lnTo>
                    <a:pt x="1002" y="2772"/>
                  </a:lnTo>
                  <a:lnTo>
                    <a:pt x="990" y="2742"/>
                  </a:lnTo>
                  <a:lnTo>
                    <a:pt x="989" y="2713"/>
                  </a:lnTo>
                  <a:lnTo>
                    <a:pt x="996" y="2690"/>
                  </a:lnTo>
                  <a:lnTo>
                    <a:pt x="1008" y="2664"/>
                  </a:lnTo>
                  <a:lnTo>
                    <a:pt x="1028" y="2638"/>
                  </a:lnTo>
                  <a:lnTo>
                    <a:pt x="1053" y="2617"/>
                  </a:lnTo>
                  <a:lnTo>
                    <a:pt x="1088" y="2604"/>
                  </a:lnTo>
                  <a:lnTo>
                    <a:pt x="272" y="2287"/>
                  </a:lnTo>
                  <a:lnTo>
                    <a:pt x="245" y="2272"/>
                  </a:lnTo>
                  <a:lnTo>
                    <a:pt x="234" y="2263"/>
                  </a:lnTo>
                  <a:lnTo>
                    <a:pt x="227" y="2248"/>
                  </a:lnTo>
                  <a:lnTo>
                    <a:pt x="219" y="2218"/>
                  </a:lnTo>
                  <a:lnTo>
                    <a:pt x="219" y="2199"/>
                  </a:lnTo>
                  <a:lnTo>
                    <a:pt x="621" y="1044"/>
                  </a:lnTo>
                  <a:lnTo>
                    <a:pt x="662" y="992"/>
                  </a:lnTo>
                  <a:lnTo>
                    <a:pt x="701" y="963"/>
                  </a:lnTo>
                  <a:lnTo>
                    <a:pt x="765" y="918"/>
                  </a:lnTo>
                  <a:lnTo>
                    <a:pt x="815" y="885"/>
                  </a:lnTo>
                  <a:lnTo>
                    <a:pt x="2069" y="361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970040" y="2996640"/>
              <a:ext cx="351720" cy="403200"/>
            </a:xfrm>
            <a:custGeom>
              <a:avLst/>
              <a:gdLst/>
              <a:ahLst/>
              <a:rect l="l" t="t" r="r" b="b"/>
              <a:pathLst>
                <a:path w="1297" h="1226">
                  <a:moveTo>
                    <a:pt x="1255" y="331"/>
                  </a:moveTo>
                  <a:lnTo>
                    <a:pt x="1213" y="297"/>
                  </a:lnTo>
                  <a:lnTo>
                    <a:pt x="1149" y="262"/>
                  </a:lnTo>
                  <a:lnTo>
                    <a:pt x="1056" y="228"/>
                  </a:lnTo>
                  <a:lnTo>
                    <a:pt x="819" y="139"/>
                  </a:lnTo>
                  <a:lnTo>
                    <a:pt x="559" y="50"/>
                  </a:lnTo>
                  <a:lnTo>
                    <a:pt x="468" y="20"/>
                  </a:lnTo>
                  <a:lnTo>
                    <a:pt x="405" y="6"/>
                  </a:lnTo>
                  <a:lnTo>
                    <a:pt x="357" y="0"/>
                  </a:lnTo>
                  <a:lnTo>
                    <a:pt x="319" y="0"/>
                  </a:lnTo>
                  <a:lnTo>
                    <a:pt x="286" y="5"/>
                  </a:lnTo>
                  <a:lnTo>
                    <a:pt x="255" y="20"/>
                  </a:lnTo>
                  <a:lnTo>
                    <a:pt x="229" y="39"/>
                  </a:lnTo>
                  <a:lnTo>
                    <a:pt x="207" y="72"/>
                  </a:lnTo>
                  <a:lnTo>
                    <a:pt x="0" y="784"/>
                  </a:lnTo>
                  <a:lnTo>
                    <a:pt x="0" y="814"/>
                  </a:lnTo>
                  <a:lnTo>
                    <a:pt x="0" y="853"/>
                  </a:lnTo>
                  <a:lnTo>
                    <a:pt x="9" y="881"/>
                  </a:lnTo>
                  <a:lnTo>
                    <a:pt x="22" y="901"/>
                  </a:lnTo>
                  <a:lnTo>
                    <a:pt x="40" y="920"/>
                  </a:lnTo>
                  <a:lnTo>
                    <a:pt x="79" y="945"/>
                  </a:lnTo>
                  <a:lnTo>
                    <a:pt x="118" y="962"/>
                  </a:lnTo>
                  <a:lnTo>
                    <a:pt x="165" y="979"/>
                  </a:lnTo>
                  <a:lnTo>
                    <a:pt x="780" y="1192"/>
                  </a:lnTo>
                  <a:lnTo>
                    <a:pt x="838" y="1208"/>
                  </a:lnTo>
                  <a:lnTo>
                    <a:pt x="889" y="1218"/>
                  </a:lnTo>
                  <a:lnTo>
                    <a:pt x="948" y="1226"/>
                  </a:lnTo>
                  <a:lnTo>
                    <a:pt x="987" y="1226"/>
                  </a:lnTo>
                  <a:lnTo>
                    <a:pt x="1026" y="1218"/>
                  </a:lnTo>
                  <a:lnTo>
                    <a:pt x="1056" y="1193"/>
                  </a:lnTo>
                  <a:lnTo>
                    <a:pt x="1072" y="1149"/>
                  </a:lnTo>
                  <a:lnTo>
                    <a:pt x="1096" y="1093"/>
                  </a:lnTo>
                  <a:lnTo>
                    <a:pt x="1203" y="784"/>
                  </a:lnTo>
                  <a:lnTo>
                    <a:pt x="1281" y="477"/>
                  </a:lnTo>
                  <a:lnTo>
                    <a:pt x="1297" y="406"/>
                  </a:lnTo>
                  <a:lnTo>
                    <a:pt x="1294" y="380"/>
                  </a:lnTo>
                  <a:lnTo>
                    <a:pt x="1282" y="357"/>
                  </a:lnTo>
                  <a:lnTo>
                    <a:pt x="1255" y="331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785720" y="3267720"/>
              <a:ext cx="460800" cy="526320"/>
            </a:xfrm>
            <a:custGeom>
              <a:avLst/>
              <a:gdLst/>
              <a:ahLst/>
              <a:rect l="l" t="t" r="r" b="b"/>
              <a:pathLst>
                <a:path w="1699" h="1600">
                  <a:moveTo>
                    <a:pt x="1692" y="404"/>
                  </a:moveTo>
                  <a:lnTo>
                    <a:pt x="1699" y="399"/>
                  </a:lnTo>
                  <a:lnTo>
                    <a:pt x="1617" y="424"/>
                  </a:lnTo>
                  <a:lnTo>
                    <a:pt x="1564" y="439"/>
                  </a:lnTo>
                  <a:lnTo>
                    <a:pt x="1539" y="449"/>
                  </a:lnTo>
                  <a:lnTo>
                    <a:pt x="1500" y="480"/>
                  </a:lnTo>
                  <a:lnTo>
                    <a:pt x="1473" y="519"/>
                  </a:lnTo>
                  <a:lnTo>
                    <a:pt x="1080" y="1600"/>
                  </a:lnTo>
                  <a:lnTo>
                    <a:pt x="0" y="1343"/>
                  </a:lnTo>
                  <a:lnTo>
                    <a:pt x="439" y="29"/>
                  </a:lnTo>
                  <a:lnTo>
                    <a:pt x="672" y="0"/>
                  </a:lnTo>
                  <a:lnTo>
                    <a:pt x="1692" y="404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8045640" y="3082680"/>
              <a:ext cx="236160" cy="218880"/>
              <a:chOff x="8045640" y="3082680"/>
              <a:chExt cx="236160" cy="218880"/>
            </a:xfrm>
          </p:grpSpPr>
          <p:sp>
            <p:nvSpPr>
              <p:cNvPr id="829" name=""/>
              <p:cNvSpPr/>
              <p:nvPr/>
            </p:nvSpPr>
            <p:spPr>
              <a:xfrm>
                <a:off x="8045640" y="3082680"/>
                <a:ext cx="236160" cy="218880"/>
              </a:xfrm>
              <a:prstGeom prst="ellipse">
                <a:avLst/>
              </a:prstGeom>
              <a:solidFill>
                <a:srgbClr val="40404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830" name=""/>
              <p:cNvGrpSpPr/>
              <p:nvPr/>
            </p:nvGrpSpPr>
            <p:grpSpPr>
              <a:xfrm>
                <a:off x="8104320" y="3118680"/>
                <a:ext cx="127800" cy="145800"/>
                <a:chOff x="8104320" y="3118680"/>
                <a:chExt cx="127800" cy="14580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8161200" y="318384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207640" y="3198600"/>
                  <a:ext cx="1368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104320" y="3223080"/>
                  <a:ext cx="11880" cy="111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147160" y="3237840"/>
                  <a:ext cx="12960" cy="111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8193960" y="3252240"/>
                  <a:ext cx="12600" cy="122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8130240" y="3200760"/>
                  <a:ext cx="1260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174880" y="321732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127000" y="3118680"/>
                  <a:ext cx="1296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72720" y="3132360"/>
                  <a:ext cx="1296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19160" y="3148920"/>
                  <a:ext cx="1296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112240" y="3170520"/>
                  <a:ext cx="1260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8142480" y="3150000"/>
                  <a:ext cx="12600" cy="118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8188920" y="3164040"/>
                  <a:ext cx="13680" cy="115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4" name=""/>
            <p:cNvGrpSpPr/>
            <p:nvPr/>
          </p:nvGrpSpPr>
          <p:grpSpPr>
            <a:xfrm>
              <a:off x="7862400" y="3347280"/>
              <a:ext cx="306000" cy="407880"/>
              <a:chOff x="7862400" y="3347280"/>
              <a:chExt cx="306000" cy="407880"/>
            </a:xfrm>
          </p:grpSpPr>
          <p:sp>
            <p:nvSpPr>
              <p:cNvPr id="845" name=""/>
              <p:cNvSpPr/>
              <p:nvPr/>
            </p:nvSpPr>
            <p:spPr>
              <a:xfrm>
                <a:off x="8016120" y="3699360"/>
                <a:ext cx="60840" cy="5580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953480" y="33472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032320" y="337320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108280" y="3400920"/>
                <a:ext cx="60120" cy="5580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935480" y="340704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13600" y="3432600"/>
                <a:ext cx="6156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089200" y="346032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914240" y="34660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94160" y="349236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069040" y="35200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895520" y="3526200"/>
                <a:ext cx="6012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4360" y="355176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049600" y="35794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877880" y="358668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956720" y="3612240"/>
                <a:ext cx="60840" cy="5688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32320" y="363996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862400" y="3645360"/>
                <a:ext cx="60840" cy="5652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41240" y="3670920"/>
                <a:ext cx="60840" cy="57240"/>
              </a:xfrm>
              <a:prstGeom prst="ellipse">
                <a:avLst/>
              </a:prstGeom>
              <a:solidFill>
                <a:srgbClr val="a0a0a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7969320" y="2085840"/>
            <a:ext cx="461880" cy="162000"/>
          </a:xfrm>
          <a:custGeom>
            <a:avLst/>
            <a:gdLst/>
            <a:ahLst/>
            <a:rect l="l" t="t" r="r" b="b"/>
            <a:pathLst>
              <a:path w="268" h="102">
                <a:moveTo>
                  <a:pt x="0" y="0"/>
                </a:moveTo>
                <a:lnTo>
                  <a:pt x="0" y="35"/>
                </a:lnTo>
                <a:lnTo>
                  <a:pt x="266" y="102"/>
                </a:lnTo>
                <a:lnTo>
                  <a:pt x="268" y="37"/>
                </a:lnTo>
                <a:lnTo>
                  <a:pt x="146" y="19"/>
                </a:lnTo>
                <a:lnTo>
                  <a:pt x="59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34320" y="1465200"/>
            <a:ext cx="1184400" cy="663480"/>
          </a:xfrm>
          <a:custGeom>
            <a:avLst/>
            <a:gdLst/>
            <a:ahLst/>
            <a:rect l="l" t="t" r="r" b="b"/>
            <a:pathLst>
              <a:path w="689" h="418">
                <a:moveTo>
                  <a:pt x="145" y="53"/>
                </a:moveTo>
                <a:lnTo>
                  <a:pt x="524" y="0"/>
                </a:lnTo>
                <a:lnTo>
                  <a:pt x="545" y="0"/>
                </a:lnTo>
                <a:lnTo>
                  <a:pt x="568" y="5"/>
                </a:lnTo>
                <a:lnTo>
                  <a:pt x="591" y="11"/>
                </a:lnTo>
                <a:lnTo>
                  <a:pt x="609" y="19"/>
                </a:lnTo>
                <a:lnTo>
                  <a:pt x="625" y="32"/>
                </a:lnTo>
                <a:lnTo>
                  <a:pt x="648" y="53"/>
                </a:lnTo>
                <a:lnTo>
                  <a:pt x="664" y="76"/>
                </a:lnTo>
                <a:lnTo>
                  <a:pt x="678" y="101"/>
                </a:lnTo>
                <a:lnTo>
                  <a:pt x="687" y="133"/>
                </a:lnTo>
                <a:lnTo>
                  <a:pt x="689" y="166"/>
                </a:lnTo>
                <a:lnTo>
                  <a:pt x="689" y="193"/>
                </a:lnTo>
                <a:lnTo>
                  <a:pt x="682" y="221"/>
                </a:lnTo>
                <a:lnTo>
                  <a:pt x="669" y="258"/>
                </a:lnTo>
                <a:lnTo>
                  <a:pt x="650" y="284"/>
                </a:lnTo>
                <a:lnTo>
                  <a:pt x="630" y="303"/>
                </a:lnTo>
                <a:lnTo>
                  <a:pt x="609" y="319"/>
                </a:lnTo>
                <a:lnTo>
                  <a:pt x="581" y="332"/>
                </a:lnTo>
                <a:lnTo>
                  <a:pt x="558" y="336"/>
                </a:lnTo>
                <a:lnTo>
                  <a:pt x="533" y="342"/>
                </a:lnTo>
                <a:lnTo>
                  <a:pt x="193" y="416"/>
                </a:lnTo>
                <a:lnTo>
                  <a:pt x="175" y="418"/>
                </a:lnTo>
                <a:lnTo>
                  <a:pt x="147" y="418"/>
                </a:lnTo>
                <a:lnTo>
                  <a:pt x="115" y="410"/>
                </a:lnTo>
                <a:lnTo>
                  <a:pt x="83" y="393"/>
                </a:lnTo>
                <a:lnTo>
                  <a:pt x="53" y="368"/>
                </a:lnTo>
                <a:lnTo>
                  <a:pt x="30" y="340"/>
                </a:lnTo>
                <a:lnTo>
                  <a:pt x="17" y="315"/>
                </a:lnTo>
                <a:lnTo>
                  <a:pt x="7" y="286"/>
                </a:lnTo>
                <a:lnTo>
                  <a:pt x="0" y="252"/>
                </a:lnTo>
                <a:lnTo>
                  <a:pt x="0" y="229"/>
                </a:lnTo>
                <a:lnTo>
                  <a:pt x="5" y="191"/>
                </a:lnTo>
                <a:lnTo>
                  <a:pt x="14" y="160"/>
                </a:lnTo>
                <a:lnTo>
                  <a:pt x="26" y="137"/>
                </a:lnTo>
                <a:lnTo>
                  <a:pt x="42" y="112"/>
                </a:lnTo>
                <a:lnTo>
                  <a:pt x="69" y="84"/>
                </a:lnTo>
                <a:lnTo>
                  <a:pt x="95" y="70"/>
                </a:lnTo>
                <a:lnTo>
                  <a:pt x="118" y="59"/>
                </a:lnTo>
                <a:lnTo>
                  <a:pt x="134" y="55"/>
                </a:lnTo>
                <a:lnTo>
                  <a:pt x="145" y="53"/>
                </a:lnTo>
                <a:close/>
              </a:path>
            </a:pathLst>
          </a:custGeom>
          <a:solidFill>
            <a:srgbClr val="66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110440" y="1546200"/>
            <a:ext cx="295200" cy="579600"/>
          </a:xfrm>
          <a:custGeom>
            <a:avLst/>
            <a:gdLst/>
            <a:ahLst/>
            <a:rect l="l" t="t" r="r" b="b"/>
            <a:pathLst>
              <a:path w="172" h="365">
                <a:moveTo>
                  <a:pt x="0" y="0"/>
                </a:moveTo>
                <a:lnTo>
                  <a:pt x="25" y="0"/>
                </a:lnTo>
                <a:lnTo>
                  <a:pt x="60" y="8"/>
                </a:lnTo>
                <a:lnTo>
                  <a:pt x="83" y="21"/>
                </a:lnTo>
                <a:lnTo>
                  <a:pt x="108" y="38"/>
                </a:lnTo>
                <a:lnTo>
                  <a:pt x="131" y="63"/>
                </a:lnTo>
                <a:lnTo>
                  <a:pt x="147" y="88"/>
                </a:lnTo>
                <a:lnTo>
                  <a:pt x="159" y="111"/>
                </a:lnTo>
                <a:lnTo>
                  <a:pt x="168" y="140"/>
                </a:lnTo>
                <a:lnTo>
                  <a:pt x="172" y="166"/>
                </a:lnTo>
                <a:lnTo>
                  <a:pt x="172" y="191"/>
                </a:lnTo>
                <a:lnTo>
                  <a:pt x="170" y="216"/>
                </a:lnTo>
                <a:lnTo>
                  <a:pt x="163" y="247"/>
                </a:lnTo>
                <a:lnTo>
                  <a:pt x="147" y="281"/>
                </a:lnTo>
                <a:lnTo>
                  <a:pt x="138" y="298"/>
                </a:lnTo>
                <a:lnTo>
                  <a:pt x="120" y="317"/>
                </a:lnTo>
                <a:lnTo>
                  <a:pt x="101" y="333"/>
                </a:lnTo>
                <a:lnTo>
                  <a:pt x="81" y="348"/>
                </a:lnTo>
                <a:lnTo>
                  <a:pt x="62" y="356"/>
                </a:lnTo>
                <a:lnTo>
                  <a:pt x="35" y="3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15400" y="1565280"/>
            <a:ext cx="39600" cy="44280"/>
          </a:xfrm>
          <a:custGeom>
            <a:avLst/>
            <a:gdLst/>
            <a:ahLst/>
            <a:rect l="l" t="t" r="r" b="b"/>
            <a:pathLst>
              <a:path w="23" h="28">
                <a:moveTo>
                  <a:pt x="0" y="15"/>
                </a:moveTo>
                <a:lnTo>
                  <a:pt x="0" y="9"/>
                </a:lnTo>
                <a:lnTo>
                  <a:pt x="2" y="5"/>
                </a:lnTo>
                <a:lnTo>
                  <a:pt x="12" y="0"/>
                </a:lnTo>
                <a:lnTo>
                  <a:pt x="21" y="5"/>
                </a:lnTo>
                <a:lnTo>
                  <a:pt x="23" y="9"/>
                </a:lnTo>
                <a:lnTo>
                  <a:pt x="23" y="15"/>
                </a:lnTo>
                <a:lnTo>
                  <a:pt x="21" y="23"/>
                </a:lnTo>
                <a:lnTo>
                  <a:pt x="12" y="28"/>
                </a:lnTo>
                <a:lnTo>
                  <a:pt x="2" y="23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56680" y="1776240"/>
            <a:ext cx="38160" cy="39960"/>
          </a:xfrm>
          <a:custGeom>
            <a:avLst/>
            <a:gdLst/>
            <a:ahLst/>
            <a:rect l="l" t="t" r="r" b="b"/>
            <a:pathLst>
              <a:path w="22" h="25">
                <a:moveTo>
                  <a:pt x="0" y="12"/>
                </a:moveTo>
                <a:lnTo>
                  <a:pt x="4" y="4"/>
                </a:lnTo>
                <a:lnTo>
                  <a:pt x="11" y="0"/>
                </a:lnTo>
                <a:lnTo>
                  <a:pt x="20" y="4"/>
                </a:lnTo>
                <a:lnTo>
                  <a:pt x="22" y="12"/>
                </a:lnTo>
                <a:lnTo>
                  <a:pt x="22" y="18"/>
                </a:lnTo>
                <a:lnTo>
                  <a:pt x="20" y="23"/>
                </a:lnTo>
                <a:lnTo>
                  <a:pt x="16" y="25"/>
                </a:lnTo>
                <a:lnTo>
                  <a:pt x="11" y="25"/>
                </a:lnTo>
                <a:lnTo>
                  <a:pt x="4" y="23"/>
                </a:lnTo>
                <a:lnTo>
                  <a:pt x="2" y="18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134200" y="2082960"/>
            <a:ext cx="39960" cy="3960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12"/>
                </a:moveTo>
                <a:lnTo>
                  <a:pt x="2" y="4"/>
                </a:lnTo>
                <a:lnTo>
                  <a:pt x="11" y="0"/>
                </a:lnTo>
                <a:lnTo>
                  <a:pt x="21" y="4"/>
                </a:lnTo>
                <a:lnTo>
                  <a:pt x="23" y="12"/>
                </a:lnTo>
                <a:lnTo>
                  <a:pt x="23" y="18"/>
                </a:lnTo>
                <a:lnTo>
                  <a:pt x="21" y="23"/>
                </a:lnTo>
                <a:lnTo>
                  <a:pt x="16" y="25"/>
                </a:lnTo>
                <a:lnTo>
                  <a:pt x="7" y="25"/>
                </a:lnTo>
                <a:lnTo>
                  <a:pt x="2" y="23"/>
                </a:lnTo>
                <a:lnTo>
                  <a:pt x="0" y="18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842240" y="1865160"/>
            <a:ext cx="39600" cy="39960"/>
          </a:xfrm>
          <a:custGeom>
            <a:avLst/>
            <a:gdLst/>
            <a:ahLst/>
            <a:rect l="l" t="t" r="r" b="b"/>
            <a:pathLst>
              <a:path w="23" h="25">
                <a:moveTo>
                  <a:pt x="0" y="13"/>
                </a:moveTo>
                <a:lnTo>
                  <a:pt x="2" y="4"/>
                </a:lnTo>
                <a:lnTo>
                  <a:pt x="12" y="0"/>
                </a:lnTo>
                <a:lnTo>
                  <a:pt x="21" y="4"/>
                </a:lnTo>
                <a:lnTo>
                  <a:pt x="23" y="13"/>
                </a:lnTo>
                <a:lnTo>
                  <a:pt x="23" y="19"/>
                </a:lnTo>
                <a:lnTo>
                  <a:pt x="21" y="23"/>
                </a:lnTo>
                <a:lnTo>
                  <a:pt x="16" y="25"/>
                </a:lnTo>
                <a:lnTo>
                  <a:pt x="7" y="25"/>
                </a:lnTo>
                <a:lnTo>
                  <a:pt x="2" y="23"/>
                </a:lnTo>
                <a:lnTo>
                  <a:pt x="0" y="1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21800" y="1652760"/>
            <a:ext cx="366480" cy="369720"/>
          </a:xfrm>
          <a:custGeom>
            <a:avLst/>
            <a:gdLst/>
            <a:ahLst/>
            <a:rect l="l" t="t" r="r" b="b"/>
            <a:pathLst>
              <a:path w="213" h="233">
                <a:moveTo>
                  <a:pt x="0" y="109"/>
                </a:moveTo>
                <a:lnTo>
                  <a:pt x="2" y="99"/>
                </a:lnTo>
                <a:lnTo>
                  <a:pt x="2" y="86"/>
                </a:lnTo>
                <a:lnTo>
                  <a:pt x="7" y="71"/>
                </a:lnTo>
                <a:lnTo>
                  <a:pt x="14" y="57"/>
                </a:lnTo>
                <a:lnTo>
                  <a:pt x="21" y="44"/>
                </a:lnTo>
                <a:lnTo>
                  <a:pt x="30" y="34"/>
                </a:lnTo>
                <a:lnTo>
                  <a:pt x="48" y="17"/>
                </a:lnTo>
                <a:lnTo>
                  <a:pt x="50" y="17"/>
                </a:lnTo>
                <a:lnTo>
                  <a:pt x="69" y="96"/>
                </a:lnTo>
                <a:lnTo>
                  <a:pt x="126" y="86"/>
                </a:lnTo>
                <a:lnTo>
                  <a:pt x="106" y="0"/>
                </a:lnTo>
                <a:lnTo>
                  <a:pt x="124" y="0"/>
                </a:lnTo>
                <a:lnTo>
                  <a:pt x="138" y="4"/>
                </a:lnTo>
                <a:lnTo>
                  <a:pt x="147" y="6"/>
                </a:lnTo>
                <a:lnTo>
                  <a:pt x="161" y="15"/>
                </a:lnTo>
                <a:lnTo>
                  <a:pt x="172" y="23"/>
                </a:lnTo>
                <a:lnTo>
                  <a:pt x="184" y="34"/>
                </a:lnTo>
                <a:lnTo>
                  <a:pt x="195" y="50"/>
                </a:lnTo>
                <a:lnTo>
                  <a:pt x="202" y="63"/>
                </a:lnTo>
                <a:lnTo>
                  <a:pt x="204" y="71"/>
                </a:lnTo>
                <a:lnTo>
                  <a:pt x="126" y="86"/>
                </a:lnTo>
                <a:lnTo>
                  <a:pt x="135" y="136"/>
                </a:lnTo>
                <a:lnTo>
                  <a:pt x="213" y="122"/>
                </a:lnTo>
                <a:lnTo>
                  <a:pt x="211" y="138"/>
                </a:lnTo>
                <a:lnTo>
                  <a:pt x="204" y="155"/>
                </a:lnTo>
                <a:lnTo>
                  <a:pt x="200" y="172"/>
                </a:lnTo>
                <a:lnTo>
                  <a:pt x="193" y="185"/>
                </a:lnTo>
                <a:lnTo>
                  <a:pt x="181" y="197"/>
                </a:lnTo>
                <a:lnTo>
                  <a:pt x="170" y="208"/>
                </a:lnTo>
                <a:lnTo>
                  <a:pt x="158" y="216"/>
                </a:lnTo>
                <a:lnTo>
                  <a:pt x="154" y="220"/>
                </a:lnTo>
                <a:lnTo>
                  <a:pt x="135" y="136"/>
                </a:lnTo>
                <a:lnTo>
                  <a:pt x="78" y="147"/>
                </a:lnTo>
                <a:lnTo>
                  <a:pt x="78" y="149"/>
                </a:lnTo>
                <a:lnTo>
                  <a:pt x="96" y="233"/>
                </a:lnTo>
                <a:lnTo>
                  <a:pt x="85" y="229"/>
                </a:lnTo>
                <a:lnTo>
                  <a:pt x="69" y="224"/>
                </a:lnTo>
                <a:lnTo>
                  <a:pt x="57" y="218"/>
                </a:lnTo>
                <a:lnTo>
                  <a:pt x="44" y="210"/>
                </a:lnTo>
                <a:lnTo>
                  <a:pt x="32" y="197"/>
                </a:lnTo>
                <a:lnTo>
                  <a:pt x="23" y="189"/>
                </a:lnTo>
                <a:lnTo>
                  <a:pt x="11" y="168"/>
                </a:lnTo>
                <a:lnTo>
                  <a:pt x="9" y="159"/>
                </a:lnTo>
                <a:lnTo>
                  <a:pt x="78" y="147"/>
                </a:lnTo>
                <a:lnTo>
                  <a:pt x="69" y="96"/>
                </a:lnTo>
                <a:lnTo>
                  <a:pt x="67" y="96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5000" y="1735200"/>
            <a:ext cx="146160" cy="206280"/>
          </a:xfrm>
          <a:custGeom>
            <a:avLst/>
            <a:gdLst/>
            <a:ahLst/>
            <a:rect l="l" t="t" r="r" b="b"/>
            <a:pathLst>
              <a:path w="85" h="130">
                <a:moveTo>
                  <a:pt x="0" y="5"/>
                </a:moveTo>
                <a:lnTo>
                  <a:pt x="23" y="0"/>
                </a:lnTo>
                <a:lnTo>
                  <a:pt x="39" y="0"/>
                </a:lnTo>
                <a:lnTo>
                  <a:pt x="46" y="5"/>
                </a:lnTo>
                <a:lnTo>
                  <a:pt x="55" y="11"/>
                </a:lnTo>
                <a:lnTo>
                  <a:pt x="67" y="19"/>
                </a:lnTo>
                <a:lnTo>
                  <a:pt x="76" y="28"/>
                </a:lnTo>
                <a:lnTo>
                  <a:pt x="78" y="34"/>
                </a:lnTo>
                <a:lnTo>
                  <a:pt x="83" y="42"/>
                </a:lnTo>
                <a:lnTo>
                  <a:pt x="85" y="57"/>
                </a:lnTo>
                <a:lnTo>
                  <a:pt x="85" y="72"/>
                </a:lnTo>
                <a:lnTo>
                  <a:pt x="83" y="80"/>
                </a:lnTo>
                <a:lnTo>
                  <a:pt x="78" y="88"/>
                </a:lnTo>
                <a:lnTo>
                  <a:pt x="73" y="101"/>
                </a:lnTo>
                <a:lnTo>
                  <a:pt x="67" y="107"/>
                </a:lnTo>
                <a:lnTo>
                  <a:pt x="62" y="114"/>
                </a:lnTo>
                <a:lnTo>
                  <a:pt x="55" y="118"/>
                </a:lnTo>
                <a:lnTo>
                  <a:pt x="46" y="124"/>
                </a:lnTo>
                <a:lnTo>
                  <a:pt x="37" y="126"/>
                </a:lnTo>
                <a:lnTo>
                  <a:pt x="14" y="130"/>
                </a:lnTo>
                <a:lnTo>
                  <a:pt x="9" y="99"/>
                </a:lnTo>
                <a:lnTo>
                  <a:pt x="2" y="53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7240" y="1738440"/>
            <a:ext cx="193680" cy="203040"/>
          </a:xfrm>
          <a:custGeom>
            <a:avLst/>
            <a:gdLst/>
            <a:ahLst/>
            <a:rect l="l" t="t" r="r" b="b"/>
            <a:pathLst>
              <a:path w="113" h="128">
                <a:moveTo>
                  <a:pt x="0" y="66"/>
                </a:moveTo>
                <a:lnTo>
                  <a:pt x="0" y="53"/>
                </a:lnTo>
                <a:lnTo>
                  <a:pt x="5" y="40"/>
                </a:lnTo>
                <a:lnTo>
                  <a:pt x="9" y="30"/>
                </a:lnTo>
                <a:lnTo>
                  <a:pt x="16" y="19"/>
                </a:lnTo>
                <a:lnTo>
                  <a:pt x="25" y="11"/>
                </a:lnTo>
                <a:lnTo>
                  <a:pt x="35" y="5"/>
                </a:lnTo>
                <a:lnTo>
                  <a:pt x="44" y="3"/>
                </a:lnTo>
                <a:lnTo>
                  <a:pt x="55" y="0"/>
                </a:lnTo>
                <a:lnTo>
                  <a:pt x="78" y="5"/>
                </a:lnTo>
                <a:lnTo>
                  <a:pt x="87" y="11"/>
                </a:lnTo>
                <a:lnTo>
                  <a:pt x="97" y="19"/>
                </a:lnTo>
                <a:lnTo>
                  <a:pt x="103" y="30"/>
                </a:lnTo>
                <a:lnTo>
                  <a:pt x="108" y="40"/>
                </a:lnTo>
                <a:lnTo>
                  <a:pt x="113" y="53"/>
                </a:lnTo>
                <a:lnTo>
                  <a:pt x="113" y="78"/>
                </a:lnTo>
                <a:lnTo>
                  <a:pt x="108" y="89"/>
                </a:lnTo>
                <a:lnTo>
                  <a:pt x="103" y="101"/>
                </a:lnTo>
                <a:lnTo>
                  <a:pt x="97" y="110"/>
                </a:lnTo>
                <a:lnTo>
                  <a:pt x="87" y="118"/>
                </a:lnTo>
                <a:lnTo>
                  <a:pt x="78" y="124"/>
                </a:lnTo>
                <a:lnTo>
                  <a:pt x="55" y="128"/>
                </a:lnTo>
                <a:lnTo>
                  <a:pt x="44" y="126"/>
                </a:lnTo>
                <a:lnTo>
                  <a:pt x="35" y="124"/>
                </a:lnTo>
                <a:lnTo>
                  <a:pt x="25" y="118"/>
                </a:lnTo>
                <a:lnTo>
                  <a:pt x="16" y="110"/>
                </a:lnTo>
                <a:lnTo>
                  <a:pt x="9" y="101"/>
                </a:lnTo>
                <a:lnTo>
                  <a:pt x="5" y="89"/>
                </a:lnTo>
                <a:lnTo>
                  <a:pt x="0" y="78"/>
                </a:lnTo>
                <a:lnTo>
                  <a:pt x="0" y="6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64640" y="1819440"/>
            <a:ext cx="129960" cy="63360"/>
          </a:xfrm>
          <a:custGeom>
            <a:avLst/>
            <a:gdLst/>
            <a:ahLst/>
            <a:rect l="l" t="t" r="r" b="b"/>
            <a:pathLst>
              <a:path w="76" h="40">
                <a:moveTo>
                  <a:pt x="0" y="10"/>
                </a:moveTo>
                <a:lnTo>
                  <a:pt x="62" y="0"/>
                </a:lnTo>
                <a:lnTo>
                  <a:pt x="69" y="0"/>
                </a:lnTo>
                <a:lnTo>
                  <a:pt x="74" y="4"/>
                </a:lnTo>
                <a:lnTo>
                  <a:pt x="74" y="6"/>
                </a:lnTo>
                <a:lnTo>
                  <a:pt x="76" y="8"/>
                </a:lnTo>
                <a:lnTo>
                  <a:pt x="76" y="21"/>
                </a:lnTo>
                <a:lnTo>
                  <a:pt x="74" y="23"/>
                </a:lnTo>
                <a:lnTo>
                  <a:pt x="71" y="23"/>
                </a:lnTo>
                <a:lnTo>
                  <a:pt x="71" y="25"/>
                </a:lnTo>
                <a:lnTo>
                  <a:pt x="69" y="27"/>
                </a:lnTo>
                <a:lnTo>
                  <a:pt x="62" y="27"/>
                </a:lnTo>
                <a:lnTo>
                  <a:pt x="5" y="40"/>
                </a:lnTo>
                <a:lnTo>
                  <a:pt x="3" y="40"/>
                </a:lnTo>
                <a:lnTo>
                  <a:pt x="0" y="33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45560" y="1835280"/>
            <a:ext cx="42840" cy="47520"/>
          </a:xfrm>
          <a:custGeom>
            <a:avLst/>
            <a:gdLst/>
            <a:ahLst/>
            <a:rect l="l" t="t" r="r" b="b"/>
            <a:pathLst>
              <a:path w="25" h="30">
                <a:moveTo>
                  <a:pt x="0" y="15"/>
                </a:moveTo>
                <a:lnTo>
                  <a:pt x="2" y="9"/>
                </a:lnTo>
                <a:lnTo>
                  <a:pt x="4" y="5"/>
                </a:lnTo>
                <a:lnTo>
                  <a:pt x="14" y="0"/>
                </a:lnTo>
                <a:lnTo>
                  <a:pt x="23" y="5"/>
                </a:lnTo>
                <a:lnTo>
                  <a:pt x="25" y="9"/>
                </a:lnTo>
                <a:lnTo>
                  <a:pt x="25" y="21"/>
                </a:lnTo>
                <a:lnTo>
                  <a:pt x="23" y="25"/>
                </a:lnTo>
                <a:lnTo>
                  <a:pt x="14" y="30"/>
                </a:lnTo>
                <a:lnTo>
                  <a:pt x="4" y="25"/>
                </a:lnTo>
                <a:lnTo>
                  <a:pt x="2" y="21"/>
                </a:lnTo>
                <a:lnTo>
                  <a:pt x="0" y="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6760" y="1979640"/>
            <a:ext cx="816120" cy="268200"/>
          </a:xfrm>
          <a:custGeom>
            <a:avLst/>
            <a:gdLst/>
            <a:ahLst/>
            <a:rect l="l" t="t" r="r" b="b"/>
            <a:pathLst>
              <a:path w="475" h="169">
                <a:moveTo>
                  <a:pt x="140" y="169"/>
                </a:moveTo>
                <a:lnTo>
                  <a:pt x="475" y="75"/>
                </a:lnTo>
                <a:lnTo>
                  <a:pt x="475" y="37"/>
                </a:lnTo>
                <a:lnTo>
                  <a:pt x="346" y="14"/>
                </a:lnTo>
                <a:lnTo>
                  <a:pt x="333" y="16"/>
                </a:lnTo>
                <a:lnTo>
                  <a:pt x="326" y="8"/>
                </a:lnTo>
                <a:lnTo>
                  <a:pt x="321" y="0"/>
                </a:lnTo>
                <a:lnTo>
                  <a:pt x="193" y="23"/>
                </a:lnTo>
                <a:lnTo>
                  <a:pt x="186" y="33"/>
                </a:lnTo>
                <a:lnTo>
                  <a:pt x="179" y="41"/>
                </a:lnTo>
                <a:lnTo>
                  <a:pt x="172" y="48"/>
                </a:lnTo>
                <a:lnTo>
                  <a:pt x="165" y="50"/>
                </a:lnTo>
                <a:lnTo>
                  <a:pt x="158" y="54"/>
                </a:lnTo>
                <a:lnTo>
                  <a:pt x="154" y="56"/>
                </a:lnTo>
                <a:lnTo>
                  <a:pt x="0" y="90"/>
                </a:lnTo>
                <a:lnTo>
                  <a:pt x="140" y="117"/>
                </a:lnTo>
                <a:lnTo>
                  <a:pt x="140" y="169"/>
                </a:lnTo>
                <a:close/>
              </a:path>
            </a:pathLst>
          </a:custGeom>
          <a:solidFill>
            <a:srgbClr val="66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8426520" y="2037960"/>
            <a:ext cx="576360" cy="12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753400" y="2004840"/>
            <a:ext cx="84240" cy="39960"/>
          </a:xfrm>
          <a:custGeom>
            <a:avLst/>
            <a:gdLst/>
            <a:ahLst/>
            <a:rect l="l" t="t" r="r" b="b"/>
            <a:pathLst>
              <a:path w="49" h="25">
                <a:moveTo>
                  <a:pt x="0" y="0"/>
                </a:moveTo>
                <a:lnTo>
                  <a:pt x="10" y="7"/>
                </a:lnTo>
                <a:lnTo>
                  <a:pt x="21" y="13"/>
                </a:lnTo>
                <a:lnTo>
                  <a:pt x="35" y="21"/>
                </a:lnTo>
                <a:lnTo>
                  <a:pt x="49" y="2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69200" y="2016000"/>
            <a:ext cx="249480" cy="119160"/>
          </a:xfrm>
          <a:custGeom>
            <a:avLst/>
            <a:gdLst/>
            <a:ahLst/>
            <a:rect l="l" t="t" r="r" b="b"/>
            <a:pathLst>
              <a:path w="145" h="75">
                <a:moveTo>
                  <a:pt x="145" y="0"/>
                </a:moveTo>
                <a:lnTo>
                  <a:pt x="142" y="18"/>
                </a:lnTo>
                <a:lnTo>
                  <a:pt x="138" y="37"/>
                </a:lnTo>
                <a:lnTo>
                  <a:pt x="131" y="52"/>
                </a:lnTo>
                <a:lnTo>
                  <a:pt x="119" y="65"/>
                </a:lnTo>
                <a:lnTo>
                  <a:pt x="108" y="75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489880" y="1685880"/>
            <a:ext cx="382680" cy="236520"/>
          </a:xfrm>
          <a:custGeom>
            <a:avLst/>
            <a:gdLst/>
            <a:ahLst/>
            <a:rect l="l" t="t" r="r" b="b"/>
            <a:pathLst>
              <a:path w="222" h="149">
                <a:moveTo>
                  <a:pt x="4" y="31"/>
                </a:moveTo>
                <a:lnTo>
                  <a:pt x="218" y="0"/>
                </a:lnTo>
                <a:lnTo>
                  <a:pt x="220" y="17"/>
                </a:lnTo>
                <a:lnTo>
                  <a:pt x="222" y="36"/>
                </a:lnTo>
                <a:lnTo>
                  <a:pt x="222" y="61"/>
                </a:lnTo>
                <a:lnTo>
                  <a:pt x="218" y="84"/>
                </a:lnTo>
                <a:lnTo>
                  <a:pt x="213" y="103"/>
                </a:lnTo>
                <a:lnTo>
                  <a:pt x="209" y="111"/>
                </a:lnTo>
                <a:lnTo>
                  <a:pt x="0" y="149"/>
                </a:lnTo>
                <a:lnTo>
                  <a:pt x="9" y="119"/>
                </a:lnTo>
                <a:lnTo>
                  <a:pt x="11" y="96"/>
                </a:lnTo>
                <a:lnTo>
                  <a:pt x="11" y="67"/>
                </a:lnTo>
                <a:lnTo>
                  <a:pt x="9" y="48"/>
                </a:lnTo>
                <a:lnTo>
                  <a:pt x="4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226360" y="1482840"/>
            <a:ext cx="696960" cy="133200"/>
          </a:xfrm>
          <a:custGeom>
            <a:avLst/>
            <a:gdLst/>
            <a:ahLst/>
            <a:rect l="l" t="t" r="r" b="b"/>
            <a:pathLst>
              <a:path w="406" h="84">
                <a:moveTo>
                  <a:pt x="363" y="0"/>
                </a:moveTo>
                <a:lnTo>
                  <a:pt x="0" y="52"/>
                </a:lnTo>
                <a:lnTo>
                  <a:pt x="9" y="57"/>
                </a:lnTo>
                <a:lnTo>
                  <a:pt x="20" y="63"/>
                </a:lnTo>
                <a:lnTo>
                  <a:pt x="32" y="71"/>
                </a:lnTo>
                <a:lnTo>
                  <a:pt x="46" y="84"/>
                </a:lnTo>
                <a:lnTo>
                  <a:pt x="406" y="29"/>
                </a:lnTo>
                <a:lnTo>
                  <a:pt x="381" y="6"/>
                </a:lnTo>
                <a:lnTo>
                  <a:pt x="365" y="0"/>
                </a:lnTo>
                <a:lnTo>
                  <a:pt x="36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19960" y="1539720"/>
            <a:ext cx="628920" cy="103320"/>
          </a:xfrm>
          <a:custGeom>
            <a:avLst/>
            <a:gdLst/>
            <a:ahLst/>
            <a:rect l="l" t="t" r="r" b="b"/>
            <a:pathLst>
              <a:path w="365" h="65">
                <a:moveTo>
                  <a:pt x="0" y="58"/>
                </a:moveTo>
                <a:lnTo>
                  <a:pt x="358" y="0"/>
                </a:lnTo>
                <a:lnTo>
                  <a:pt x="365" y="8"/>
                </a:lnTo>
                <a:lnTo>
                  <a:pt x="7" y="65"/>
                </a:lnTo>
                <a:lnTo>
                  <a:pt x="4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77160" y="1482840"/>
            <a:ext cx="100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Bus AC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B8FA-3604-4BF8-8D91-61ABEA1E3A59}" type="slidenum">
              <a:t>10</a:t>
            </a:fld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324120" y="461520"/>
            <a:ext cx="3567240" cy="6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ASIFICACIÓ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0520" y="533880"/>
            <a:ext cx="5743440" cy="25362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CONMUTACIÓN FORZAD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uando los conmutadores controlables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on llevados a corte y a conducción a frecuencias mayor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que la frecuencia de la red. (Troceadores, Inversores y Onduladores autónomos)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575080" y="3081600"/>
            <a:ext cx="7073640" cy="2536200"/>
          </a:xfrm>
          <a:prstGeom prst="roundRect">
            <a:avLst>
              <a:gd name="adj" fmla="val 16667"/>
            </a:avLst>
          </a:prstGeom>
          <a:solidFill>
            <a:srgbClr val="fcfeb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Arial"/>
              </a:rPr>
              <a:t>CONMUTACIÓN NATUR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uando la fuente de tensión primari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cilita el paso a corte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 los semiconductores. Además dichos semiconductores pasan a conducción e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se con la frecuencia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 la tensión de entrada. (Rectificadores, Reguladores de ac y Cicloconvertidores.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684040" y="959040"/>
            <a:ext cx="2633400" cy="986760"/>
            <a:chOff x="5684040" y="959040"/>
            <a:chExt cx="2633400" cy="986760"/>
          </a:xfrm>
        </p:grpSpPr>
        <p:sp>
          <p:nvSpPr>
            <p:cNvPr id="887" name=""/>
            <p:cNvSpPr/>
            <p:nvPr/>
          </p:nvSpPr>
          <p:spPr>
            <a:xfrm rot="21088200">
              <a:off x="7016400" y="1137960"/>
              <a:ext cx="114120" cy="211680"/>
            </a:xfrm>
            <a:custGeom>
              <a:avLst/>
              <a:gdLst/>
              <a:ahLst/>
              <a:rect l="l" t="t" r="r" b="b"/>
              <a:pathLst>
                <a:path w="72" h="284">
                  <a:moveTo>
                    <a:pt x="72" y="0"/>
                  </a:moveTo>
                  <a:lnTo>
                    <a:pt x="0" y="141"/>
                  </a:lnTo>
                  <a:lnTo>
                    <a:pt x="0" y="284"/>
                  </a:lnTo>
                  <a:lnTo>
                    <a:pt x="72" y="11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1088200">
              <a:off x="5706720" y="1148040"/>
              <a:ext cx="2587680" cy="500040"/>
            </a:xfrm>
            <a:custGeom>
              <a:avLst/>
              <a:gdLst/>
              <a:ahLst/>
              <a:rect l="l" t="t" r="r" b="b"/>
              <a:pathLst>
                <a:path w="1630" h="670">
                  <a:moveTo>
                    <a:pt x="911" y="0"/>
                  </a:moveTo>
                  <a:lnTo>
                    <a:pt x="0" y="335"/>
                  </a:lnTo>
                  <a:lnTo>
                    <a:pt x="551" y="670"/>
                  </a:lnTo>
                  <a:lnTo>
                    <a:pt x="623" y="526"/>
                  </a:lnTo>
                  <a:lnTo>
                    <a:pt x="1534" y="526"/>
                  </a:lnTo>
                  <a:lnTo>
                    <a:pt x="1630" y="143"/>
                  </a:lnTo>
                  <a:lnTo>
                    <a:pt x="839" y="143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1088200">
              <a:off x="5742720" y="1522800"/>
              <a:ext cx="876240" cy="359640"/>
            </a:xfrm>
            <a:custGeom>
              <a:avLst/>
              <a:gdLst/>
              <a:ahLst/>
              <a:rect l="l" t="t" r="r" b="b"/>
              <a:pathLst>
                <a:path w="552" h="482">
                  <a:moveTo>
                    <a:pt x="0" y="0"/>
                  </a:moveTo>
                  <a:lnTo>
                    <a:pt x="552" y="336"/>
                  </a:lnTo>
                  <a:lnTo>
                    <a:pt x="551" y="482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1088200">
              <a:off x="6622560" y="1591560"/>
              <a:ext cx="114120" cy="215640"/>
            </a:xfrm>
            <a:custGeom>
              <a:avLst/>
              <a:gdLst/>
              <a:ahLst/>
              <a:rect l="l" t="t" r="r" b="b"/>
              <a:pathLst>
                <a:path w="72" h="289">
                  <a:moveTo>
                    <a:pt x="0" y="150"/>
                  </a:moveTo>
                  <a:lnTo>
                    <a:pt x="72" y="0"/>
                  </a:lnTo>
                  <a:lnTo>
                    <a:pt x="72" y="150"/>
                  </a:lnTo>
                  <a:lnTo>
                    <a:pt x="1" y="28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1088200">
              <a:off x="6720120" y="1476000"/>
              <a:ext cx="1447920" cy="111960"/>
            </a:xfrm>
            <a:custGeom>
              <a:avLst/>
              <a:gdLst/>
              <a:ahLst/>
              <a:rect l="l" t="t" r="r" b="b"/>
              <a:pathLst>
                <a:path w="912" h="150">
                  <a:moveTo>
                    <a:pt x="0" y="2"/>
                  </a:moveTo>
                  <a:lnTo>
                    <a:pt x="0" y="150"/>
                  </a:lnTo>
                  <a:lnTo>
                    <a:pt x="912" y="150"/>
                  </a:lnTo>
                  <a:lnTo>
                    <a:pt x="91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1088200">
              <a:off x="8136000" y="1073160"/>
              <a:ext cx="152640" cy="393480"/>
            </a:xfrm>
            <a:custGeom>
              <a:avLst/>
              <a:gdLst/>
              <a:ahLst/>
              <a:rect l="l" t="t" r="r" b="b"/>
              <a:pathLst>
                <a:path w="96" h="527">
                  <a:moveTo>
                    <a:pt x="96" y="0"/>
                  </a:moveTo>
                  <a:lnTo>
                    <a:pt x="0" y="383"/>
                  </a:lnTo>
                  <a:lnTo>
                    <a:pt x="0" y="527"/>
                  </a:lnTo>
                  <a:lnTo>
                    <a:pt x="96" y="1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7772400" y="1071720"/>
            <a:ext cx="685800" cy="2204640"/>
            <a:chOff x="7772400" y="1071720"/>
            <a:chExt cx="685800" cy="2204640"/>
          </a:xfrm>
        </p:grpSpPr>
        <p:sp>
          <p:nvSpPr>
            <p:cNvPr id="894" name=""/>
            <p:cNvSpPr/>
            <p:nvPr/>
          </p:nvSpPr>
          <p:spPr>
            <a:xfrm>
              <a:off x="7772400" y="1071720"/>
              <a:ext cx="685800" cy="186624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72400" y="2089800"/>
              <a:ext cx="342720" cy="118656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115120" y="2089800"/>
              <a:ext cx="343080" cy="118656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5A50-EE97-42EC-9313-B2CCCC968E9F}" type="slidenum">
              <a:t>11</a:t>
            </a:fld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BCAE-AFAA-4AED-96B6-0396326120D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56800" y="447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Fuentes primarias de Corriente Alterna (CA)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851040" y="1828800"/>
            <a:ext cx="8208360" cy="4744800"/>
            <a:chOff x="851040" y="1828800"/>
            <a:chExt cx="8208360" cy="4744800"/>
          </a:xfrm>
        </p:grpSpPr>
        <p:sp>
          <p:nvSpPr>
            <p:cNvPr id="900" name=""/>
            <p:cNvSpPr/>
            <p:nvPr/>
          </p:nvSpPr>
          <p:spPr>
            <a:xfrm>
              <a:off x="851040" y="1828800"/>
              <a:ext cx="8208360" cy="4590360"/>
            </a:xfrm>
            <a:prstGeom prst="roundRect">
              <a:avLst>
                <a:gd name="adj" fmla="val 8329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48760" y="2075040"/>
              <a:ext cx="7603920" cy="80028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166400" y="2892600"/>
              <a:ext cx="2505240" cy="325152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03" name=""/>
            <p:cNvGraphicFramePr/>
            <p:nvPr/>
          </p:nvGraphicFramePr>
          <p:xfrm>
            <a:off x="1126080" y="2070360"/>
            <a:ext cx="7854120" cy="4503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26080" y="2070360"/>
                      <a:ext cx="7854120" cy="45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5" name=""/>
          <p:cNvSpPr/>
          <p:nvPr/>
        </p:nvSpPr>
        <p:spPr>
          <a:xfrm>
            <a:off x="1143000" y="3733920"/>
            <a:ext cx="762012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219320" y="5334120"/>
            <a:ext cx="7619760" cy="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7DB-D07D-4CBA-9098-DFD953F86B90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15760" y="313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Fuentes primarias de Corriente Continua (CC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176480" y="1581120"/>
            <a:ext cx="7697160" cy="5046840"/>
            <a:chOff x="1176480" y="1581120"/>
            <a:chExt cx="7697160" cy="5046840"/>
          </a:xfrm>
        </p:grpSpPr>
        <p:sp>
          <p:nvSpPr>
            <p:cNvPr id="910" name=""/>
            <p:cNvSpPr/>
            <p:nvPr/>
          </p:nvSpPr>
          <p:spPr>
            <a:xfrm>
              <a:off x="1176480" y="1581120"/>
              <a:ext cx="7697160" cy="4934160"/>
            </a:xfrm>
            <a:prstGeom prst="roundRect">
              <a:avLst>
                <a:gd name="adj" fmla="val 8102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05160" y="1790640"/>
              <a:ext cx="2315880" cy="446400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87520" y="1809720"/>
              <a:ext cx="7076520" cy="75096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13" name=""/>
            <p:cNvGraphicFramePr/>
            <p:nvPr/>
          </p:nvGraphicFramePr>
          <p:xfrm>
            <a:off x="1465200" y="1809720"/>
            <a:ext cx="7203600" cy="48182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65200" y="1809720"/>
                      <a:ext cx="7203600" cy="48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 txBox="1"/>
          <p:nvPr/>
        </p:nvSpPr>
        <p:spPr>
          <a:xfrm>
            <a:off x="9497880" y="6613200"/>
            <a:ext cx="408240" cy="2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5D72-94EC-42DC-ACB2-A71036E5F5E6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15760" y="49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Tipos de cargas electrónicas de Corriente Continua (CC)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33520" y="1905120"/>
            <a:ext cx="8791200" cy="4054320"/>
            <a:chOff x="533520" y="1905120"/>
            <a:chExt cx="8791200" cy="4054320"/>
          </a:xfrm>
        </p:grpSpPr>
        <p:sp>
          <p:nvSpPr>
            <p:cNvPr id="918" name=""/>
            <p:cNvSpPr/>
            <p:nvPr/>
          </p:nvSpPr>
          <p:spPr>
            <a:xfrm>
              <a:off x="533520" y="1905120"/>
              <a:ext cx="8791200" cy="3882960"/>
            </a:xfrm>
            <a:prstGeom prst="roundRect">
              <a:avLst>
                <a:gd name="adj" fmla="val 8102"/>
              </a:avLst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4520" y="2138400"/>
              <a:ext cx="4160160" cy="3392640"/>
            </a:xfrm>
            <a:prstGeom prst="rect">
              <a:avLst/>
            </a:prstGeom>
            <a:solidFill>
              <a:srgbClr val="db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94520" y="2133720"/>
              <a:ext cx="8306640" cy="544320"/>
            </a:xfrm>
            <a:prstGeom prst="rect">
              <a:avLst/>
            </a:pr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aphicFrame>
          <p:nvGraphicFramePr>
            <p:cNvPr id="921" name=""/>
            <p:cNvGraphicFramePr/>
            <p:nvPr/>
          </p:nvGraphicFramePr>
          <p:xfrm>
            <a:off x="755280" y="2130480"/>
            <a:ext cx="8510760" cy="38289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" y="2130480"/>
                      <a:ext cx="8510760" cy="38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934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0880" y="685800"/>
            <a:ext cx="9115560" cy="5638680"/>
          </a:xfrm>
          <a:prstGeom prst="roundRect">
            <a:avLst>
              <a:gd name="adj" fmla="val 81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8360" y="80712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DIODO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080" y="1599120"/>
            <a:ext cx="2885760" cy="76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chottk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0.3V, 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50-100V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76800" y="2665800"/>
            <a:ext cx="3060000" cy="7646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ápidos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r=50ns-5u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400V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42640" y="3580200"/>
            <a:ext cx="1909080" cy="1069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red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r=25u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kV. If=k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735000" y="838080"/>
            <a:ext cx="5461560" cy="3326040"/>
            <a:chOff x="3735000" y="838080"/>
            <a:chExt cx="5461560" cy="3326040"/>
          </a:xfrm>
        </p:grpSpPr>
        <p:grpSp>
          <p:nvGrpSpPr>
            <p:cNvPr id="930" name=""/>
            <p:cNvGrpSpPr/>
            <p:nvPr/>
          </p:nvGrpSpPr>
          <p:grpSpPr>
            <a:xfrm>
              <a:off x="3735000" y="838080"/>
              <a:ext cx="5461560" cy="3326040"/>
              <a:chOff x="3735000" y="838080"/>
              <a:chExt cx="5461560" cy="3326040"/>
            </a:xfrm>
          </p:grpSpPr>
          <p:pic>
            <p:nvPicPr>
              <p:cNvPr id="9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838080"/>
                <a:ext cx="5310360" cy="332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2" name=""/>
              <p:cNvSpPr/>
              <p:nvPr/>
            </p:nvSpPr>
            <p:spPr>
              <a:xfrm>
                <a:off x="6590880" y="152136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trr</a:t>
                </a:r>
                <a:endParaRPr b="0" lang="en-US" sz="1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735000" y="220860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Vfp</a:t>
                </a:r>
                <a:endParaRPr b="0" lang="en-US" sz="1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6248520" y="18288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62520" y="22096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936" name=""/>
          <p:cNvGraphicFramePr/>
          <p:nvPr/>
        </p:nvGraphicFramePr>
        <p:xfrm>
          <a:off x="3886200" y="4114800"/>
          <a:ext cx="5310360" cy="2160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4114800"/>
                    <a:ext cx="5310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E0CD-809A-4014-B021-33CAC625B899}" type="slidenum">
              <a:t>15</a:t>
            </a:fld>
          </a:p>
        </p:txBody>
      </p:sp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934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7800" y="53244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TIRISTOR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41" name="IMG00048" descr=""/>
          <p:cNvPicPr/>
          <p:nvPr/>
        </p:nvPicPr>
        <p:blipFill>
          <a:blip r:embed="rId1"/>
          <a:stretch/>
        </p:blipFill>
        <p:spPr>
          <a:xfrm>
            <a:off x="4572000" y="920880"/>
            <a:ext cx="4876920" cy="258444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8153280" y="5105520"/>
            <a:ext cx="1295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3310200" y="3814920"/>
            <a:ext cx="6316560" cy="2466720"/>
            <a:chOff x="3310200" y="3814920"/>
            <a:chExt cx="6316560" cy="2466720"/>
          </a:xfrm>
        </p:grpSpPr>
        <p:pic>
          <p:nvPicPr>
            <p:cNvPr id="944" name="IMG00052" descr=""/>
            <p:cNvPicPr/>
            <p:nvPr/>
          </p:nvPicPr>
          <p:blipFill>
            <a:blip r:embed="rId2"/>
            <a:srcRect l="0" t="0" r="11110" b="0"/>
            <a:stretch/>
          </p:blipFill>
          <p:spPr>
            <a:xfrm>
              <a:off x="4076640" y="3814920"/>
              <a:ext cx="4876920" cy="24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>
              <a:off x="3460680" y="4118760"/>
              <a:ext cx="2027880" cy="2764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nsión de bloqueo direct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10200" y="4880880"/>
              <a:ext cx="1941120" cy="2764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rriente de fugas direct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36320" y="5063400"/>
              <a:ext cx="1090440" cy="4590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rriente de 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fugas inversa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65880" y="5643000"/>
              <a:ext cx="1302480" cy="45900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Tensión inversa 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de bloqueo</a:t>
              </a:r>
              <a:endParaRPr b="0" lang="en-US" sz="1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7541280" y="1142280"/>
            <a:ext cx="130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ída directa d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en ON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103960" y="28947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directa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ruptura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79240" y="1224720"/>
            <a:ext cx="1738080" cy="276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20453"/>
              <a:gd name="adj5" fmla="val 347722"/>
              <a:gd name="adj6" fmla="val 137291"/>
            </a:avLst>
          </a:prstGeom>
          <a:solidFill>
            <a:srgbClr val="fcfeb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rriente de enganche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47680" y="1662840"/>
            <a:ext cx="2067480" cy="276480"/>
          </a:xfrm>
          <a:prstGeom prst="borderCallout2">
            <a:avLst>
              <a:gd name="adj1" fmla="val 18750"/>
              <a:gd name="adj2" fmla="val -8333"/>
              <a:gd name="adj3" fmla="val 38916"/>
              <a:gd name="adj4" fmla="val 109861"/>
              <a:gd name="adj5" fmla="val 263328"/>
              <a:gd name="adj6" fmla="val 121810"/>
            </a:avLst>
          </a:prstGeom>
          <a:solidFill>
            <a:srgbClr val="fcfeb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rriente de mantenimiento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657680" y="2894760"/>
            <a:ext cx="130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ón inversa 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ruptura</a:t>
            </a:r>
            <a:endParaRPr b="0" lang="en-US" sz="1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1322280"/>
            <a:ext cx="358128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lt; 0 : zona de bloqueo inverso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. comportándose como un diodo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gt; 0  sin disparo  zona de bloqueo directo.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el tiristor se comporta como un circuito abierto hasta alcanzar el voltaje de ruptura direct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0000ff"/>
                </a:solidFill>
                <a:latin typeface="Arial"/>
              </a:rPr>
              <a:t>AK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&gt; 0  con disparo  zona de conducción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7A0B-6FBB-4473-85C8-8D310F10DC8B}" type="slidenum">
              <a:t>16</a:t>
            </a:fld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533520" y="0"/>
            <a:ext cx="893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37200" y="70236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Conmutadores Controlabl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0760" y="1224720"/>
            <a:ext cx="9288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corriente de fugas en el estado de OFF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tensión en el estado de ON para minimizar las pérdidas p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duc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rtos tiempos de turn-on y turn-off. Esto posibilitará su utilización 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recuencias elevada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 capacidad de bloquear tensión directa e invers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 capacidad de conducir corrientes elevadas. Así no se necesitará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aralelizar compon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eficiente de temperatura positivo en la resistencia del estado d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ducción. Esto asegura que al paralelizar compon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Pequeña potencia para el control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apacidad para resistir tensión y corriente simultáneamente durante la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ransiciones de los estados. Así se eliminará la utilización de snubber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Grandes </a:t>
            </a:r>
            <a:r>
              <a:rPr b="0" i="1" lang="es-ES_tradnl" sz="2000" spc="-1" strike="noStrike">
                <a:solidFill>
                  <a:srgbClr val="0000ff"/>
                </a:solidFill>
                <a:latin typeface="Arial"/>
              </a:rPr>
              <a:t>di/dt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y </a:t>
            </a:r>
            <a:r>
              <a:rPr b="0" i="1" lang="es-ES_tradnl" sz="2000" spc="-1" strike="noStrike">
                <a:solidFill>
                  <a:srgbClr val="0000ff"/>
                </a:solidFill>
                <a:latin typeface="Arial"/>
              </a:rPr>
              <a:t> dv/dt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. Esto minimizará la necesidad de utilizar red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 indent="1908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ternas de protec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AD98-2865-488D-9650-2F5EF6BE42B4}" type="slidenum">
              <a:t>17</a:t>
            </a:fld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84320" y="609480"/>
            <a:ext cx="946764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76000" y="-720"/>
            <a:ext cx="54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olar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J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ction 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ans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222120" y="830160"/>
          <a:ext cx="5666040" cy="299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830160"/>
                    <a:ext cx="56660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403200" y="3896640"/>
            <a:ext cx="9204480" cy="24400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Maneja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tensiones y corrientes que el SCR, pero so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ás rápidos.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Fáciles de controlar por el terminal de base, aunque el circuito de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onsume más energía que en SCR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entaja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es la baja caída de tensión en saturación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nconvenientes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destacar su poca ganancia con v/i grandes, el tiempo de e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tiempo de almacenamiento y el fenómeno de avalancha secundari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96120" y="689400"/>
            <a:ext cx="2894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ispositivo controlado por corrien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46240" y="1401840"/>
            <a:ext cx="838440" cy="1928880"/>
          </a:xfrm>
          <a:custGeom>
            <a:avLst/>
            <a:gdLst/>
            <a:ahLst/>
            <a:rect l="l" t="t" r="r" b="b"/>
            <a:pathLst>
              <a:path w="451" h="1215">
                <a:moveTo>
                  <a:pt x="0" y="1215"/>
                </a:moveTo>
                <a:cubicBezTo>
                  <a:pt x="68" y="1174"/>
                  <a:pt x="136" y="1133"/>
                  <a:pt x="211" y="931"/>
                </a:cubicBezTo>
                <a:cubicBezTo>
                  <a:pt x="286" y="729"/>
                  <a:pt x="411" y="155"/>
                  <a:pt x="451" y="0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041720" y="2033640"/>
            <a:ext cx="365040" cy="47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03640" y="1658160"/>
            <a:ext cx="365040" cy="433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17760" y="1325880"/>
            <a:ext cx="365040" cy="47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2778120" y="1508040"/>
            <a:ext cx="43488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066720" y="1672200"/>
            <a:ext cx="3409920" cy="8240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 : Zona lineal o de amplificación.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: Zona de cuasi-saturación 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3 : Zona de fuerte saturació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24280" y="1697040"/>
            <a:ext cx="1716120" cy="1724040"/>
          </a:xfrm>
          <a:prstGeom prst="line">
            <a:avLst/>
          </a:prstGeom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97360" y="2717640"/>
            <a:ext cx="711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e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ce(sat)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2971800"/>
            <a:ext cx="2395440" cy="955800"/>
          </a:xfrm>
          <a:custGeom>
            <a:avLst/>
            <a:gdLst/>
            <a:ahLst/>
            <a:rect l="l" t="t" r="r" b="b"/>
            <a:pathLst>
              <a:path w="3772" h="1854">
                <a:moveTo>
                  <a:pt x="0" y="80"/>
                </a:moveTo>
                <a:cubicBezTo>
                  <a:pt x="206" y="108"/>
                  <a:pt x="854" y="0"/>
                  <a:pt x="1236" y="248"/>
                </a:cubicBezTo>
                <a:cubicBezTo>
                  <a:pt x="1618" y="496"/>
                  <a:pt x="1894" y="1306"/>
                  <a:pt x="2292" y="1568"/>
                </a:cubicBezTo>
                <a:cubicBezTo>
                  <a:pt x="2690" y="1830"/>
                  <a:pt x="3476" y="1786"/>
                  <a:pt x="3624" y="1820"/>
                </a:cubicBezTo>
                <a:cubicBezTo>
                  <a:pt x="3772" y="1854"/>
                  <a:pt x="3166" y="1766"/>
                  <a:pt x="3180" y="17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6485040" y="2815920"/>
            <a:ext cx="0" cy="11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408720" y="3973680"/>
            <a:ext cx="262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9121680" y="3890880"/>
            <a:ext cx="2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018200" y="2824200"/>
            <a:ext cx="0" cy="13017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78600" y="2846520"/>
            <a:ext cx="0" cy="1303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370560" y="3875040"/>
            <a:ext cx="20494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76840" y="2778120"/>
            <a:ext cx="3329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rte      Activa         Saturación</a:t>
            </a:r>
            <a:endParaRPr b="0" lang="en-US" sz="1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485E-1428-4FC3-B590-104635E587BD}" type="slidenum">
              <a:t>18</a:t>
            </a:fld>
          </a:p>
        </p:txBody>
      </p:sp>
    </p:spTree>
  </p:cSld>
  <p:transition spd="slow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80880" y="609480"/>
            <a:ext cx="927108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1600" y="-720"/>
            <a:ext cx="91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tal-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O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xide-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S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emiconductor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F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iel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ffect </a:t>
            </a:r>
            <a:r>
              <a:rPr b="1" lang="es-ES_tradnl" sz="3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ransistor</a:t>
            </a:r>
            <a:endParaRPr b="0" lang="en-US" sz="3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>
            <a:lum contrast="42000"/>
          </a:blip>
          <a:srcRect l="0" t="51549" r="0" b="0"/>
          <a:stretch/>
        </p:blipFill>
        <p:spPr>
          <a:xfrm>
            <a:off x="512640" y="3557520"/>
            <a:ext cx="3381480" cy="2681280"/>
          </a:xfrm>
          <a:prstGeom prst="rect">
            <a:avLst/>
          </a:prstGeom>
          <a:ln w="0">
            <a:noFill/>
          </a:ln>
        </p:spPr>
      </p:pic>
      <p:pic>
        <p:nvPicPr>
          <p:cNvPr id="984" name="" descr=""/>
          <p:cNvPicPr/>
          <p:nvPr/>
        </p:nvPicPr>
        <p:blipFill>
          <a:blip r:embed="rId2">
            <a:biLevel thresh="50000"/>
            <a:lum contrast="-100000"/>
          </a:blip>
          <a:stretch/>
        </p:blipFill>
        <p:spPr>
          <a:xfrm>
            <a:off x="7386480" y="3963960"/>
            <a:ext cx="2013120" cy="209088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3692880" y="4424040"/>
            <a:ext cx="3766320" cy="1191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Alta impedancia de entrada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Coef. Tª positivo : paralelizabl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apidez en las conmutaciones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Rds(on)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3"/>
          <a:stretch/>
        </p:blipFill>
        <p:spPr>
          <a:xfrm>
            <a:off x="539640" y="874800"/>
            <a:ext cx="3392640" cy="2717640"/>
          </a:xfrm>
          <a:prstGeom prst="rect">
            <a:avLst/>
          </a:prstGeom>
          <a:ln w="0">
            <a:noFill/>
          </a:ln>
        </p:spPr>
      </p:pic>
      <p:sp>
        <p:nvSpPr>
          <p:cNvPr id="987" name=""/>
          <p:cNvSpPr/>
          <p:nvPr/>
        </p:nvSpPr>
        <p:spPr>
          <a:xfrm>
            <a:off x="4010040" y="792720"/>
            <a:ext cx="5468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ispositivo controlado por tensió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88" name="mosfet" descr=""/>
          <p:cNvPicPr/>
          <p:nvPr/>
        </p:nvPicPr>
        <p:blipFill>
          <a:blip r:embed="rId4"/>
          <a:srcRect l="0" t="0" r="12761" b="52818"/>
          <a:stretch/>
        </p:blipFill>
        <p:spPr>
          <a:xfrm>
            <a:off x="4075200" y="1155600"/>
            <a:ext cx="4192560" cy="2649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89" name="" descr=""/>
          <p:cNvPicPr/>
          <p:nvPr/>
        </p:nvPicPr>
        <p:blipFill>
          <a:blip r:embed="rId5">
            <a:biLevel thresh="50000"/>
            <a:lum contrast="100000"/>
          </a:blip>
          <a:srcRect l="45399" t="19994" r="29533" b="63110"/>
          <a:stretch/>
        </p:blipFill>
        <p:spPr>
          <a:xfrm>
            <a:off x="8237520" y="1168560"/>
            <a:ext cx="1332000" cy="146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7C07-AF91-4494-A076-8CCA55A51AD4}" type="slidenum">
              <a:t>19</a:t>
            </a:fld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2440" y="1049400"/>
            <a:ext cx="9291600" cy="5410080"/>
          </a:xfrm>
          <a:prstGeom prst="roundRect">
            <a:avLst>
              <a:gd name="adj" fmla="val 5273"/>
            </a:avLst>
          </a:prstGeom>
          <a:gradFill rotWithShape="0">
            <a:gsLst>
              <a:gs pos="0">
                <a:srgbClr val="fcfeb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3240" y="1782720"/>
            <a:ext cx="5904000" cy="3911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8680" y="1450800"/>
            <a:ext cx="92599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s una disciplina encargada de la </a:t>
            </a: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CONVERSIÓN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 de potencia eléctrica desde una forma a otra (ac- ac, ac - dc, dc - dc, dc - ac) con el propósito de </a:t>
            </a: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controlar o cambiar sus características</a:t>
            </a: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 (tensión, corriente, potencia, frecuencia, distorsión, nº de fase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Naturaleza interdisciplina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Está presente en la mayoría de los equipos electrónicos -  soporte tecnológico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9600" y="276120"/>
            <a:ext cx="9415440" cy="7542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¿Que es la Electrónica de Potencia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497720" y="3929040"/>
            <a:ext cx="2407320" cy="2399760"/>
            <a:chOff x="7497720" y="3929040"/>
            <a:chExt cx="2407320" cy="2399760"/>
          </a:xfrm>
        </p:grpSpPr>
        <p:grpSp>
          <p:nvGrpSpPr>
            <p:cNvPr id="52" name=""/>
            <p:cNvGrpSpPr/>
            <p:nvPr/>
          </p:nvGrpSpPr>
          <p:grpSpPr>
            <a:xfrm>
              <a:off x="8190720" y="4147200"/>
              <a:ext cx="1045080" cy="2181600"/>
              <a:chOff x="8190720" y="4147200"/>
              <a:chExt cx="1045080" cy="2181600"/>
            </a:xfrm>
          </p:grpSpPr>
          <p:sp>
            <p:nvSpPr>
              <p:cNvPr id="53" name=""/>
              <p:cNvSpPr/>
              <p:nvPr/>
            </p:nvSpPr>
            <p:spPr>
              <a:xfrm>
                <a:off x="8515440" y="4476240"/>
                <a:ext cx="330480" cy="451800"/>
              </a:xfrm>
              <a:custGeom>
                <a:avLst/>
                <a:gdLst/>
                <a:ahLst/>
                <a:rect l="l" t="t" r="r" b="b"/>
                <a:pathLst>
                  <a:path w="365" h="491">
                    <a:moveTo>
                      <a:pt x="219" y="0"/>
                    </a:moveTo>
                    <a:lnTo>
                      <a:pt x="264" y="6"/>
                    </a:lnTo>
                    <a:lnTo>
                      <a:pt x="308" y="32"/>
                    </a:lnTo>
                    <a:lnTo>
                      <a:pt x="337" y="69"/>
                    </a:lnTo>
                    <a:lnTo>
                      <a:pt x="359" y="126"/>
                    </a:lnTo>
                    <a:lnTo>
                      <a:pt x="365" y="220"/>
                    </a:lnTo>
                    <a:lnTo>
                      <a:pt x="348" y="315"/>
                    </a:lnTo>
                    <a:lnTo>
                      <a:pt x="320" y="384"/>
                    </a:lnTo>
                    <a:lnTo>
                      <a:pt x="281" y="440"/>
                    </a:lnTo>
                    <a:lnTo>
                      <a:pt x="242" y="479"/>
                    </a:lnTo>
                    <a:lnTo>
                      <a:pt x="196" y="491"/>
                    </a:lnTo>
                    <a:lnTo>
                      <a:pt x="152" y="485"/>
                    </a:lnTo>
                    <a:lnTo>
                      <a:pt x="130" y="453"/>
                    </a:lnTo>
                    <a:lnTo>
                      <a:pt x="96" y="403"/>
                    </a:lnTo>
                    <a:lnTo>
                      <a:pt x="84" y="308"/>
                    </a:lnTo>
                    <a:lnTo>
                      <a:pt x="96" y="208"/>
                    </a:lnTo>
                    <a:lnTo>
                      <a:pt x="101" y="195"/>
                    </a:lnTo>
                    <a:lnTo>
                      <a:pt x="0" y="94"/>
                    </a:lnTo>
                    <a:lnTo>
                      <a:pt x="0" y="45"/>
                    </a:lnTo>
                    <a:lnTo>
                      <a:pt x="17" y="38"/>
                    </a:lnTo>
                    <a:lnTo>
                      <a:pt x="118" y="158"/>
                    </a:lnTo>
                    <a:lnTo>
                      <a:pt x="130" y="101"/>
                    </a:lnTo>
                    <a:lnTo>
                      <a:pt x="162" y="38"/>
                    </a:lnTo>
                    <a:lnTo>
                      <a:pt x="196" y="13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58520" y="4147200"/>
                <a:ext cx="377280" cy="935640"/>
              </a:xfrm>
              <a:custGeom>
                <a:avLst/>
                <a:gdLst/>
                <a:ahLst/>
                <a:rect l="l" t="t" r="r" b="b"/>
                <a:pathLst>
                  <a:path w="416" h="1019">
                    <a:moveTo>
                      <a:pt x="88" y="843"/>
                    </a:moveTo>
                    <a:lnTo>
                      <a:pt x="56" y="880"/>
                    </a:lnTo>
                    <a:lnTo>
                      <a:pt x="12" y="924"/>
                    </a:lnTo>
                    <a:lnTo>
                      <a:pt x="0" y="993"/>
                    </a:lnTo>
                    <a:lnTo>
                      <a:pt x="25" y="1019"/>
                    </a:lnTo>
                    <a:lnTo>
                      <a:pt x="63" y="1019"/>
                    </a:lnTo>
                    <a:lnTo>
                      <a:pt x="101" y="981"/>
                    </a:lnTo>
                    <a:lnTo>
                      <a:pt x="151" y="899"/>
                    </a:lnTo>
                    <a:lnTo>
                      <a:pt x="176" y="811"/>
                    </a:lnTo>
                    <a:lnTo>
                      <a:pt x="208" y="749"/>
                    </a:lnTo>
                    <a:lnTo>
                      <a:pt x="252" y="661"/>
                    </a:lnTo>
                    <a:lnTo>
                      <a:pt x="302" y="610"/>
                    </a:lnTo>
                    <a:lnTo>
                      <a:pt x="315" y="490"/>
                    </a:lnTo>
                    <a:lnTo>
                      <a:pt x="327" y="409"/>
                    </a:lnTo>
                    <a:lnTo>
                      <a:pt x="327" y="334"/>
                    </a:lnTo>
                    <a:lnTo>
                      <a:pt x="346" y="233"/>
                    </a:lnTo>
                    <a:lnTo>
                      <a:pt x="378" y="195"/>
                    </a:lnTo>
                    <a:lnTo>
                      <a:pt x="416" y="26"/>
                    </a:lnTo>
                    <a:lnTo>
                      <a:pt x="372" y="0"/>
                    </a:lnTo>
                    <a:lnTo>
                      <a:pt x="296" y="7"/>
                    </a:lnTo>
                    <a:lnTo>
                      <a:pt x="289" y="133"/>
                    </a:lnTo>
                    <a:lnTo>
                      <a:pt x="227" y="107"/>
                    </a:lnTo>
                    <a:lnTo>
                      <a:pt x="201" y="126"/>
                    </a:lnTo>
                    <a:lnTo>
                      <a:pt x="265" y="182"/>
                    </a:lnTo>
                    <a:lnTo>
                      <a:pt x="265" y="252"/>
                    </a:lnTo>
                    <a:lnTo>
                      <a:pt x="271" y="327"/>
                    </a:lnTo>
                    <a:lnTo>
                      <a:pt x="271" y="415"/>
                    </a:lnTo>
                    <a:lnTo>
                      <a:pt x="265" y="490"/>
                    </a:lnTo>
                    <a:lnTo>
                      <a:pt x="227" y="566"/>
                    </a:lnTo>
                    <a:lnTo>
                      <a:pt x="182" y="711"/>
                    </a:lnTo>
                    <a:lnTo>
                      <a:pt x="144" y="773"/>
                    </a:lnTo>
                    <a:lnTo>
                      <a:pt x="88" y="843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190720" y="4193280"/>
                <a:ext cx="380880" cy="902160"/>
              </a:xfrm>
              <a:custGeom>
                <a:avLst/>
                <a:gdLst/>
                <a:ahLst/>
                <a:rect l="l" t="t" r="r" b="b"/>
                <a:pathLst>
                  <a:path w="421" h="981">
                    <a:moveTo>
                      <a:pt x="370" y="805"/>
                    </a:moveTo>
                    <a:lnTo>
                      <a:pt x="402" y="849"/>
                    </a:lnTo>
                    <a:lnTo>
                      <a:pt x="415" y="880"/>
                    </a:lnTo>
                    <a:lnTo>
                      <a:pt x="421" y="937"/>
                    </a:lnTo>
                    <a:lnTo>
                      <a:pt x="415" y="969"/>
                    </a:lnTo>
                    <a:lnTo>
                      <a:pt x="383" y="981"/>
                    </a:lnTo>
                    <a:lnTo>
                      <a:pt x="339" y="975"/>
                    </a:lnTo>
                    <a:lnTo>
                      <a:pt x="308" y="931"/>
                    </a:lnTo>
                    <a:lnTo>
                      <a:pt x="276" y="880"/>
                    </a:lnTo>
                    <a:lnTo>
                      <a:pt x="233" y="779"/>
                    </a:lnTo>
                    <a:lnTo>
                      <a:pt x="182" y="704"/>
                    </a:lnTo>
                    <a:lnTo>
                      <a:pt x="145" y="648"/>
                    </a:lnTo>
                    <a:lnTo>
                      <a:pt x="126" y="541"/>
                    </a:lnTo>
                    <a:lnTo>
                      <a:pt x="107" y="415"/>
                    </a:lnTo>
                    <a:lnTo>
                      <a:pt x="81" y="345"/>
                    </a:lnTo>
                    <a:lnTo>
                      <a:pt x="44" y="283"/>
                    </a:lnTo>
                    <a:lnTo>
                      <a:pt x="25" y="232"/>
                    </a:lnTo>
                    <a:lnTo>
                      <a:pt x="0" y="150"/>
                    </a:lnTo>
                    <a:lnTo>
                      <a:pt x="6" y="62"/>
                    </a:lnTo>
                    <a:lnTo>
                      <a:pt x="50" y="5"/>
                    </a:lnTo>
                    <a:lnTo>
                      <a:pt x="107" y="0"/>
                    </a:lnTo>
                    <a:lnTo>
                      <a:pt x="126" y="138"/>
                    </a:lnTo>
                    <a:lnTo>
                      <a:pt x="157" y="125"/>
                    </a:lnTo>
                    <a:lnTo>
                      <a:pt x="163" y="163"/>
                    </a:lnTo>
                    <a:lnTo>
                      <a:pt x="126" y="195"/>
                    </a:lnTo>
                    <a:lnTo>
                      <a:pt x="126" y="257"/>
                    </a:lnTo>
                    <a:lnTo>
                      <a:pt x="157" y="358"/>
                    </a:lnTo>
                    <a:lnTo>
                      <a:pt x="182" y="465"/>
                    </a:lnTo>
                    <a:lnTo>
                      <a:pt x="201" y="584"/>
                    </a:lnTo>
                    <a:lnTo>
                      <a:pt x="226" y="629"/>
                    </a:lnTo>
                    <a:lnTo>
                      <a:pt x="282" y="704"/>
                    </a:lnTo>
                    <a:lnTo>
                      <a:pt x="339" y="766"/>
                    </a:lnTo>
                    <a:lnTo>
                      <a:pt x="370" y="80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3440" y="4979880"/>
                <a:ext cx="340920" cy="651960"/>
              </a:xfrm>
              <a:custGeom>
                <a:avLst/>
                <a:gdLst/>
                <a:ahLst/>
                <a:rect l="l" t="t" r="r" b="b"/>
                <a:pathLst>
                  <a:path w="376" h="712">
                    <a:moveTo>
                      <a:pt x="143" y="0"/>
                    </a:moveTo>
                    <a:lnTo>
                      <a:pt x="201" y="0"/>
                    </a:lnTo>
                    <a:lnTo>
                      <a:pt x="269" y="13"/>
                    </a:lnTo>
                    <a:lnTo>
                      <a:pt x="308" y="51"/>
                    </a:lnTo>
                    <a:lnTo>
                      <a:pt x="345" y="120"/>
                    </a:lnTo>
                    <a:lnTo>
                      <a:pt x="364" y="171"/>
                    </a:lnTo>
                    <a:lnTo>
                      <a:pt x="376" y="233"/>
                    </a:lnTo>
                    <a:lnTo>
                      <a:pt x="376" y="309"/>
                    </a:lnTo>
                    <a:lnTo>
                      <a:pt x="370" y="385"/>
                    </a:lnTo>
                    <a:lnTo>
                      <a:pt x="364" y="466"/>
                    </a:lnTo>
                    <a:lnTo>
                      <a:pt x="338" y="567"/>
                    </a:lnTo>
                    <a:lnTo>
                      <a:pt x="308" y="637"/>
                    </a:lnTo>
                    <a:lnTo>
                      <a:pt x="250" y="693"/>
                    </a:lnTo>
                    <a:lnTo>
                      <a:pt x="188" y="712"/>
                    </a:lnTo>
                    <a:lnTo>
                      <a:pt x="119" y="693"/>
                    </a:lnTo>
                    <a:lnTo>
                      <a:pt x="75" y="605"/>
                    </a:lnTo>
                    <a:lnTo>
                      <a:pt x="44" y="523"/>
                    </a:lnTo>
                    <a:lnTo>
                      <a:pt x="25" y="428"/>
                    </a:lnTo>
                    <a:lnTo>
                      <a:pt x="0" y="340"/>
                    </a:lnTo>
                    <a:lnTo>
                      <a:pt x="0" y="221"/>
                    </a:lnTo>
                    <a:lnTo>
                      <a:pt x="19" y="139"/>
                    </a:lnTo>
                    <a:lnTo>
                      <a:pt x="44" y="76"/>
                    </a:lnTo>
                    <a:lnTo>
                      <a:pt x="7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760600" y="5540400"/>
                <a:ext cx="262800" cy="751320"/>
              </a:xfrm>
              <a:custGeom>
                <a:avLst/>
                <a:gdLst/>
                <a:ahLst/>
                <a:rect l="l" t="t" r="r" b="b"/>
                <a:pathLst>
                  <a:path w="290" h="818">
                    <a:moveTo>
                      <a:pt x="54" y="95"/>
                    </a:moveTo>
                    <a:lnTo>
                      <a:pt x="16" y="41"/>
                    </a:lnTo>
                    <a:lnTo>
                      <a:pt x="29" y="0"/>
                    </a:lnTo>
                    <a:lnTo>
                      <a:pt x="67" y="0"/>
                    </a:lnTo>
                    <a:lnTo>
                      <a:pt x="110" y="44"/>
                    </a:lnTo>
                    <a:lnTo>
                      <a:pt x="168" y="135"/>
                    </a:lnTo>
                    <a:lnTo>
                      <a:pt x="199" y="222"/>
                    </a:lnTo>
                    <a:lnTo>
                      <a:pt x="227" y="305"/>
                    </a:lnTo>
                    <a:lnTo>
                      <a:pt x="236" y="383"/>
                    </a:lnTo>
                    <a:lnTo>
                      <a:pt x="233" y="423"/>
                    </a:lnTo>
                    <a:lnTo>
                      <a:pt x="206" y="473"/>
                    </a:lnTo>
                    <a:lnTo>
                      <a:pt x="158" y="607"/>
                    </a:lnTo>
                    <a:lnTo>
                      <a:pt x="104" y="683"/>
                    </a:lnTo>
                    <a:lnTo>
                      <a:pt x="91" y="717"/>
                    </a:lnTo>
                    <a:lnTo>
                      <a:pt x="142" y="723"/>
                    </a:lnTo>
                    <a:lnTo>
                      <a:pt x="209" y="723"/>
                    </a:lnTo>
                    <a:lnTo>
                      <a:pt x="290" y="754"/>
                    </a:lnTo>
                    <a:lnTo>
                      <a:pt x="284" y="777"/>
                    </a:lnTo>
                    <a:lnTo>
                      <a:pt x="271" y="804"/>
                    </a:lnTo>
                    <a:lnTo>
                      <a:pt x="246" y="818"/>
                    </a:lnTo>
                    <a:lnTo>
                      <a:pt x="196" y="798"/>
                    </a:lnTo>
                    <a:lnTo>
                      <a:pt x="142" y="768"/>
                    </a:lnTo>
                    <a:lnTo>
                      <a:pt x="67" y="764"/>
                    </a:lnTo>
                    <a:lnTo>
                      <a:pt x="19" y="774"/>
                    </a:lnTo>
                    <a:lnTo>
                      <a:pt x="0" y="757"/>
                    </a:lnTo>
                    <a:lnTo>
                      <a:pt x="0" y="734"/>
                    </a:lnTo>
                    <a:lnTo>
                      <a:pt x="26" y="708"/>
                    </a:lnTo>
                    <a:lnTo>
                      <a:pt x="67" y="663"/>
                    </a:lnTo>
                    <a:lnTo>
                      <a:pt x="139" y="553"/>
                    </a:lnTo>
                    <a:lnTo>
                      <a:pt x="171" y="456"/>
                    </a:lnTo>
                    <a:lnTo>
                      <a:pt x="180" y="362"/>
                    </a:lnTo>
                    <a:lnTo>
                      <a:pt x="177" y="312"/>
                    </a:lnTo>
                    <a:lnTo>
                      <a:pt x="152" y="222"/>
                    </a:lnTo>
                    <a:lnTo>
                      <a:pt x="85" y="124"/>
                    </a:lnTo>
                    <a:lnTo>
                      <a:pt x="38" y="74"/>
                    </a:lnTo>
                    <a:lnTo>
                      <a:pt x="54" y="95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413560" y="5529240"/>
                <a:ext cx="261000" cy="799560"/>
              </a:xfrm>
              <a:custGeom>
                <a:avLst/>
                <a:gdLst/>
                <a:ahLst/>
                <a:rect l="l" t="t" r="r" b="b"/>
                <a:pathLst>
                  <a:path w="289" h="871">
                    <a:moveTo>
                      <a:pt x="149" y="156"/>
                    </a:moveTo>
                    <a:lnTo>
                      <a:pt x="194" y="68"/>
                    </a:lnTo>
                    <a:lnTo>
                      <a:pt x="236" y="0"/>
                    </a:lnTo>
                    <a:lnTo>
                      <a:pt x="268" y="0"/>
                    </a:lnTo>
                    <a:lnTo>
                      <a:pt x="286" y="27"/>
                    </a:lnTo>
                    <a:lnTo>
                      <a:pt x="289" y="75"/>
                    </a:lnTo>
                    <a:lnTo>
                      <a:pt x="263" y="109"/>
                    </a:lnTo>
                    <a:lnTo>
                      <a:pt x="217" y="153"/>
                    </a:lnTo>
                    <a:lnTo>
                      <a:pt x="181" y="203"/>
                    </a:lnTo>
                    <a:lnTo>
                      <a:pt x="144" y="272"/>
                    </a:lnTo>
                    <a:lnTo>
                      <a:pt x="128" y="318"/>
                    </a:lnTo>
                    <a:lnTo>
                      <a:pt x="112" y="379"/>
                    </a:lnTo>
                    <a:lnTo>
                      <a:pt x="110" y="454"/>
                    </a:lnTo>
                    <a:lnTo>
                      <a:pt x="116" y="523"/>
                    </a:lnTo>
                    <a:lnTo>
                      <a:pt x="134" y="607"/>
                    </a:lnTo>
                    <a:lnTo>
                      <a:pt x="167" y="682"/>
                    </a:lnTo>
                    <a:lnTo>
                      <a:pt x="197" y="726"/>
                    </a:lnTo>
                    <a:lnTo>
                      <a:pt x="215" y="758"/>
                    </a:lnTo>
                    <a:lnTo>
                      <a:pt x="217" y="783"/>
                    </a:lnTo>
                    <a:lnTo>
                      <a:pt x="202" y="792"/>
                    </a:lnTo>
                    <a:lnTo>
                      <a:pt x="165" y="798"/>
                    </a:lnTo>
                    <a:lnTo>
                      <a:pt x="110" y="817"/>
                    </a:lnTo>
                    <a:lnTo>
                      <a:pt x="68" y="842"/>
                    </a:lnTo>
                    <a:lnTo>
                      <a:pt x="42" y="871"/>
                    </a:lnTo>
                    <a:lnTo>
                      <a:pt x="18" y="865"/>
                    </a:lnTo>
                    <a:lnTo>
                      <a:pt x="0" y="830"/>
                    </a:lnTo>
                    <a:lnTo>
                      <a:pt x="0" y="801"/>
                    </a:lnTo>
                    <a:lnTo>
                      <a:pt x="42" y="777"/>
                    </a:lnTo>
                    <a:lnTo>
                      <a:pt x="112" y="761"/>
                    </a:lnTo>
                    <a:lnTo>
                      <a:pt x="178" y="751"/>
                    </a:lnTo>
                    <a:lnTo>
                      <a:pt x="149" y="716"/>
                    </a:lnTo>
                    <a:lnTo>
                      <a:pt x="131" y="673"/>
                    </a:lnTo>
                    <a:lnTo>
                      <a:pt x="107" y="610"/>
                    </a:lnTo>
                    <a:lnTo>
                      <a:pt x="81" y="545"/>
                    </a:lnTo>
                    <a:lnTo>
                      <a:pt x="73" y="463"/>
                    </a:lnTo>
                    <a:lnTo>
                      <a:pt x="71" y="385"/>
                    </a:lnTo>
                    <a:lnTo>
                      <a:pt x="89" y="310"/>
                    </a:lnTo>
                    <a:lnTo>
                      <a:pt x="123" y="209"/>
                    </a:lnTo>
                    <a:lnTo>
                      <a:pt x="149" y="156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7497720" y="3929040"/>
              <a:ext cx="2407320" cy="1040760"/>
              <a:chOff x="7497720" y="3929040"/>
              <a:chExt cx="2407320" cy="1040760"/>
            </a:xfrm>
          </p:grpSpPr>
          <p:sp>
            <p:nvSpPr>
              <p:cNvPr id="60" name=""/>
              <p:cNvSpPr/>
              <p:nvPr/>
            </p:nvSpPr>
            <p:spPr>
              <a:xfrm>
                <a:off x="7947360" y="4173120"/>
                <a:ext cx="1558800" cy="242280"/>
              </a:xfrm>
              <a:custGeom>
                <a:avLst/>
                <a:gdLst/>
                <a:ahLst/>
                <a:rect l="l" t="t" r="r" b="b"/>
                <a:pathLst>
                  <a:path w="1718" h="264">
                    <a:moveTo>
                      <a:pt x="0" y="186"/>
                    </a:moveTo>
                    <a:lnTo>
                      <a:pt x="118" y="135"/>
                    </a:lnTo>
                    <a:lnTo>
                      <a:pt x="204" y="103"/>
                    </a:lnTo>
                    <a:lnTo>
                      <a:pt x="292" y="81"/>
                    </a:lnTo>
                    <a:lnTo>
                      <a:pt x="405" y="57"/>
                    </a:lnTo>
                    <a:lnTo>
                      <a:pt x="534" y="38"/>
                    </a:lnTo>
                    <a:lnTo>
                      <a:pt x="716" y="16"/>
                    </a:lnTo>
                    <a:lnTo>
                      <a:pt x="972" y="0"/>
                    </a:lnTo>
                    <a:lnTo>
                      <a:pt x="1139" y="0"/>
                    </a:lnTo>
                    <a:lnTo>
                      <a:pt x="1258" y="6"/>
                    </a:lnTo>
                    <a:lnTo>
                      <a:pt x="1396" y="19"/>
                    </a:lnTo>
                    <a:lnTo>
                      <a:pt x="1509" y="31"/>
                    </a:lnTo>
                    <a:lnTo>
                      <a:pt x="1626" y="57"/>
                    </a:lnTo>
                    <a:lnTo>
                      <a:pt x="1718" y="88"/>
                    </a:lnTo>
                    <a:lnTo>
                      <a:pt x="1689" y="180"/>
                    </a:lnTo>
                    <a:lnTo>
                      <a:pt x="1603" y="154"/>
                    </a:lnTo>
                    <a:lnTo>
                      <a:pt x="1497" y="132"/>
                    </a:lnTo>
                    <a:lnTo>
                      <a:pt x="1396" y="113"/>
                    </a:lnTo>
                    <a:lnTo>
                      <a:pt x="1295" y="103"/>
                    </a:lnTo>
                    <a:lnTo>
                      <a:pt x="1201" y="103"/>
                    </a:lnTo>
                    <a:lnTo>
                      <a:pt x="1063" y="100"/>
                    </a:lnTo>
                    <a:lnTo>
                      <a:pt x="937" y="103"/>
                    </a:lnTo>
                    <a:lnTo>
                      <a:pt x="716" y="116"/>
                    </a:lnTo>
                    <a:lnTo>
                      <a:pt x="578" y="129"/>
                    </a:lnTo>
                    <a:lnTo>
                      <a:pt x="503" y="142"/>
                    </a:lnTo>
                    <a:lnTo>
                      <a:pt x="415" y="151"/>
                    </a:lnTo>
                    <a:lnTo>
                      <a:pt x="327" y="170"/>
                    </a:lnTo>
                    <a:lnTo>
                      <a:pt x="226" y="198"/>
                    </a:lnTo>
                    <a:lnTo>
                      <a:pt x="166" y="214"/>
                    </a:lnTo>
                    <a:lnTo>
                      <a:pt x="100" y="242"/>
                    </a:lnTo>
                    <a:lnTo>
                      <a:pt x="43" y="264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9361080" y="3929040"/>
                <a:ext cx="543960" cy="919800"/>
                <a:chOff x="9361080" y="3929040"/>
                <a:chExt cx="543960" cy="9198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9437400" y="3954240"/>
                  <a:ext cx="467640" cy="894600"/>
                </a:xfrm>
                <a:custGeom>
                  <a:avLst/>
                  <a:gdLst/>
                  <a:ahLst/>
                  <a:rect l="l" t="t" r="r" b="b"/>
                  <a:pathLst>
                    <a:path w="516" h="974">
                      <a:moveTo>
                        <a:pt x="457" y="555"/>
                      </a:moveTo>
                      <a:lnTo>
                        <a:pt x="468" y="521"/>
                      </a:lnTo>
                      <a:lnTo>
                        <a:pt x="478" y="488"/>
                      </a:lnTo>
                      <a:lnTo>
                        <a:pt x="487" y="454"/>
                      </a:lnTo>
                      <a:lnTo>
                        <a:pt x="495" y="419"/>
                      </a:lnTo>
                      <a:lnTo>
                        <a:pt x="501" y="387"/>
                      </a:lnTo>
                      <a:lnTo>
                        <a:pt x="508" y="353"/>
                      </a:lnTo>
                      <a:lnTo>
                        <a:pt x="512" y="321"/>
                      </a:lnTo>
                      <a:lnTo>
                        <a:pt x="515" y="290"/>
                      </a:lnTo>
                      <a:lnTo>
                        <a:pt x="516" y="259"/>
                      </a:lnTo>
                      <a:lnTo>
                        <a:pt x="516" y="229"/>
                      </a:lnTo>
                      <a:lnTo>
                        <a:pt x="516" y="202"/>
                      </a:lnTo>
                      <a:lnTo>
                        <a:pt x="514" y="175"/>
                      </a:lnTo>
                      <a:lnTo>
                        <a:pt x="512" y="150"/>
                      </a:lnTo>
                      <a:lnTo>
                        <a:pt x="507" y="126"/>
                      </a:lnTo>
                      <a:lnTo>
                        <a:pt x="500" y="103"/>
                      </a:lnTo>
                      <a:lnTo>
                        <a:pt x="494" y="84"/>
                      </a:lnTo>
                      <a:lnTo>
                        <a:pt x="486" y="66"/>
                      </a:lnTo>
                      <a:lnTo>
                        <a:pt x="476" y="50"/>
                      </a:lnTo>
                      <a:lnTo>
                        <a:pt x="466" y="36"/>
                      </a:lnTo>
                      <a:lnTo>
                        <a:pt x="456" y="24"/>
                      </a:lnTo>
                      <a:lnTo>
                        <a:pt x="443" y="15"/>
                      </a:lnTo>
                      <a:lnTo>
                        <a:pt x="430" y="8"/>
                      </a:lnTo>
                      <a:lnTo>
                        <a:pt x="417" y="3"/>
                      </a:lnTo>
                      <a:lnTo>
                        <a:pt x="402" y="1"/>
                      </a:lnTo>
                      <a:lnTo>
                        <a:pt x="386" y="0"/>
                      </a:lnTo>
                      <a:lnTo>
                        <a:pt x="371" y="3"/>
                      </a:lnTo>
                      <a:lnTo>
                        <a:pt x="354" y="8"/>
                      </a:lnTo>
                      <a:lnTo>
                        <a:pt x="336" y="14"/>
                      </a:lnTo>
                      <a:lnTo>
                        <a:pt x="319" y="24"/>
                      </a:lnTo>
                      <a:lnTo>
                        <a:pt x="302" y="36"/>
                      </a:lnTo>
                      <a:lnTo>
                        <a:pt x="284" y="49"/>
                      </a:lnTo>
                      <a:lnTo>
                        <a:pt x="265" y="65"/>
                      </a:lnTo>
                      <a:lnTo>
                        <a:pt x="247" y="83"/>
                      </a:lnTo>
                      <a:lnTo>
                        <a:pt x="230" y="103"/>
                      </a:lnTo>
                      <a:lnTo>
                        <a:pt x="212" y="124"/>
                      </a:lnTo>
                      <a:lnTo>
                        <a:pt x="194" y="148"/>
                      </a:lnTo>
                      <a:lnTo>
                        <a:pt x="176" y="173"/>
                      </a:lnTo>
                      <a:lnTo>
                        <a:pt x="159" y="200"/>
                      </a:lnTo>
                      <a:lnTo>
                        <a:pt x="143" y="227"/>
                      </a:lnTo>
                      <a:lnTo>
                        <a:pt x="128" y="258"/>
                      </a:lnTo>
                      <a:lnTo>
                        <a:pt x="113" y="287"/>
                      </a:lnTo>
                      <a:lnTo>
                        <a:pt x="97" y="319"/>
                      </a:lnTo>
                      <a:lnTo>
                        <a:pt x="84" y="352"/>
                      </a:lnTo>
                      <a:lnTo>
                        <a:pt x="70" y="384"/>
                      </a:lnTo>
                      <a:lnTo>
                        <a:pt x="59" y="418"/>
                      </a:lnTo>
                      <a:lnTo>
                        <a:pt x="47" y="452"/>
                      </a:lnTo>
                      <a:lnTo>
                        <a:pt x="38" y="485"/>
                      </a:lnTo>
                      <a:lnTo>
                        <a:pt x="28" y="519"/>
                      </a:lnTo>
                      <a:lnTo>
                        <a:pt x="21" y="554"/>
                      </a:lnTo>
                      <a:lnTo>
                        <a:pt x="14" y="586"/>
                      </a:lnTo>
                      <a:lnTo>
                        <a:pt x="8" y="620"/>
                      </a:lnTo>
                      <a:lnTo>
                        <a:pt x="4" y="652"/>
                      </a:lnTo>
                      <a:lnTo>
                        <a:pt x="1" y="683"/>
                      </a:lnTo>
                      <a:lnTo>
                        <a:pt x="0" y="714"/>
                      </a:lnTo>
                      <a:lnTo>
                        <a:pt x="0" y="744"/>
                      </a:lnTo>
                      <a:lnTo>
                        <a:pt x="0" y="771"/>
                      </a:lnTo>
                      <a:lnTo>
                        <a:pt x="2" y="798"/>
                      </a:lnTo>
                      <a:lnTo>
                        <a:pt x="4" y="823"/>
                      </a:lnTo>
                      <a:lnTo>
                        <a:pt x="9" y="848"/>
                      </a:lnTo>
                      <a:lnTo>
                        <a:pt x="15" y="870"/>
                      </a:lnTo>
                      <a:lnTo>
                        <a:pt x="22" y="889"/>
                      </a:lnTo>
                      <a:lnTo>
                        <a:pt x="29" y="907"/>
                      </a:lnTo>
                      <a:lnTo>
                        <a:pt x="40" y="923"/>
                      </a:lnTo>
                      <a:lnTo>
                        <a:pt x="49" y="938"/>
                      </a:lnTo>
                      <a:lnTo>
                        <a:pt x="60" y="949"/>
                      </a:lnTo>
                      <a:lnTo>
                        <a:pt x="73" y="958"/>
                      </a:lnTo>
                      <a:lnTo>
                        <a:pt x="85" y="965"/>
                      </a:lnTo>
                      <a:lnTo>
                        <a:pt x="99" y="970"/>
                      </a:lnTo>
                      <a:lnTo>
                        <a:pt x="114" y="972"/>
                      </a:lnTo>
                      <a:lnTo>
                        <a:pt x="130" y="974"/>
                      </a:lnTo>
                      <a:lnTo>
                        <a:pt x="145" y="970"/>
                      </a:lnTo>
                      <a:lnTo>
                        <a:pt x="161" y="965"/>
                      </a:lnTo>
                      <a:lnTo>
                        <a:pt x="179" y="959"/>
                      </a:lnTo>
                      <a:lnTo>
                        <a:pt x="196" y="949"/>
                      </a:lnTo>
                      <a:lnTo>
                        <a:pt x="213" y="938"/>
                      </a:lnTo>
                      <a:lnTo>
                        <a:pt x="231" y="924"/>
                      </a:lnTo>
                      <a:lnTo>
                        <a:pt x="250" y="908"/>
                      </a:lnTo>
                      <a:lnTo>
                        <a:pt x="268" y="890"/>
                      </a:lnTo>
                      <a:lnTo>
                        <a:pt x="285" y="870"/>
                      </a:lnTo>
                      <a:lnTo>
                        <a:pt x="303" y="849"/>
                      </a:lnTo>
                      <a:lnTo>
                        <a:pt x="321" y="825"/>
                      </a:lnTo>
                      <a:lnTo>
                        <a:pt x="339" y="800"/>
                      </a:lnTo>
                      <a:lnTo>
                        <a:pt x="356" y="773"/>
                      </a:lnTo>
                      <a:lnTo>
                        <a:pt x="372" y="746"/>
                      </a:lnTo>
                      <a:lnTo>
                        <a:pt x="388" y="715"/>
                      </a:lnTo>
                      <a:lnTo>
                        <a:pt x="403" y="686"/>
                      </a:lnTo>
                      <a:lnTo>
                        <a:pt x="419" y="654"/>
                      </a:lnTo>
                      <a:lnTo>
                        <a:pt x="431" y="621"/>
                      </a:lnTo>
                      <a:lnTo>
                        <a:pt x="445" y="589"/>
                      </a:lnTo>
                      <a:lnTo>
                        <a:pt x="457" y="55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361080" y="3929040"/>
                  <a:ext cx="493560" cy="908640"/>
                </a:xfrm>
                <a:custGeom>
                  <a:avLst/>
                  <a:gdLst/>
                  <a:ahLst/>
                  <a:rect l="l" t="t" r="r" b="b"/>
                  <a:pathLst>
                    <a:path w="544" h="991">
                      <a:moveTo>
                        <a:pt x="544" y="48"/>
                      </a:moveTo>
                      <a:lnTo>
                        <a:pt x="494" y="44"/>
                      </a:lnTo>
                      <a:lnTo>
                        <a:pt x="443" y="54"/>
                      </a:lnTo>
                      <a:lnTo>
                        <a:pt x="403" y="95"/>
                      </a:lnTo>
                      <a:lnTo>
                        <a:pt x="343" y="139"/>
                      </a:lnTo>
                      <a:lnTo>
                        <a:pt x="315" y="180"/>
                      </a:lnTo>
                      <a:lnTo>
                        <a:pt x="284" y="223"/>
                      </a:lnTo>
                      <a:lnTo>
                        <a:pt x="249" y="296"/>
                      </a:lnTo>
                      <a:lnTo>
                        <a:pt x="223" y="362"/>
                      </a:lnTo>
                      <a:lnTo>
                        <a:pt x="189" y="432"/>
                      </a:lnTo>
                      <a:lnTo>
                        <a:pt x="167" y="494"/>
                      </a:lnTo>
                      <a:lnTo>
                        <a:pt x="139" y="598"/>
                      </a:lnTo>
                      <a:lnTo>
                        <a:pt x="126" y="686"/>
                      </a:lnTo>
                      <a:lnTo>
                        <a:pt x="116" y="762"/>
                      </a:lnTo>
                      <a:lnTo>
                        <a:pt x="113" y="831"/>
                      </a:lnTo>
                      <a:lnTo>
                        <a:pt x="132" y="913"/>
                      </a:lnTo>
                      <a:lnTo>
                        <a:pt x="145" y="957"/>
                      </a:lnTo>
                      <a:lnTo>
                        <a:pt x="180" y="991"/>
                      </a:lnTo>
                      <a:lnTo>
                        <a:pt x="38" y="925"/>
                      </a:lnTo>
                      <a:lnTo>
                        <a:pt x="9" y="863"/>
                      </a:lnTo>
                      <a:lnTo>
                        <a:pt x="0" y="812"/>
                      </a:lnTo>
                      <a:lnTo>
                        <a:pt x="3" y="737"/>
                      </a:lnTo>
                      <a:lnTo>
                        <a:pt x="3" y="649"/>
                      </a:lnTo>
                      <a:lnTo>
                        <a:pt x="19" y="548"/>
                      </a:lnTo>
                      <a:lnTo>
                        <a:pt x="44" y="466"/>
                      </a:lnTo>
                      <a:lnTo>
                        <a:pt x="79" y="356"/>
                      </a:lnTo>
                      <a:lnTo>
                        <a:pt x="132" y="233"/>
                      </a:lnTo>
                      <a:lnTo>
                        <a:pt x="193" y="142"/>
                      </a:lnTo>
                      <a:lnTo>
                        <a:pt x="258" y="64"/>
                      </a:lnTo>
                      <a:lnTo>
                        <a:pt x="293" y="35"/>
                      </a:lnTo>
                      <a:lnTo>
                        <a:pt x="343" y="6"/>
                      </a:lnTo>
                      <a:lnTo>
                        <a:pt x="368" y="0"/>
                      </a:lnTo>
                      <a:lnTo>
                        <a:pt x="544" y="48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9624240" y="4316400"/>
                  <a:ext cx="110520" cy="194400"/>
                </a:xfrm>
                <a:custGeom>
                  <a:avLst/>
                  <a:gdLst/>
                  <a:ahLst/>
                  <a:rect l="l" t="t" r="r" b="b"/>
                  <a:pathLst>
                    <a:path w="123" h="212">
                      <a:moveTo>
                        <a:pt x="111" y="123"/>
                      </a:moveTo>
                      <a:lnTo>
                        <a:pt x="116" y="105"/>
                      </a:lnTo>
                      <a:lnTo>
                        <a:pt x="121" y="86"/>
                      </a:lnTo>
                      <a:lnTo>
                        <a:pt x="123" y="69"/>
                      </a:lnTo>
                      <a:lnTo>
                        <a:pt x="123" y="52"/>
                      </a:lnTo>
                      <a:lnTo>
                        <a:pt x="121" y="37"/>
                      </a:lnTo>
                      <a:lnTo>
                        <a:pt x="117" y="24"/>
                      </a:lnTo>
                      <a:lnTo>
                        <a:pt x="112" y="13"/>
                      </a:lnTo>
                      <a:lnTo>
                        <a:pt x="106" y="7"/>
                      </a:lnTo>
                      <a:lnTo>
                        <a:pt x="97" y="1"/>
                      </a:lnTo>
                      <a:lnTo>
                        <a:pt x="88" y="0"/>
                      </a:lnTo>
                      <a:lnTo>
                        <a:pt x="78" y="1"/>
                      </a:lnTo>
                      <a:lnTo>
                        <a:pt x="68" y="7"/>
                      </a:lnTo>
                      <a:lnTo>
                        <a:pt x="57" y="15"/>
                      </a:lnTo>
                      <a:lnTo>
                        <a:pt x="46" y="26"/>
                      </a:lnTo>
                      <a:lnTo>
                        <a:pt x="36" y="40"/>
                      </a:lnTo>
                      <a:lnTo>
                        <a:pt x="26" y="54"/>
                      </a:lnTo>
                      <a:lnTo>
                        <a:pt x="19" y="71"/>
                      </a:lnTo>
                      <a:lnTo>
                        <a:pt x="12" y="89"/>
                      </a:lnTo>
                      <a:lnTo>
                        <a:pt x="6" y="107"/>
                      </a:lnTo>
                      <a:lnTo>
                        <a:pt x="2" y="126"/>
                      </a:lnTo>
                      <a:lnTo>
                        <a:pt x="0" y="143"/>
                      </a:lnTo>
                      <a:lnTo>
                        <a:pt x="0" y="160"/>
                      </a:lnTo>
                      <a:lnTo>
                        <a:pt x="2" y="175"/>
                      </a:lnTo>
                      <a:lnTo>
                        <a:pt x="5" y="189"/>
                      </a:lnTo>
                      <a:lnTo>
                        <a:pt x="11" y="199"/>
                      </a:lnTo>
                      <a:lnTo>
                        <a:pt x="17" y="206"/>
                      </a:lnTo>
                      <a:lnTo>
                        <a:pt x="25" y="211"/>
                      </a:lnTo>
                      <a:lnTo>
                        <a:pt x="35" y="212"/>
                      </a:lnTo>
                      <a:lnTo>
                        <a:pt x="44" y="211"/>
                      </a:lnTo>
                      <a:lnTo>
                        <a:pt x="55" y="206"/>
                      </a:lnTo>
                      <a:lnTo>
                        <a:pt x="66" y="197"/>
                      </a:lnTo>
                      <a:lnTo>
                        <a:pt x="76" y="187"/>
                      </a:lnTo>
                      <a:lnTo>
                        <a:pt x="87" y="173"/>
                      </a:lnTo>
                      <a:lnTo>
                        <a:pt x="96" y="158"/>
                      </a:lnTo>
                      <a:lnTo>
                        <a:pt x="104" y="141"/>
                      </a:lnTo>
                      <a:lnTo>
                        <a:pt x="111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7497720" y="4066200"/>
                <a:ext cx="606960" cy="903600"/>
                <a:chOff x="7497720" y="4066200"/>
                <a:chExt cx="606960" cy="9036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497720" y="4106520"/>
                  <a:ext cx="522360" cy="863280"/>
                </a:xfrm>
                <a:custGeom>
                  <a:avLst/>
                  <a:gdLst/>
                  <a:ahLst/>
                  <a:rect l="l" t="t" r="r" b="b"/>
                  <a:pathLst>
                    <a:path w="575" h="940">
                      <a:moveTo>
                        <a:pt x="478" y="381"/>
                      </a:moveTo>
                      <a:lnTo>
                        <a:pt x="463" y="348"/>
                      </a:lnTo>
                      <a:lnTo>
                        <a:pt x="446" y="317"/>
                      </a:lnTo>
                      <a:lnTo>
                        <a:pt x="429" y="287"/>
                      </a:lnTo>
                      <a:lnTo>
                        <a:pt x="411" y="257"/>
                      </a:lnTo>
                      <a:lnTo>
                        <a:pt x="393" y="228"/>
                      </a:lnTo>
                      <a:lnTo>
                        <a:pt x="374" y="200"/>
                      </a:lnTo>
                      <a:lnTo>
                        <a:pt x="355" y="174"/>
                      </a:lnTo>
                      <a:lnTo>
                        <a:pt x="335" y="149"/>
                      </a:lnTo>
                      <a:lnTo>
                        <a:pt x="315" y="126"/>
                      </a:lnTo>
                      <a:lnTo>
                        <a:pt x="295" y="106"/>
                      </a:lnTo>
                      <a:lnTo>
                        <a:pt x="275" y="86"/>
                      </a:lnTo>
                      <a:lnTo>
                        <a:pt x="256" y="68"/>
                      </a:lnTo>
                      <a:lnTo>
                        <a:pt x="236" y="52"/>
                      </a:lnTo>
                      <a:lnTo>
                        <a:pt x="215" y="37"/>
                      </a:lnTo>
                      <a:lnTo>
                        <a:pt x="196" y="25"/>
                      </a:lnTo>
                      <a:lnTo>
                        <a:pt x="177" y="17"/>
                      </a:lnTo>
                      <a:lnTo>
                        <a:pt x="160" y="8"/>
                      </a:lnTo>
                      <a:lnTo>
                        <a:pt x="141" y="4"/>
                      </a:lnTo>
                      <a:lnTo>
                        <a:pt x="124" y="0"/>
                      </a:lnTo>
                      <a:lnTo>
                        <a:pt x="109" y="0"/>
                      </a:lnTo>
                      <a:lnTo>
                        <a:pt x="94" y="2"/>
                      </a:lnTo>
                      <a:lnTo>
                        <a:pt x="79" y="5"/>
                      </a:lnTo>
                      <a:lnTo>
                        <a:pt x="65" y="11"/>
                      </a:lnTo>
                      <a:lnTo>
                        <a:pt x="54" y="21"/>
                      </a:lnTo>
                      <a:lnTo>
                        <a:pt x="42" y="31"/>
                      </a:lnTo>
                      <a:lnTo>
                        <a:pt x="32" y="43"/>
                      </a:lnTo>
                      <a:lnTo>
                        <a:pt x="25" y="59"/>
                      </a:lnTo>
                      <a:lnTo>
                        <a:pt x="16" y="75"/>
                      </a:lnTo>
                      <a:lnTo>
                        <a:pt x="11" y="94"/>
                      </a:lnTo>
                      <a:lnTo>
                        <a:pt x="6" y="114"/>
                      </a:lnTo>
                      <a:lnTo>
                        <a:pt x="3" y="136"/>
                      </a:lnTo>
                      <a:lnTo>
                        <a:pt x="0" y="162"/>
                      </a:lnTo>
                      <a:lnTo>
                        <a:pt x="1" y="187"/>
                      </a:lnTo>
                      <a:lnTo>
                        <a:pt x="1" y="214"/>
                      </a:lnTo>
                      <a:lnTo>
                        <a:pt x="4" y="241"/>
                      </a:lnTo>
                      <a:lnTo>
                        <a:pt x="7" y="271"/>
                      </a:lnTo>
                      <a:lnTo>
                        <a:pt x="11" y="300"/>
                      </a:lnTo>
                      <a:lnTo>
                        <a:pt x="18" y="332"/>
                      </a:lnTo>
                      <a:lnTo>
                        <a:pt x="25" y="363"/>
                      </a:lnTo>
                      <a:lnTo>
                        <a:pt x="34" y="396"/>
                      </a:lnTo>
                      <a:lnTo>
                        <a:pt x="45" y="428"/>
                      </a:lnTo>
                      <a:lnTo>
                        <a:pt x="56" y="461"/>
                      </a:lnTo>
                      <a:lnTo>
                        <a:pt x="68" y="494"/>
                      </a:lnTo>
                      <a:lnTo>
                        <a:pt x="81" y="526"/>
                      </a:lnTo>
                      <a:lnTo>
                        <a:pt x="97" y="559"/>
                      </a:lnTo>
                      <a:lnTo>
                        <a:pt x="112" y="592"/>
                      </a:lnTo>
                      <a:lnTo>
                        <a:pt x="129" y="622"/>
                      </a:lnTo>
                      <a:lnTo>
                        <a:pt x="146" y="653"/>
                      </a:lnTo>
                      <a:lnTo>
                        <a:pt x="164" y="683"/>
                      </a:lnTo>
                      <a:lnTo>
                        <a:pt x="182" y="711"/>
                      </a:lnTo>
                      <a:lnTo>
                        <a:pt x="201" y="740"/>
                      </a:lnTo>
                      <a:lnTo>
                        <a:pt x="220" y="765"/>
                      </a:lnTo>
                      <a:lnTo>
                        <a:pt x="240" y="791"/>
                      </a:lnTo>
                      <a:lnTo>
                        <a:pt x="260" y="814"/>
                      </a:lnTo>
                      <a:lnTo>
                        <a:pt x="280" y="834"/>
                      </a:lnTo>
                      <a:lnTo>
                        <a:pt x="300" y="854"/>
                      </a:lnTo>
                      <a:lnTo>
                        <a:pt x="319" y="872"/>
                      </a:lnTo>
                      <a:lnTo>
                        <a:pt x="339" y="888"/>
                      </a:lnTo>
                      <a:lnTo>
                        <a:pt x="359" y="903"/>
                      </a:lnTo>
                      <a:lnTo>
                        <a:pt x="378" y="915"/>
                      </a:lnTo>
                      <a:lnTo>
                        <a:pt x="398" y="923"/>
                      </a:lnTo>
                      <a:lnTo>
                        <a:pt x="414" y="931"/>
                      </a:lnTo>
                      <a:lnTo>
                        <a:pt x="434" y="936"/>
                      </a:lnTo>
                      <a:lnTo>
                        <a:pt x="450" y="940"/>
                      </a:lnTo>
                      <a:lnTo>
                        <a:pt x="466" y="940"/>
                      </a:lnTo>
                      <a:lnTo>
                        <a:pt x="481" y="938"/>
                      </a:lnTo>
                      <a:lnTo>
                        <a:pt x="496" y="935"/>
                      </a:lnTo>
                      <a:lnTo>
                        <a:pt x="510" y="928"/>
                      </a:lnTo>
                      <a:lnTo>
                        <a:pt x="521" y="919"/>
                      </a:lnTo>
                      <a:lnTo>
                        <a:pt x="533" y="909"/>
                      </a:lnTo>
                      <a:lnTo>
                        <a:pt x="543" y="897"/>
                      </a:lnTo>
                      <a:lnTo>
                        <a:pt x="550" y="881"/>
                      </a:lnTo>
                      <a:lnTo>
                        <a:pt x="558" y="865"/>
                      </a:lnTo>
                      <a:lnTo>
                        <a:pt x="564" y="846"/>
                      </a:lnTo>
                      <a:lnTo>
                        <a:pt x="569" y="826"/>
                      </a:lnTo>
                      <a:lnTo>
                        <a:pt x="572" y="803"/>
                      </a:lnTo>
                      <a:lnTo>
                        <a:pt x="575" y="778"/>
                      </a:lnTo>
                      <a:lnTo>
                        <a:pt x="574" y="753"/>
                      </a:lnTo>
                      <a:lnTo>
                        <a:pt x="574" y="726"/>
                      </a:lnTo>
                      <a:lnTo>
                        <a:pt x="571" y="699"/>
                      </a:lnTo>
                      <a:lnTo>
                        <a:pt x="568" y="669"/>
                      </a:lnTo>
                      <a:lnTo>
                        <a:pt x="564" y="639"/>
                      </a:lnTo>
                      <a:lnTo>
                        <a:pt x="557" y="608"/>
                      </a:lnTo>
                      <a:lnTo>
                        <a:pt x="550" y="577"/>
                      </a:lnTo>
                      <a:lnTo>
                        <a:pt x="540" y="544"/>
                      </a:lnTo>
                      <a:lnTo>
                        <a:pt x="530" y="512"/>
                      </a:lnTo>
                      <a:lnTo>
                        <a:pt x="519" y="478"/>
                      </a:lnTo>
                      <a:lnTo>
                        <a:pt x="507" y="446"/>
                      </a:lnTo>
                      <a:lnTo>
                        <a:pt x="494" y="414"/>
                      </a:lnTo>
                      <a:lnTo>
                        <a:pt x="478" y="38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540560" y="4066200"/>
                  <a:ext cx="564120" cy="887040"/>
                </a:xfrm>
                <a:custGeom>
                  <a:avLst/>
                  <a:gdLst/>
                  <a:ahLst/>
                  <a:rect l="l" t="t" r="r" b="b"/>
                  <a:pathLst>
                    <a:path w="622" h="967">
                      <a:moveTo>
                        <a:pt x="0" y="66"/>
                      </a:moveTo>
                      <a:lnTo>
                        <a:pt x="51" y="60"/>
                      </a:lnTo>
                      <a:lnTo>
                        <a:pt x="101" y="60"/>
                      </a:lnTo>
                      <a:lnTo>
                        <a:pt x="148" y="95"/>
                      </a:lnTo>
                      <a:lnTo>
                        <a:pt x="211" y="139"/>
                      </a:lnTo>
                      <a:lnTo>
                        <a:pt x="246" y="174"/>
                      </a:lnTo>
                      <a:lnTo>
                        <a:pt x="280" y="214"/>
                      </a:lnTo>
                      <a:lnTo>
                        <a:pt x="321" y="284"/>
                      </a:lnTo>
                      <a:lnTo>
                        <a:pt x="356" y="343"/>
                      </a:lnTo>
                      <a:lnTo>
                        <a:pt x="396" y="413"/>
                      </a:lnTo>
                      <a:lnTo>
                        <a:pt x="425" y="476"/>
                      </a:lnTo>
                      <a:lnTo>
                        <a:pt x="463" y="570"/>
                      </a:lnTo>
                      <a:lnTo>
                        <a:pt x="484" y="659"/>
                      </a:lnTo>
                      <a:lnTo>
                        <a:pt x="503" y="734"/>
                      </a:lnTo>
                      <a:lnTo>
                        <a:pt x="512" y="803"/>
                      </a:lnTo>
                      <a:lnTo>
                        <a:pt x="503" y="885"/>
                      </a:lnTo>
                      <a:lnTo>
                        <a:pt x="493" y="929"/>
                      </a:lnTo>
                      <a:lnTo>
                        <a:pt x="466" y="967"/>
                      </a:lnTo>
                      <a:lnTo>
                        <a:pt x="597" y="889"/>
                      </a:lnTo>
                      <a:lnTo>
                        <a:pt x="619" y="825"/>
                      </a:lnTo>
                      <a:lnTo>
                        <a:pt x="622" y="772"/>
                      </a:lnTo>
                      <a:lnTo>
                        <a:pt x="613" y="699"/>
                      </a:lnTo>
                      <a:lnTo>
                        <a:pt x="603" y="611"/>
                      </a:lnTo>
                      <a:lnTo>
                        <a:pt x="575" y="511"/>
                      </a:lnTo>
                      <a:lnTo>
                        <a:pt x="544" y="428"/>
                      </a:lnTo>
                      <a:lnTo>
                        <a:pt x="497" y="324"/>
                      </a:lnTo>
                      <a:lnTo>
                        <a:pt x="431" y="208"/>
                      </a:lnTo>
                      <a:lnTo>
                        <a:pt x="362" y="123"/>
                      </a:lnTo>
                      <a:lnTo>
                        <a:pt x="289" y="51"/>
                      </a:lnTo>
                      <a:lnTo>
                        <a:pt x="252" y="29"/>
                      </a:lnTo>
                      <a:lnTo>
                        <a:pt x="201" y="7"/>
                      </a:lnTo>
                      <a:lnTo>
                        <a:pt x="176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689600" y="4455360"/>
                  <a:ext cx="124920" cy="189000"/>
                </a:xfrm>
                <a:custGeom>
                  <a:avLst/>
                  <a:gdLst/>
                  <a:ahLst/>
                  <a:rect l="l" t="t" r="r" b="b"/>
                  <a:pathLst>
                    <a:path w="138" h="205">
                      <a:moveTo>
                        <a:pt x="119" y="79"/>
                      </a:moveTo>
                      <a:lnTo>
                        <a:pt x="110" y="62"/>
                      </a:lnTo>
                      <a:lnTo>
                        <a:pt x="100" y="46"/>
                      </a:lnTo>
                      <a:lnTo>
                        <a:pt x="89" y="33"/>
                      </a:lnTo>
                      <a:lnTo>
                        <a:pt x="77" y="20"/>
                      </a:lnTo>
                      <a:lnTo>
                        <a:pt x="65" y="11"/>
                      </a:lnTo>
                      <a:lnTo>
                        <a:pt x="53" y="4"/>
                      </a:lnTo>
                      <a:lnTo>
                        <a:pt x="42" y="0"/>
                      </a:lnTo>
                      <a:lnTo>
                        <a:pt x="32" y="0"/>
                      </a:lnTo>
                      <a:lnTo>
                        <a:pt x="22" y="2"/>
                      </a:lnTo>
                      <a:lnTo>
                        <a:pt x="14" y="7"/>
                      </a:lnTo>
                      <a:lnTo>
                        <a:pt x="8" y="16"/>
                      </a:lnTo>
                      <a:lnTo>
                        <a:pt x="3" y="27"/>
                      </a:lnTo>
                      <a:lnTo>
                        <a:pt x="1" y="40"/>
                      </a:lnTo>
                      <a:lnTo>
                        <a:pt x="0" y="56"/>
                      </a:lnTo>
                      <a:lnTo>
                        <a:pt x="2" y="73"/>
                      </a:lnTo>
                      <a:lnTo>
                        <a:pt x="6" y="90"/>
                      </a:lnTo>
                      <a:lnTo>
                        <a:pt x="12" y="108"/>
                      </a:lnTo>
                      <a:lnTo>
                        <a:pt x="19" y="126"/>
                      </a:lnTo>
                      <a:lnTo>
                        <a:pt x="28" y="143"/>
                      </a:lnTo>
                      <a:lnTo>
                        <a:pt x="38" y="159"/>
                      </a:lnTo>
                      <a:lnTo>
                        <a:pt x="49" y="172"/>
                      </a:lnTo>
                      <a:lnTo>
                        <a:pt x="61" y="185"/>
                      </a:lnTo>
                      <a:lnTo>
                        <a:pt x="73" y="194"/>
                      </a:lnTo>
                      <a:lnTo>
                        <a:pt x="85" y="201"/>
                      </a:lnTo>
                      <a:lnTo>
                        <a:pt x="97" y="205"/>
                      </a:lnTo>
                      <a:lnTo>
                        <a:pt x="106" y="205"/>
                      </a:lnTo>
                      <a:lnTo>
                        <a:pt x="116" y="203"/>
                      </a:lnTo>
                      <a:lnTo>
                        <a:pt x="124" y="198"/>
                      </a:lnTo>
                      <a:lnTo>
                        <a:pt x="130" y="189"/>
                      </a:lnTo>
                      <a:lnTo>
                        <a:pt x="135" y="178"/>
                      </a:lnTo>
                      <a:lnTo>
                        <a:pt x="137" y="165"/>
                      </a:lnTo>
                      <a:lnTo>
                        <a:pt x="138" y="149"/>
                      </a:lnTo>
                      <a:lnTo>
                        <a:pt x="136" y="132"/>
                      </a:lnTo>
                      <a:lnTo>
                        <a:pt x="133" y="115"/>
                      </a:lnTo>
                      <a:lnTo>
                        <a:pt x="126" y="97"/>
                      </a:lnTo>
                      <a:lnTo>
                        <a:pt x="119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afd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38AD-FEB4-463E-B255-4D51DFC3E99E}" type="slidenum">
              <a:t>2</a:t>
            </a:fld>
          </a:p>
        </p:txBody>
      </p:sp>
    </p:spTree>
  </p:cSld>
  <p:transition spd="slow"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380880" y="609480"/>
            <a:ext cx="9375840" cy="5715000"/>
          </a:xfrm>
          <a:prstGeom prst="roundRect">
            <a:avLst>
              <a:gd name="adj" fmla="val 3602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57280" y="-30960"/>
            <a:ext cx="698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nsulated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G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ate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B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ipolar </a:t>
            </a:r>
            <a:r>
              <a:rPr b="1" lang="es-ES_tradnl" sz="34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es-ES_tradnl" sz="3400" spc="-1" strike="noStrike">
                <a:solidFill>
                  <a:srgbClr val="ffffff"/>
                </a:solidFill>
                <a:latin typeface="Arial"/>
              </a:rPr>
              <a:t>ransistor</a:t>
            </a:r>
            <a:endParaRPr b="0" lang="en-US" sz="3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28560" y="1670040"/>
            <a:ext cx="3659400" cy="2486160"/>
          </a:xfrm>
          <a:prstGeom prst="rect">
            <a:avLst/>
          </a:prstGeom>
          <a:ln w="0">
            <a:noFill/>
          </a:ln>
        </p:spPr>
      </p:pic>
      <p:pic>
        <p:nvPicPr>
          <p:cNvPr id="993" name="igbt" descr=""/>
          <p:cNvPicPr/>
          <p:nvPr/>
        </p:nvPicPr>
        <p:blipFill>
          <a:blip r:embed="rId2"/>
          <a:srcRect l="15437" t="3063" r="9302" b="45430"/>
          <a:stretch/>
        </p:blipFill>
        <p:spPr>
          <a:xfrm>
            <a:off x="4651200" y="2679840"/>
            <a:ext cx="4937400" cy="3443040"/>
          </a:xfrm>
          <a:prstGeom prst="rect">
            <a:avLst/>
          </a:prstGeom>
          <a:ln w="0">
            <a:noFill/>
          </a:ln>
        </p:spPr>
      </p:pic>
      <p:pic>
        <p:nvPicPr>
          <p:cNvPr id="994" name="igbt" descr=""/>
          <p:cNvPicPr/>
          <p:nvPr/>
        </p:nvPicPr>
        <p:blipFill>
          <a:blip r:embed="rId3"/>
          <a:srcRect l="-4814" t="59180" r="64213" b="13109"/>
          <a:stretch/>
        </p:blipFill>
        <p:spPr>
          <a:xfrm>
            <a:off x="550800" y="4253040"/>
            <a:ext cx="2664000" cy="1852560"/>
          </a:xfrm>
          <a:prstGeom prst="rect">
            <a:avLst/>
          </a:prstGeom>
          <a:ln w="0">
            <a:noFill/>
          </a:ln>
        </p:spPr>
      </p:pic>
      <p:pic>
        <p:nvPicPr>
          <p:cNvPr id="995" name="igbt" descr=""/>
          <p:cNvPicPr/>
          <p:nvPr/>
        </p:nvPicPr>
        <p:blipFill>
          <a:blip r:embed="rId4">
            <a:biLevel thresh="50000"/>
            <a:lum contrast="48000"/>
          </a:blip>
          <a:srcRect l="42179" t="59180" r="-2480" b="13109"/>
          <a:stretch/>
        </p:blipFill>
        <p:spPr>
          <a:xfrm>
            <a:off x="5786280" y="731880"/>
            <a:ext cx="3956040" cy="185256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24080" y="684720"/>
            <a:ext cx="569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ntrolado por tens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onduce elevadas corrientes con Vf meno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indent="19044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Tamaño IGBT = 1.2 BJT = 2.2 MOSFE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1E5B-3A5B-4D12-8325-9AD763857E84}" type="slidenum">
              <a:t>20</a:t>
            </a:fld>
          </a:p>
        </p:txBody>
      </p:sp>
    </p:spTree>
  </p:cSld>
  <p:transition spd="slow">
    <p:pull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533520" y="0"/>
            <a:ext cx="893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Componentes Semiconductores de Potencia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1"/>
          <a:stretch/>
        </p:blipFill>
        <p:spPr>
          <a:xfrm>
            <a:off x="1353960" y="603360"/>
            <a:ext cx="7409160" cy="55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D2FC-10A9-43AA-93B3-3331C8387766}" type="slidenum">
              <a:t>21</a:t>
            </a:fld>
          </a:p>
        </p:txBody>
      </p:sp>
    </p:spTree>
  </p:cSld>
  <p:transition spd="slow">
    <p:pull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422280" y="1613520"/>
            <a:ext cx="906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904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Es la parte de la Electrónica encargada del estudio de dispositivos, circuitos, sistemas y procedimientos para el </a:t>
            </a: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procesamiento, control y conversión</a:t>
            </a:r>
            <a:r>
              <a:rPr b="1" lang="es-ES_tradnl" sz="3200" spc="-1" strike="noStrike">
                <a:solidFill>
                  <a:srgbClr val="fafd00"/>
                </a:solidFill>
                <a:latin typeface="Arial"/>
              </a:rPr>
              <a:t> de la energía eléctrica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00240" y="4434480"/>
            <a:ext cx="75103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plicación del estado sólido para el control y conversión de la energía eléctrica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2517840" y="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1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feb9"/>
                </a:solidFill>
                <a:effectLst>
                  <a:outerShdw dist="64600" dir="4725161" blurRad="0" rotWithShape="0">
                    <a:srgbClr val="868686"/>
                  </a:outerShdw>
                </a:effectLst>
                <a:latin typeface="Impact"/>
              </a:rPr>
              <a:t>Electrónica de Potenc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cfeb9"/>
              </a:solidFill>
              <a:effectLst>
                <a:outerShdw dist="64600" dir="4725161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D315-2770-4E01-AD68-C46C48046DE2}" type="slidenum">
              <a:t>22</a:t>
            </a:fld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5840" y="977760"/>
            <a:ext cx="9324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baja potencia (&lt; 10 kW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Domésticas 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Equipos de Oficina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Industriales y comercial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media potencia (10-1000 kW, low voltag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Industrial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elecomunicacion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Accionadores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fd00"/>
                </a:solidFill>
                <a:latin typeface="Times New Roman"/>
              </a:rPr>
              <a:t>Aplicaciones de alta potencia (&gt; 1000 kW, high voltage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racción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afd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afd00"/>
                </a:solidFill>
                <a:latin typeface="Times New Roman"/>
              </a:rPr>
              <a:t>Transmisión</a:t>
            </a:r>
            <a:endParaRPr b="0" lang="en-US" sz="2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82440" y="38160"/>
            <a:ext cx="10144080" cy="920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ffffff"/>
                </a:solidFill>
                <a:latin typeface="Arial"/>
              </a:rPr>
              <a:t>Aplicaciones de los Equipos Electrónicos de Potencia</a:t>
            </a:r>
            <a:endParaRPr b="0" lang="en-US" sz="29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59080" y="3263760"/>
            <a:ext cx="1252800" cy="13287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832360" y="3244680"/>
            <a:ext cx="1347840" cy="140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567240" y="5194440"/>
            <a:ext cx="1536480" cy="135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62760" y="1359000"/>
            <a:ext cx="16621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542360" y="3340080"/>
            <a:ext cx="1420560" cy="1011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978680" y="1282680"/>
            <a:ext cx="1727280" cy="118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248520" y="5757840"/>
            <a:ext cx="9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86640" y="5319720"/>
            <a:ext cx="323640" cy="1022400"/>
          </a:xfrm>
          <a:custGeom>
            <a:avLst/>
            <a:gdLst/>
            <a:ahLst/>
            <a:rect l="l" t="t" r="r" b="b"/>
            <a:pathLst>
              <a:path w="204" h="644">
                <a:moveTo>
                  <a:pt x="145" y="372"/>
                </a:moveTo>
                <a:lnTo>
                  <a:pt x="145" y="377"/>
                </a:lnTo>
                <a:lnTo>
                  <a:pt x="148" y="386"/>
                </a:lnTo>
                <a:lnTo>
                  <a:pt x="151" y="398"/>
                </a:lnTo>
                <a:lnTo>
                  <a:pt x="154" y="415"/>
                </a:lnTo>
                <a:lnTo>
                  <a:pt x="164" y="459"/>
                </a:lnTo>
                <a:lnTo>
                  <a:pt x="176" y="508"/>
                </a:lnTo>
                <a:lnTo>
                  <a:pt x="186" y="557"/>
                </a:lnTo>
                <a:lnTo>
                  <a:pt x="195" y="601"/>
                </a:lnTo>
                <a:lnTo>
                  <a:pt x="198" y="618"/>
                </a:lnTo>
                <a:lnTo>
                  <a:pt x="201" y="633"/>
                </a:lnTo>
                <a:lnTo>
                  <a:pt x="204" y="641"/>
                </a:lnTo>
                <a:lnTo>
                  <a:pt x="204" y="644"/>
                </a:lnTo>
                <a:lnTo>
                  <a:pt x="0" y="644"/>
                </a:lnTo>
                <a:lnTo>
                  <a:pt x="60" y="372"/>
                </a:lnTo>
                <a:lnTo>
                  <a:pt x="73" y="186"/>
                </a:lnTo>
                <a:lnTo>
                  <a:pt x="73" y="180"/>
                </a:lnTo>
                <a:lnTo>
                  <a:pt x="76" y="154"/>
                </a:lnTo>
                <a:lnTo>
                  <a:pt x="76" y="137"/>
                </a:lnTo>
                <a:lnTo>
                  <a:pt x="82" y="0"/>
                </a:lnTo>
                <a:lnTo>
                  <a:pt x="142" y="0"/>
                </a:lnTo>
                <a:lnTo>
                  <a:pt x="145" y="37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11840" y="5918040"/>
            <a:ext cx="274680" cy="424080"/>
          </a:xfrm>
          <a:custGeom>
            <a:avLst/>
            <a:gdLst/>
            <a:ahLst/>
            <a:rect l="l" t="t" r="r" b="b"/>
            <a:pathLst>
              <a:path w="173" h="267">
                <a:moveTo>
                  <a:pt x="173" y="267"/>
                </a:moveTo>
                <a:lnTo>
                  <a:pt x="113" y="0"/>
                </a:lnTo>
                <a:lnTo>
                  <a:pt x="57" y="0"/>
                </a:lnTo>
                <a:lnTo>
                  <a:pt x="0" y="267"/>
                </a:lnTo>
                <a:lnTo>
                  <a:pt x="173" y="2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26320" y="5329080"/>
            <a:ext cx="65160" cy="208080"/>
          </a:xfrm>
          <a:custGeom>
            <a:avLst/>
            <a:gdLst/>
            <a:ahLst/>
            <a:rect l="l" t="t" r="r" b="b"/>
            <a:pathLst>
              <a:path w="41" h="131">
                <a:moveTo>
                  <a:pt x="0" y="131"/>
                </a:moveTo>
                <a:lnTo>
                  <a:pt x="41" y="131"/>
                </a:lnTo>
                <a:lnTo>
                  <a:pt x="41" y="0"/>
                </a:lnTo>
                <a:lnTo>
                  <a:pt x="3" y="0"/>
                </a:lnTo>
                <a:lnTo>
                  <a:pt x="0" y="1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02560" y="5624640"/>
            <a:ext cx="88920" cy="285480"/>
          </a:xfrm>
          <a:custGeom>
            <a:avLst/>
            <a:gdLst/>
            <a:ahLst/>
            <a:rect l="l" t="t" r="r" b="b"/>
            <a:pathLst>
              <a:path w="56" h="180">
                <a:moveTo>
                  <a:pt x="56" y="0"/>
                </a:moveTo>
                <a:lnTo>
                  <a:pt x="56" y="180"/>
                </a:lnTo>
                <a:lnTo>
                  <a:pt x="0" y="180"/>
                </a:lnTo>
                <a:lnTo>
                  <a:pt x="9" y="0"/>
                </a:lnTo>
                <a:lnTo>
                  <a:pt x="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16600" y="540396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3" y="81"/>
                </a:moveTo>
                <a:lnTo>
                  <a:pt x="57" y="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811560" y="5477040"/>
            <a:ext cx="7956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16600" y="5329080"/>
            <a:ext cx="90720" cy="133560"/>
          </a:xfrm>
          <a:custGeom>
            <a:avLst/>
            <a:gdLst/>
            <a:ahLst/>
            <a:rect l="l" t="t" r="r" b="b"/>
            <a:pathLst>
              <a:path w="57" h="84">
                <a:moveTo>
                  <a:pt x="57" y="84"/>
                </a:moveTo>
                <a:lnTo>
                  <a:pt x="0" y="38"/>
                </a:lnTo>
                <a:lnTo>
                  <a:pt x="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821640" y="5328720"/>
            <a:ext cx="8568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837480" y="5324040"/>
            <a:ext cx="698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96080" y="5839920"/>
            <a:ext cx="1047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02560" y="5830920"/>
            <a:ext cx="9828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2560" y="5845320"/>
            <a:ext cx="8388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6720" y="5896080"/>
            <a:ext cx="25200" cy="2196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6"/>
                </a:moveTo>
                <a:lnTo>
                  <a:pt x="13" y="12"/>
                </a:lnTo>
                <a:lnTo>
                  <a:pt x="6" y="14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3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86440" y="5896080"/>
            <a:ext cx="2088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86440" y="5826240"/>
            <a:ext cx="2556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9"/>
                </a:moveTo>
                <a:lnTo>
                  <a:pt x="13" y="12"/>
                </a:lnTo>
                <a:lnTo>
                  <a:pt x="6" y="15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13" y="3"/>
                </a:lnTo>
                <a:lnTo>
                  <a:pt x="16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91400" y="5826240"/>
            <a:ext cx="25200" cy="23760"/>
          </a:xfrm>
          <a:custGeom>
            <a:avLst/>
            <a:gdLst/>
            <a:ahLst/>
            <a:rect l="l" t="t" r="r" b="b"/>
            <a:pathLst>
              <a:path w="16" h="15">
                <a:moveTo>
                  <a:pt x="16" y="6"/>
                </a:moveTo>
                <a:lnTo>
                  <a:pt x="13" y="12"/>
                </a:lnTo>
                <a:lnTo>
                  <a:pt x="7" y="15"/>
                </a:lnTo>
                <a:lnTo>
                  <a:pt x="3" y="12"/>
                </a:lnTo>
                <a:lnTo>
                  <a:pt x="0" y="6"/>
                </a:lnTo>
                <a:lnTo>
                  <a:pt x="7" y="0"/>
                </a:lnTo>
                <a:lnTo>
                  <a:pt x="13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2560" y="583560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02560" y="5840280"/>
            <a:ext cx="93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12000" y="5537160"/>
            <a:ext cx="428760" cy="96840"/>
          </a:xfrm>
          <a:custGeom>
            <a:avLst/>
            <a:gdLst/>
            <a:ahLst/>
            <a:rect l="l" t="t" r="r" b="b"/>
            <a:pathLst>
              <a:path w="270" h="61">
                <a:moveTo>
                  <a:pt x="226" y="52"/>
                </a:moveTo>
                <a:lnTo>
                  <a:pt x="270" y="55"/>
                </a:lnTo>
                <a:lnTo>
                  <a:pt x="270" y="61"/>
                </a:lnTo>
                <a:lnTo>
                  <a:pt x="0" y="55"/>
                </a:lnTo>
                <a:lnTo>
                  <a:pt x="0" y="0"/>
                </a:lnTo>
                <a:lnTo>
                  <a:pt x="226" y="5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5554800"/>
            <a:ext cx="293760" cy="64800"/>
          </a:xfrm>
          <a:custGeom>
            <a:avLst/>
            <a:gdLst/>
            <a:ahLst/>
            <a:rect l="l" t="t" r="r" b="b"/>
            <a:pathLst>
              <a:path w="185" h="41">
                <a:moveTo>
                  <a:pt x="185" y="41"/>
                </a:moveTo>
                <a:lnTo>
                  <a:pt x="3" y="35"/>
                </a:lnTo>
                <a:lnTo>
                  <a:pt x="0" y="0"/>
                </a:lnTo>
                <a:lnTo>
                  <a:pt x="185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12000" y="5541840"/>
            <a:ext cx="353880" cy="77760"/>
          </a:xfrm>
          <a:custGeom>
            <a:avLst/>
            <a:gdLst/>
            <a:ahLst/>
            <a:rect l="l" t="t" r="r" b="b"/>
            <a:pathLst>
              <a:path w="223" h="49">
                <a:moveTo>
                  <a:pt x="223" y="49"/>
                </a:moveTo>
                <a:lnTo>
                  <a:pt x="204" y="49"/>
                </a:lnTo>
                <a:lnTo>
                  <a:pt x="0" y="5"/>
                </a:lnTo>
                <a:lnTo>
                  <a:pt x="0" y="0"/>
                </a:lnTo>
                <a:lnTo>
                  <a:pt x="223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12000" y="5568840"/>
            <a:ext cx="23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2000" y="5554800"/>
            <a:ext cx="98280" cy="60120"/>
          </a:xfrm>
          <a:custGeom>
            <a:avLst/>
            <a:gdLst/>
            <a:ahLst/>
            <a:rect l="l" t="t" r="r" b="b"/>
            <a:pathLst>
              <a:path w="62" h="38">
                <a:moveTo>
                  <a:pt x="0" y="0"/>
                </a:moveTo>
                <a:lnTo>
                  <a:pt x="19" y="35"/>
                </a:lnTo>
                <a:lnTo>
                  <a:pt x="47" y="0"/>
                </a:lnTo>
                <a:lnTo>
                  <a:pt x="62" y="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51600" y="5554800"/>
            <a:ext cx="109440" cy="60120"/>
          </a:xfrm>
          <a:custGeom>
            <a:avLst/>
            <a:gdLst/>
            <a:ahLst/>
            <a:rect l="l" t="t" r="r" b="b"/>
            <a:pathLst>
              <a:path w="69" h="38">
                <a:moveTo>
                  <a:pt x="0" y="35"/>
                </a:moveTo>
                <a:lnTo>
                  <a:pt x="25" y="0"/>
                </a:lnTo>
                <a:lnTo>
                  <a:pt x="31" y="9"/>
                </a:lnTo>
                <a:lnTo>
                  <a:pt x="44" y="38"/>
                </a:lnTo>
                <a:lnTo>
                  <a:pt x="69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31160" y="5573880"/>
            <a:ext cx="55440" cy="41040"/>
          </a:xfrm>
          <a:custGeom>
            <a:avLst/>
            <a:gdLst/>
            <a:ahLst/>
            <a:rect l="l" t="t" r="r" b="b"/>
            <a:pathLst>
              <a:path w="35" h="26">
                <a:moveTo>
                  <a:pt x="0" y="26"/>
                </a:moveTo>
                <a:lnTo>
                  <a:pt x="19" y="0"/>
                </a:lnTo>
                <a:lnTo>
                  <a:pt x="35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70760" y="5578560"/>
            <a:ext cx="60120" cy="41040"/>
          </a:xfrm>
          <a:custGeom>
            <a:avLst/>
            <a:gdLst/>
            <a:ahLst/>
            <a:rect l="l" t="t" r="r" b="b"/>
            <a:pathLst>
              <a:path w="38" h="26">
                <a:moveTo>
                  <a:pt x="0" y="0"/>
                </a:moveTo>
                <a:lnTo>
                  <a:pt x="16" y="23"/>
                </a:lnTo>
                <a:lnTo>
                  <a:pt x="19" y="26"/>
                </a:lnTo>
                <a:lnTo>
                  <a:pt x="38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105680" y="559224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0600" y="5592600"/>
            <a:ext cx="2052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0" y="0"/>
                </a:moveTo>
                <a:lnTo>
                  <a:pt x="9" y="17"/>
                </a:lnTo>
                <a:lnTo>
                  <a:pt x="13" y="1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70840" y="5600880"/>
            <a:ext cx="19080" cy="1872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9" y="0"/>
                </a:lnTo>
                <a:lnTo>
                  <a:pt x="12" y="0"/>
                </a:lnTo>
                <a:lnTo>
                  <a:pt x="3" y="1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81760" y="55958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9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11920" y="5541840"/>
            <a:ext cx="19080" cy="17640"/>
          </a:xfrm>
          <a:custGeom>
            <a:avLst/>
            <a:gdLst/>
            <a:ahLst/>
            <a:rect l="l" t="t" r="r" b="b"/>
            <a:pathLst>
              <a:path w="12" h="11">
                <a:moveTo>
                  <a:pt x="12" y="5"/>
                </a:moveTo>
                <a:lnTo>
                  <a:pt x="6" y="11"/>
                </a:lnTo>
                <a:lnTo>
                  <a:pt x="0" y="5"/>
                </a:lnTo>
                <a:lnTo>
                  <a:pt x="6" y="0"/>
                </a:lnTo>
                <a:lnTo>
                  <a:pt x="1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07240" y="559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6"/>
                </a:moveTo>
                <a:lnTo>
                  <a:pt x="12" y="12"/>
                </a:lnTo>
                <a:lnTo>
                  <a:pt x="6" y="15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3"/>
                </a:lnTo>
                <a:lnTo>
                  <a:pt x="1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81760" y="554184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16" y="5"/>
                </a:moveTo>
                <a:lnTo>
                  <a:pt x="12" y="11"/>
                </a:lnTo>
                <a:lnTo>
                  <a:pt x="6" y="14"/>
                </a:lnTo>
                <a:lnTo>
                  <a:pt x="3" y="11"/>
                </a:lnTo>
                <a:lnTo>
                  <a:pt x="0" y="5"/>
                </a:lnTo>
                <a:lnTo>
                  <a:pt x="6" y="0"/>
                </a:lnTo>
                <a:lnTo>
                  <a:pt x="12" y="3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81760" y="55278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11920" y="5522760"/>
            <a:ext cx="25560" cy="19080"/>
          </a:xfrm>
          <a:custGeom>
            <a:avLst/>
            <a:gdLst/>
            <a:ahLst/>
            <a:rect l="l" t="t" r="r" b="b"/>
            <a:pathLst>
              <a:path w="16" h="12">
                <a:moveTo>
                  <a:pt x="16" y="6"/>
                </a:moveTo>
                <a:lnTo>
                  <a:pt x="12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2" y="3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81760" y="5610240"/>
            <a:ext cx="19080" cy="2376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9"/>
                </a:moveTo>
                <a:lnTo>
                  <a:pt x="6" y="15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9" y="3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7240" y="561492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2" y="6"/>
                </a:moveTo>
                <a:lnTo>
                  <a:pt x="6" y="12"/>
                </a:lnTo>
                <a:lnTo>
                  <a:pt x="0" y="6"/>
                </a:lnTo>
                <a:lnTo>
                  <a:pt x="6" y="0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16680" y="5910120"/>
            <a:ext cx="233280" cy="7920"/>
          </a:xfrm>
          <a:custGeom>
            <a:avLst/>
            <a:gdLst/>
            <a:ahLst/>
            <a:rect l="l" t="t" r="r" b="b"/>
            <a:pathLst>
              <a:path w="147" h="5">
                <a:moveTo>
                  <a:pt x="144" y="5"/>
                </a:moveTo>
                <a:lnTo>
                  <a:pt x="147" y="0"/>
                </a:lnTo>
                <a:lnTo>
                  <a:pt x="0" y="0"/>
                </a:lnTo>
                <a:lnTo>
                  <a:pt x="0" y="5"/>
                </a:lnTo>
                <a:lnTo>
                  <a:pt x="14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12000" y="5835600"/>
            <a:ext cx="18900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2000" y="5845320"/>
            <a:ext cx="179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911640" y="5845320"/>
            <a:ext cx="5868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906960" y="5859000"/>
            <a:ext cx="4428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56280" y="5871960"/>
            <a:ext cx="3996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966000" y="5877000"/>
            <a:ext cx="3960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05600" y="5877000"/>
            <a:ext cx="30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6120" y="5881680"/>
            <a:ext cx="2556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00840" y="5629320"/>
            <a:ext cx="1440" cy="196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96080" y="5762520"/>
            <a:ext cx="11592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11920" y="5624640"/>
            <a:ext cx="1000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795720" y="5634000"/>
            <a:ext cx="11160" cy="192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00840" y="5845320"/>
            <a:ext cx="6480" cy="60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791040" y="5840280"/>
            <a:ext cx="468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6720" y="5877000"/>
            <a:ext cx="125280" cy="38160"/>
          </a:xfrm>
          <a:custGeom>
            <a:avLst/>
            <a:gdLst/>
            <a:ahLst/>
            <a:rect l="l" t="t" r="r" b="b"/>
            <a:pathLst>
              <a:path w="79" h="24">
                <a:moveTo>
                  <a:pt x="0" y="0"/>
                </a:moveTo>
                <a:lnTo>
                  <a:pt x="35" y="0"/>
                </a:lnTo>
                <a:lnTo>
                  <a:pt x="35" y="24"/>
                </a:lnTo>
                <a:lnTo>
                  <a:pt x="38" y="24"/>
                </a:lnTo>
                <a:lnTo>
                  <a:pt x="38" y="0"/>
                </a:lnTo>
                <a:lnTo>
                  <a:pt x="7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6720" y="587232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2560" y="5624640"/>
            <a:ext cx="936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96080" y="5748480"/>
            <a:ext cx="1000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96080" y="5762520"/>
            <a:ext cx="10008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96080" y="5684760"/>
            <a:ext cx="11592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2560" y="5675400"/>
            <a:ext cx="10944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02560" y="5688000"/>
            <a:ext cx="109440" cy="9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07240" y="5638680"/>
            <a:ext cx="100080" cy="8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0840" y="5549760"/>
            <a:ext cx="1116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900840" y="5549760"/>
            <a:ext cx="1440" cy="6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811920" y="5549760"/>
            <a:ext cx="1800" cy="60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91480" y="6254640"/>
            <a:ext cx="9504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55"/>
                </a:moveTo>
                <a:lnTo>
                  <a:pt x="60" y="0"/>
                </a:lnTo>
                <a:lnTo>
                  <a:pt x="0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891480" y="6254640"/>
            <a:ext cx="950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91480" y="6310440"/>
            <a:ext cx="90360" cy="31680"/>
          </a:xfrm>
          <a:custGeom>
            <a:avLst/>
            <a:gdLst/>
            <a:ahLst/>
            <a:rect l="l" t="t" r="r" b="b"/>
            <a:pathLst>
              <a:path w="57" h="20">
                <a:moveTo>
                  <a:pt x="57" y="0"/>
                </a:moveTo>
                <a:lnTo>
                  <a:pt x="0" y="0"/>
                </a:lnTo>
                <a:lnTo>
                  <a:pt x="22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26400" y="6310440"/>
            <a:ext cx="396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16880" y="6237360"/>
            <a:ext cx="10944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6880" y="6305400"/>
            <a:ext cx="69840" cy="36720"/>
          </a:xfrm>
          <a:custGeom>
            <a:avLst/>
            <a:gdLst/>
            <a:ahLst/>
            <a:rect l="l" t="t" r="r" b="b"/>
            <a:pathLst>
              <a:path w="44" h="23">
                <a:moveTo>
                  <a:pt x="0" y="0"/>
                </a:moveTo>
                <a:lnTo>
                  <a:pt x="44" y="0"/>
                </a:lnTo>
                <a:lnTo>
                  <a:pt x="13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11840" y="6264360"/>
            <a:ext cx="74880" cy="77760"/>
          </a:xfrm>
          <a:custGeom>
            <a:avLst/>
            <a:gdLst/>
            <a:ahLst/>
            <a:rect l="l" t="t" r="r" b="b"/>
            <a:pathLst>
              <a:path w="47" h="49">
                <a:moveTo>
                  <a:pt x="0" y="0"/>
                </a:moveTo>
                <a:lnTo>
                  <a:pt x="47" y="49"/>
                </a:lnTo>
                <a:lnTo>
                  <a:pt x="47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16600" y="5549760"/>
            <a:ext cx="74880" cy="60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0" y="38"/>
                </a:moveTo>
                <a:lnTo>
                  <a:pt x="47" y="38"/>
                </a:lnTo>
                <a:lnTo>
                  <a:pt x="47" y="0"/>
                </a:lnTo>
                <a:lnTo>
                  <a:pt x="3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6600" y="5546880"/>
            <a:ext cx="90720" cy="68040"/>
          </a:xfrm>
          <a:custGeom>
            <a:avLst/>
            <a:gdLst/>
            <a:ahLst/>
            <a:rect l="l" t="t" r="r" b="b"/>
            <a:pathLst>
              <a:path w="57" h="43">
                <a:moveTo>
                  <a:pt x="0" y="40"/>
                </a:moveTo>
                <a:lnTo>
                  <a:pt x="47" y="2"/>
                </a:lnTo>
                <a:lnTo>
                  <a:pt x="6" y="0"/>
                </a:lnTo>
                <a:lnTo>
                  <a:pt x="57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811560" y="5549400"/>
            <a:ext cx="7956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1520" y="5546880"/>
            <a:ext cx="18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61240" y="554688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5905440"/>
            <a:ext cx="243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97720" y="5830920"/>
            <a:ext cx="19368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611760" y="5840280"/>
            <a:ext cx="1796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32720" y="5840280"/>
            <a:ext cx="540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746760" y="5859360"/>
            <a:ext cx="446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702120" y="5868720"/>
            <a:ext cx="4428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692400" y="5869080"/>
            <a:ext cx="3996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662520" y="5869080"/>
            <a:ext cx="2988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46680" y="5877000"/>
            <a:ext cx="2988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78480" y="5532480"/>
            <a:ext cx="428760" cy="92160"/>
          </a:xfrm>
          <a:custGeom>
            <a:avLst/>
            <a:gdLst/>
            <a:ahLst/>
            <a:rect l="l" t="t" r="r" b="b"/>
            <a:pathLst>
              <a:path w="270" h="58">
                <a:moveTo>
                  <a:pt x="44" y="49"/>
                </a:moveTo>
                <a:lnTo>
                  <a:pt x="0" y="52"/>
                </a:lnTo>
                <a:lnTo>
                  <a:pt x="0" y="58"/>
                </a:lnTo>
                <a:lnTo>
                  <a:pt x="270" y="58"/>
                </a:lnTo>
                <a:lnTo>
                  <a:pt x="270" y="0"/>
                </a:lnTo>
                <a:lnTo>
                  <a:pt x="44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3480" y="5554800"/>
            <a:ext cx="293760" cy="55440"/>
          </a:xfrm>
          <a:custGeom>
            <a:avLst/>
            <a:gdLst/>
            <a:ahLst/>
            <a:rect l="l" t="t" r="r" b="b"/>
            <a:pathLst>
              <a:path w="185" h="35">
                <a:moveTo>
                  <a:pt x="0" y="35"/>
                </a:moveTo>
                <a:lnTo>
                  <a:pt x="185" y="35"/>
                </a:lnTo>
                <a:lnTo>
                  <a:pt x="185" y="0"/>
                </a:lnTo>
                <a:lnTo>
                  <a:pt x="0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53360" y="5541840"/>
            <a:ext cx="353880" cy="73080"/>
          </a:xfrm>
          <a:custGeom>
            <a:avLst/>
            <a:gdLst/>
            <a:ahLst/>
            <a:rect l="l" t="t" r="r" b="b"/>
            <a:pathLst>
              <a:path w="223" h="46">
                <a:moveTo>
                  <a:pt x="0" y="46"/>
                </a:moveTo>
                <a:lnTo>
                  <a:pt x="19" y="43"/>
                </a:lnTo>
                <a:lnTo>
                  <a:pt x="223" y="3"/>
                </a:lnTo>
                <a:lnTo>
                  <a:pt x="223" y="0"/>
                </a:lnTo>
                <a:lnTo>
                  <a:pt x="0" y="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781320" y="5573880"/>
            <a:ext cx="255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7160" y="5554800"/>
            <a:ext cx="100080" cy="55440"/>
          </a:xfrm>
          <a:custGeom>
            <a:avLst/>
            <a:gdLst/>
            <a:ahLst/>
            <a:rect l="l" t="t" r="r" b="b"/>
            <a:pathLst>
              <a:path w="63" h="35">
                <a:moveTo>
                  <a:pt x="63" y="0"/>
                </a:moveTo>
                <a:lnTo>
                  <a:pt x="44" y="35"/>
                </a:lnTo>
                <a:lnTo>
                  <a:pt x="19" y="0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57840" y="5554800"/>
            <a:ext cx="11448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72" y="35"/>
                </a:moveTo>
                <a:lnTo>
                  <a:pt x="44" y="0"/>
                </a:lnTo>
                <a:lnTo>
                  <a:pt x="40" y="9"/>
                </a:lnTo>
                <a:lnTo>
                  <a:pt x="25" y="35"/>
                </a:lnTo>
                <a:lnTo>
                  <a:pt x="0" y="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32640" y="557388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34" y="23"/>
                </a:moveTo>
                <a:lnTo>
                  <a:pt x="16" y="0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3040" y="5573880"/>
            <a:ext cx="54000" cy="41040"/>
          </a:xfrm>
          <a:custGeom>
            <a:avLst/>
            <a:gdLst/>
            <a:ahLst/>
            <a:rect l="l" t="t" r="r" b="b"/>
            <a:pathLst>
              <a:path w="34" h="26">
                <a:moveTo>
                  <a:pt x="34" y="0"/>
                </a:moveTo>
                <a:lnTo>
                  <a:pt x="22" y="23"/>
                </a:lnTo>
                <a:lnTo>
                  <a:pt x="15" y="2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88000" y="5587560"/>
            <a:ext cx="237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8120" y="5587920"/>
            <a:ext cx="18720" cy="27000"/>
          </a:xfrm>
          <a:custGeom>
            <a:avLst/>
            <a:gdLst/>
            <a:ahLst/>
            <a:rect l="l" t="t" r="r" b="b"/>
            <a:pathLst>
              <a:path w="12" h="17">
                <a:moveTo>
                  <a:pt x="12" y="0"/>
                </a:moveTo>
                <a:lnTo>
                  <a:pt x="3" y="17"/>
                </a:lnTo>
                <a:lnTo>
                  <a:pt x="0" y="17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07320" y="5319720"/>
            <a:ext cx="242640" cy="1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7320" y="5246640"/>
            <a:ext cx="1886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900840" y="5256000"/>
            <a:ext cx="179280" cy="68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6907320" y="5256000"/>
            <a:ext cx="540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900840" y="5270400"/>
            <a:ext cx="460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946920" y="5283360"/>
            <a:ext cx="4428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61320" y="5287680"/>
            <a:ext cx="396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0920" y="5288040"/>
            <a:ext cx="302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6760" y="5292720"/>
            <a:ext cx="28440" cy="31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5319720"/>
            <a:ext cx="233640" cy="9360"/>
          </a:xfrm>
          <a:custGeom>
            <a:avLst/>
            <a:gdLst/>
            <a:ahLst/>
            <a:rect l="l" t="t" r="r" b="b"/>
            <a:pathLst>
              <a:path w="147" h="6">
                <a:moveTo>
                  <a:pt x="0" y="6"/>
                </a:moveTo>
                <a:lnTo>
                  <a:pt x="0" y="0"/>
                </a:lnTo>
                <a:lnTo>
                  <a:pt x="147" y="0"/>
                </a:lnTo>
                <a:lnTo>
                  <a:pt x="144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632280" y="5246640"/>
            <a:ext cx="1890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642000" y="5256000"/>
            <a:ext cx="1796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61160" y="5261040"/>
            <a:ext cx="6048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5270400"/>
            <a:ext cx="446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737400" y="5283360"/>
            <a:ext cx="396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727320" y="5287680"/>
            <a:ext cx="399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97440" y="5288040"/>
            <a:ext cx="2988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681960" y="5292720"/>
            <a:ext cx="252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16600" y="5246640"/>
            <a:ext cx="95400" cy="77760"/>
          </a:xfrm>
          <a:custGeom>
            <a:avLst/>
            <a:gdLst/>
            <a:ahLst/>
            <a:rect l="l" t="t" r="r" b="b"/>
            <a:pathLst>
              <a:path w="60" h="49">
                <a:moveTo>
                  <a:pt x="0" y="46"/>
                </a:moveTo>
                <a:lnTo>
                  <a:pt x="60" y="49"/>
                </a:lnTo>
                <a:lnTo>
                  <a:pt x="57" y="0"/>
                </a:lnTo>
                <a:lnTo>
                  <a:pt x="3" y="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31000" y="5256360"/>
            <a:ext cx="60480" cy="60120"/>
          </a:xfrm>
          <a:custGeom>
            <a:avLst/>
            <a:gdLst/>
            <a:ahLst/>
            <a:rect l="l" t="t" r="r" b="b"/>
            <a:pathLst>
              <a:path w="38" h="38">
                <a:moveTo>
                  <a:pt x="0" y="38"/>
                </a:moveTo>
                <a:lnTo>
                  <a:pt x="38" y="38"/>
                </a:lnTo>
                <a:lnTo>
                  <a:pt x="38" y="0"/>
                </a:lnTo>
                <a:lnTo>
                  <a:pt x="4" y="0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6821640" y="5256360"/>
            <a:ext cx="792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61240" y="5251320"/>
            <a:ext cx="144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26320" y="5251320"/>
            <a:ext cx="81000" cy="65160"/>
          </a:xfrm>
          <a:custGeom>
            <a:avLst/>
            <a:gdLst/>
            <a:ahLst/>
            <a:rect l="l" t="t" r="r" b="b"/>
            <a:pathLst>
              <a:path w="51" h="41">
                <a:moveTo>
                  <a:pt x="3" y="41"/>
                </a:moveTo>
                <a:lnTo>
                  <a:pt x="44" y="0"/>
                </a:lnTo>
                <a:lnTo>
                  <a:pt x="0" y="0"/>
                </a:lnTo>
                <a:lnTo>
                  <a:pt x="51" y="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65920" y="5251320"/>
            <a:ext cx="1440" cy="3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896160" y="6176880"/>
            <a:ext cx="4608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21360" y="6186600"/>
            <a:ext cx="302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2080" y="6194520"/>
            <a:ext cx="144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46760" y="6176880"/>
            <a:ext cx="399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91480" y="631044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21640" y="5181480"/>
            <a:ext cx="85680" cy="65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0" y="41"/>
                </a:moveTo>
                <a:lnTo>
                  <a:pt x="25" y="0"/>
                </a:lnTo>
                <a:lnTo>
                  <a:pt x="54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61240" y="5164200"/>
            <a:ext cx="353880" cy="82440"/>
          </a:xfrm>
          <a:custGeom>
            <a:avLst/>
            <a:gdLst/>
            <a:ahLst/>
            <a:rect l="l" t="t" r="r" b="b"/>
            <a:pathLst>
              <a:path w="223" h="52">
                <a:moveTo>
                  <a:pt x="29" y="52"/>
                </a:moveTo>
                <a:lnTo>
                  <a:pt x="223" y="0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86440" y="5178600"/>
            <a:ext cx="69840" cy="53640"/>
          </a:xfrm>
          <a:custGeom>
            <a:avLst/>
            <a:gdLst/>
            <a:ahLst/>
            <a:rect l="l" t="t" r="r" b="b"/>
            <a:pathLst>
              <a:path w="44" h="34">
                <a:moveTo>
                  <a:pt x="44" y="34"/>
                </a:moveTo>
                <a:lnTo>
                  <a:pt x="38" y="0"/>
                </a:lnTo>
                <a:lnTo>
                  <a:pt x="0" y="26"/>
                </a:lnTo>
                <a:lnTo>
                  <a:pt x="44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956280" y="5168880"/>
            <a:ext cx="209520" cy="63360"/>
          </a:xfrm>
          <a:custGeom>
            <a:avLst/>
            <a:gdLst/>
            <a:ahLst/>
            <a:rect l="l" t="t" r="r" b="b"/>
            <a:pathLst>
              <a:path w="132" h="40">
                <a:moveTo>
                  <a:pt x="0" y="40"/>
                </a:moveTo>
                <a:lnTo>
                  <a:pt x="22" y="6"/>
                </a:lnTo>
                <a:lnTo>
                  <a:pt x="44" y="29"/>
                </a:lnTo>
                <a:lnTo>
                  <a:pt x="60" y="3"/>
                </a:lnTo>
                <a:lnTo>
                  <a:pt x="78" y="20"/>
                </a:lnTo>
                <a:lnTo>
                  <a:pt x="94" y="0"/>
                </a:lnTo>
                <a:lnTo>
                  <a:pt x="110" y="11"/>
                </a:lnTo>
                <a:lnTo>
                  <a:pt x="122" y="0"/>
                </a:lnTo>
                <a:lnTo>
                  <a:pt x="132" y="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75520" y="5164200"/>
            <a:ext cx="65160" cy="17280"/>
          </a:xfrm>
          <a:custGeom>
            <a:avLst/>
            <a:gdLst/>
            <a:ahLst/>
            <a:rect l="l" t="t" r="r" b="b"/>
            <a:pathLst>
              <a:path w="41" h="11">
                <a:moveTo>
                  <a:pt x="0" y="9"/>
                </a:moveTo>
                <a:lnTo>
                  <a:pt x="41" y="11"/>
                </a:lnTo>
                <a:lnTo>
                  <a:pt x="41" y="0"/>
                </a:lnTo>
                <a:lnTo>
                  <a:pt x="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40760" y="5634000"/>
            <a:ext cx="144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35720" y="5748480"/>
            <a:ext cx="1908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78480" y="5624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67320" y="5738760"/>
            <a:ext cx="20880" cy="23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8120" y="5915160"/>
            <a:ext cx="1440" cy="11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46960" y="6033960"/>
            <a:ext cx="2052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45280" y="592308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35920" y="6039000"/>
            <a:ext cx="1908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35920" y="533412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26200" y="5450040"/>
            <a:ext cx="2376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88000" y="5334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81880" y="5450040"/>
            <a:ext cx="20520" cy="17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02320" y="5168880"/>
            <a:ext cx="358920" cy="77760"/>
          </a:xfrm>
          <a:custGeom>
            <a:avLst/>
            <a:gdLst/>
            <a:ahLst/>
            <a:rect l="l" t="t" r="r" b="b"/>
            <a:pathLst>
              <a:path w="226" h="49">
                <a:moveTo>
                  <a:pt x="201" y="49"/>
                </a:moveTo>
                <a:lnTo>
                  <a:pt x="0" y="0"/>
                </a:lnTo>
                <a:lnTo>
                  <a:pt x="226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67640" y="5178600"/>
            <a:ext cx="69840" cy="53640"/>
          </a:xfrm>
          <a:custGeom>
            <a:avLst/>
            <a:gdLst/>
            <a:ahLst/>
            <a:rect l="l" t="t" r="r" b="b"/>
            <a:pathLst>
              <a:path w="44" h="34">
                <a:moveTo>
                  <a:pt x="0" y="34"/>
                </a:moveTo>
                <a:lnTo>
                  <a:pt x="6" y="0"/>
                </a:lnTo>
                <a:lnTo>
                  <a:pt x="44" y="2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8120" y="5173560"/>
            <a:ext cx="209520" cy="58680"/>
          </a:xfrm>
          <a:custGeom>
            <a:avLst/>
            <a:gdLst/>
            <a:ahLst/>
            <a:rect l="l" t="t" r="r" b="b"/>
            <a:pathLst>
              <a:path w="132" h="37">
                <a:moveTo>
                  <a:pt x="132" y="37"/>
                </a:moveTo>
                <a:lnTo>
                  <a:pt x="110" y="3"/>
                </a:lnTo>
                <a:lnTo>
                  <a:pt x="88" y="26"/>
                </a:lnTo>
                <a:lnTo>
                  <a:pt x="69" y="0"/>
                </a:lnTo>
                <a:lnTo>
                  <a:pt x="50" y="20"/>
                </a:lnTo>
                <a:lnTo>
                  <a:pt x="37" y="0"/>
                </a:lnTo>
                <a:lnTo>
                  <a:pt x="22" y="11"/>
                </a:lnTo>
                <a:lnTo>
                  <a:pt x="9" y="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8560" y="5168880"/>
            <a:ext cx="68400" cy="22320"/>
          </a:xfrm>
          <a:custGeom>
            <a:avLst/>
            <a:gdLst/>
            <a:ahLst/>
            <a:rect l="l" t="t" r="r" b="b"/>
            <a:pathLst>
              <a:path w="43" h="14">
                <a:moveTo>
                  <a:pt x="43" y="8"/>
                </a:moveTo>
                <a:lnTo>
                  <a:pt x="3" y="14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816240" y="5329080"/>
            <a:ext cx="9720" cy="193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00840" y="5329080"/>
            <a:ext cx="1440" cy="203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16600" y="5394240"/>
            <a:ext cx="90720" cy="138240"/>
          </a:xfrm>
          <a:custGeom>
            <a:avLst/>
            <a:gdLst/>
            <a:ahLst/>
            <a:rect l="l" t="t" r="r" b="b"/>
            <a:pathLst>
              <a:path w="57" h="87">
                <a:moveTo>
                  <a:pt x="57" y="0"/>
                </a:moveTo>
                <a:lnTo>
                  <a:pt x="0" y="46"/>
                </a:lnTo>
                <a:lnTo>
                  <a:pt x="50" y="8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96160" y="5251320"/>
            <a:ext cx="468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26320" y="5251320"/>
            <a:ext cx="1440" cy="65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702120" y="5915160"/>
            <a:ext cx="88920" cy="422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07320" y="5918040"/>
            <a:ext cx="88920" cy="419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6720" y="5915160"/>
            <a:ext cx="13968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77000" y="5969160"/>
            <a:ext cx="1652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72320" y="5983200"/>
            <a:ext cx="16992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1160" y="6039000"/>
            <a:ext cx="195120" cy="72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56480" y="6048360"/>
            <a:ext cx="199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46760" y="6102360"/>
            <a:ext cx="239760" cy="14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42080" y="6121440"/>
            <a:ext cx="249120" cy="14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32720" y="6172200"/>
            <a:ext cx="233280" cy="4680"/>
          </a:xfrm>
          <a:custGeom>
            <a:avLst/>
            <a:gdLst/>
            <a:ahLst/>
            <a:rect l="l" t="t" r="r" b="b"/>
            <a:pathLst>
              <a:path w="147" h="3">
                <a:moveTo>
                  <a:pt x="0" y="0"/>
                </a:moveTo>
                <a:lnTo>
                  <a:pt x="72" y="0"/>
                </a:lnTo>
                <a:lnTo>
                  <a:pt x="147" y="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711840" y="6111360"/>
            <a:ext cx="244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6716880" y="6102360"/>
            <a:ext cx="2394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42080" y="6039000"/>
            <a:ext cx="20016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756480" y="5978520"/>
            <a:ext cx="16992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772320" y="5914800"/>
            <a:ext cx="1238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7240" y="5915160"/>
            <a:ext cx="11916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6560" y="6227640"/>
            <a:ext cx="125280" cy="114480"/>
          </a:xfrm>
          <a:custGeom>
            <a:avLst/>
            <a:gdLst/>
            <a:ahLst/>
            <a:rect l="l" t="t" r="r" b="b"/>
            <a:pathLst>
              <a:path w="79" h="72">
                <a:moveTo>
                  <a:pt x="0" y="72"/>
                </a:moveTo>
                <a:lnTo>
                  <a:pt x="79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6560" y="6227640"/>
            <a:ext cx="12528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8840" y="5605560"/>
            <a:ext cx="209520" cy="668160"/>
          </a:xfrm>
          <a:custGeom>
            <a:avLst/>
            <a:gdLst/>
            <a:ahLst/>
            <a:rect l="l" t="t" r="r" b="b"/>
            <a:pathLst>
              <a:path w="132" h="421">
                <a:moveTo>
                  <a:pt x="94" y="244"/>
                </a:moveTo>
                <a:lnTo>
                  <a:pt x="94" y="247"/>
                </a:lnTo>
                <a:lnTo>
                  <a:pt x="98" y="253"/>
                </a:lnTo>
                <a:lnTo>
                  <a:pt x="98" y="261"/>
                </a:lnTo>
                <a:lnTo>
                  <a:pt x="101" y="270"/>
                </a:lnTo>
                <a:lnTo>
                  <a:pt x="107" y="299"/>
                </a:lnTo>
                <a:lnTo>
                  <a:pt x="120" y="363"/>
                </a:lnTo>
                <a:lnTo>
                  <a:pt x="126" y="392"/>
                </a:lnTo>
                <a:lnTo>
                  <a:pt x="129" y="403"/>
                </a:lnTo>
                <a:lnTo>
                  <a:pt x="129" y="412"/>
                </a:lnTo>
                <a:lnTo>
                  <a:pt x="132" y="418"/>
                </a:lnTo>
                <a:lnTo>
                  <a:pt x="132" y="421"/>
                </a:lnTo>
                <a:lnTo>
                  <a:pt x="0" y="421"/>
                </a:lnTo>
                <a:lnTo>
                  <a:pt x="38" y="244"/>
                </a:lnTo>
                <a:lnTo>
                  <a:pt x="47" y="122"/>
                </a:lnTo>
                <a:lnTo>
                  <a:pt x="47" y="90"/>
                </a:lnTo>
                <a:lnTo>
                  <a:pt x="54" y="0"/>
                </a:lnTo>
                <a:lnTo>
                  <a:pt x="91" y="0"/>
                </a:lnTo>
                <a:lnTo>
                  <a:pt x="94" y="24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24680" y="5997600"/>
            <a:ext cx="179280" cy="276120"/>
          </a:xfrm>
          <a:custGeom>
            <a:avLst/>
            <a:gdLst/>
            <a:ahLst/>
            <a:rect l="l" t="t" r="r" b="b"/>
            <a:pathLst>
              <a:path w="113" h="174">
                <a:moveTo>
                  <a:pt x="113" y="174"/>
                </a:moveTo>
                <a:lnTo>
                  <a:pt x="75" y="0"/>
                </a:lnTo>
                <a:lnTo>
                  <a:pt x="37" y="0"/>
                </a:lnTo>
                <a:lnTo>
                  <a:pt x="0" y="174"/>
                </a:lnTo>
                <a:lnTo>
                  <a:pt x="113" y="1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99200" y="5610240"/>
            <a:ext cx="44280" cy="138240"/>
          </a:xfrm>
          <a:custGeom>
            <a:avLst/>
            <a:gdLst/>
            <a:ahLst/>
            <a:rect l="l" t="t" r="r" b="b"/>
            <a:pathLst>
              <a:path w="28" h="87">
                <a:moveTo>
                  <a:pt x="0" y="87"/>
                </a:moveTo>
                <a:lnTo>
                  <a:pt x="25" y="87"/>
                </a:lnTo>
                <a:lnTo>
                  <a:pt x="28" y="3"/>
                </a:lnTo>
                <a:lnTo>
                  <a:pt x="3" y="0"/>
                </a:lnTo>
                <a:lnTo>
                  <a:pt x="0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83360" y="5803920"/>
            <a:ext cx="60120" cy="183960"/>
          </a:xfrm>
          <a:custGeom>
            <a:avLst/>
            <a:gdLst/>
            <a:ahLst/>
            <a:rect l="l" t="t" r="r" b="b"/>
            <a:pathLst>
              <a:path w="38" h="116">
                <a:moveTo>
                  <a:pt x="35" y="0"/>
                </a:moveTo>
                <a:lnTo>
                  <a:pt x="38" y="116"/>
                </a:lnTo>
                <a:lnTo>
                  <a:pt x="0" y="116"/>
                </a:lnTo>
                <a:lnTo>
                  <a:pt x="7" y="0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94520" y="5661000"/>
            <a:ext cx="58680" cy="82440"/>
          </a:xfrm>
          <a:custGeom>
            <a:avLst/>
            <a:gdLst/>
            <a:ahLst/>
            <a:rect l="l" t="t" r="r" b="b"/>
            <a:pathLst>
              <a:path w="37" h="52">
                <a:moveTo>
                  <a:pt x="3" y="52"/>
                </a:moveTo>
                <a:lnTo>
                  <a:pt x="37" y="2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187680" y="5706720"/>
            <a:ext cx="50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94520" y="5614920"/>
            <a:ext cx="58680" cy="82440"/>
          </a:xfrm>
          <a:custGeom>
            <a:avLst/>
            <a:gdLst/>
            <a:ahLst/>
            <a:rect l="l" t="t" r="r" b="b"/>
            <a:pathLst>
              <a:path w="37" h="52">
                <a:moveTo>
                  <a:pt x="37" y="52"/>
                </a:moveTo>
                <a:lnTo>
                  <a:pt x="0" y="23"/>
                </a:lnTo>
                <a:lnTo>
                  <a:pt x="3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194160" y="5610240"/>
            <a:ext cx="5868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203520" y="5609880"/>
            <a:ext cx="4932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178680" y="5946840"/>
            <a:ext cx="698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83360" y="5937120"/>
            <a:ext cx="6516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83360" y="5951520"/>
            <a:ext cx="55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3640" y="5983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3"/>
                </a:moveTo>
                <a:lnTo>
                  <a:pt x="3" y="9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6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38800" y="5983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3"/>
                </a:moveTo>
                <a:lnTo>
                  <a:pt x="3" y="9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38800" y="593712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6" y="9"/>
                </a:lnTo>
                <a:lnTo>
                  <a:pt x="3" y="9"/>
                </a:lnTo>
                <a:lnTo>
                  <a:pt x="0" y="6"/>
                </a:lnTo>
                <a:lnTo>
                  <a:pt x="3" y="3"/>
                </a:lnTo>
                <a:lnTo>
                  <a:pt x="3" y="0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8680" y="59371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6" y="3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83360" y="59421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83360" y="5946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53200" y="5748480"/>
            <a:ext cx="284040" cy="60120"/>
          </a:xfrm>
          <a:custGeom>
            <a:avLst/>
            <a:gdLst/>
            <a:ahLst/>
            <a:rect l="l" t="t" r="r" b="b"/>
            <a:pathLst>
              <a:path w="179" h="38">
                <a:moveTo>
                  <a:pt x="148" y="32"/>
                </a:moveTo>
                <a:lnTo>
                  <a:pt x="176" y="35"/>
                </a:lnTo>
                <a:lnTo>
                  <a:pt x="179" y="38"/>
                </a:lnTo>
                <a:lnTo>
                  <a:pt x="0" y="35"/>
                </a:lnTo>
                <a:lnTo>
                  <a:pt x="0" y="0"/>
                </a:lnTo>
                <a:lnTo>
                  <a:pt x="14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53200" y="5762520"/>
            <a:ext cx="195120" cy="36720"/>
          </a:xfrm>
          <a:custGeom>
            <a:avLst/>
            <a:gdLst/>
            <a:ahLst/>
            <a:rect l="l" t="t" r="r" b="b"/>
            <a:pathLst>
              <a:path w="123" h="23">
                <a:moveTo>
                  <a:pt x="123" y="23"/>
                </a:moveTo>
                <a:lnTo>
                  <a:pt x="3" y="20"/>
                </a:lnTo>
                <a:lnTo>
                  <a:pt x="0" y="0"/>
                </a:lnTo>
                <a:lnTo>
                  <a:pt x="123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53200" y="5753160"/>
            <a:ext cx="230040" cy="50760"/>
          </a:xfrm>
          <a:custGeom>
            <a:avLst/>
            <a:gdLst/>
            <a:ahLst/>
            <a:rect l="l" t="t" r="r" b="b"/>
            <a:pathLst>
              <a:path w="145" h="32">
                <a:moveTo>
                  <a:pt x="145" y="32"/>
                </a:moveTo>
                <a:lnTo>
                  <a:pt x="135" y="32"/>
                </a:lnTo>
                <a:lnTo>
                  <a:pt x="0" y="0"/>
                </a:lnTo>
                <a:lnTo>
                  <a:pt x="14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53200" y="5772240"/>
            <a:ext cx="158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53200" y="5762520"/>
            <a:ext cx="65160" cy="36720"/>
          </a:xfrm>
          <a:custGeom>
            <a:avLst/>
            <a:gdLst/>
            <a:ahLst/>
            <a:rect l="l" t="t" r="r" b="b"/>
            <a:pathLst>
              <a:path w="41" h="23">
                <a:moveTo>
                  <a:pt x="0" y="0"/>
                </a:moveTo>
                <a:lnTo>
                  <a:pt x="13" y="20"/>
                </a:lnTo>
                <a:lnTo>
                  <a:pt x="32" y="0"/>
                </a:lnTo>
                <a:lnTo>
                  <a:pt x="41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78400" y="5762520"/>
            <a:ext cx="74880" cy="36720"/>
          </a:xfrm>
          <a:custGeom>
            <a:avLst/>
            <a:gdLst/>
            <a:ahLst/>
            <a:rect l="l" t="t" r="r" b="b"/>
            <a:pathLst>
              <a:path w="47" h="23">
                <a:moveTo>
                  <a:pt x="0" y="23"/>
                </a:moveTo>
                <a:lnTo>
                  <a:pt x="19" y="0"/>
                </a:lnTo>
                <a:lnTo>
                  <a:pt x="31" y="23"/>
                </a:lnTo>
                <a:lnTo>
                  <a:pt x="4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32400" y="5772240"/>
            <a:ext cx="34920" cy="27000"/>
          </a:xfrm>
          <a:custGeom>
            <a:avLst/>
            <a:gdLst/>
            <a:ahLst/>
            <a:rect l="l" t="t" r="r" b="b"/>
            <a:pathLst>
              <a:path w="22" h="17">
                <a:moveTo>
                  <a:pt x="0" y="17"/>
                </a:moveTo>
                <a:lnTo>
                  <a:pt x="13" y="0"/>
                </a:lnTo>
                <a:lnTo>
                  <a:pt x="22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57960" y="577224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0" y="0"/>
                </a:moveTo>
                <a:lnTo>
                  <a:pt x="10" y="17"/>
                </a:lnTo>
                <a:lnTo>
                  <a:pt x="13" y="17"/>
                </a:lnTo>
                <a:lnTo>
                  <a:pt x="25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83160" y="5784840"/>
            <a:ext cx="1440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2240" y="5784840"/>
            <a:ext cx="1620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0"/>
                </a:moveTo>
                <a:lnTo>
                  <a:pt x="7" y="9"/>
                </a:lnTo>
                <a:lnTo>
                  <a:pt x="10" y="9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23120" y="57895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6" y="0"/>
                </a:lnTo>
                <a:lnTo>
                  <a:pt x="9" y="0"/>
                </a:lnTo>
                <a:lnTo>
                  <a:pt x="3" y="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34120" y="578484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88040" y="574848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6"/>
                </a:moveTo>
                <a:lnTo>
                  <a:pt x="10" y="9"/>
                </a:lnTo>
                <a:lnTo>
                  <a:pt x="4" y="9"/>
                </a:lnTo>
                <a:lnTo>
                  <a:pt x="0" y="6"/>
                </a:lnTo>
                <a:lnTo>
                  <a:pt x="7" y="0"/>
                </a:lnTo>
                <a:lnTo>
                  <a:pt x="10" y="3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83360" y="578484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6"/>
                </a:moveTo>
                <a:lnTo>
                  <a:pt x="10" y="9"/>
                </a:lnTo>
                <a:lnTo>
                  <a:pt x="3" y="9"/>
                </a:lnTo>
                <a:lnTo>
                  <a:pt x="0" y="6"/>
                </a:lnTo>
                <a:lnTo>
                  <a:pt x="7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34120" y="5753160"/>
            <a:ext cx="14400" cy="936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3"/>
                </a:moveTo>
                <a:lnTo>
                  <a:pt x="9" y="6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9" y="0"/>
                </a:lnTo>
                <a:lnTo>
                  <a:pt x="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4120" y="57387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88040" y="573876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10" y="6"/>
                </a:lnTo>
                <a:lnTo>
                  <a:pt x="7" y="9"/>
                </a:lnTo>
                <a:lnTo>
                  <a:pt x="0" y="3"/>
                </a:lnTo>
                <a:lnTo>
                  <a:pt x="4" y="3"/>
                </a:lnTo>
                <a:lnTo>
                  <a:pt x="7" y="0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4120" y="5794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6"/>
                </a:moveTo>
                <a:lnTo>
                  <a:pt x="9" y="9"/>
                </a:lnTo>
                <a:lnTo>
                  <a:pt x="3" y="9"/>
                </a:lnTo>
                <a:lnTo>
                  <a:pt x="0" y="6"/>
                </a:lnTo>
                <a:lnTo>
                  <a:pt x="6" y="0"/>
                </a:lnTo>
                <a:lnTo>
                  <a:pt x="9" y="3"/>
                </a:lnTo>
                <a:lnTo>
                  <a:pt x="9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83360" y="579924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3"/>
                </a:moveTo>
                <a:lnTo>
                  <a:pt x="10" y="6"/>
                </a:lnTo>
                <a:lnTo>
                  <a:pt x="7" y="9"/>
                </a:lnTo>
                <a:lnTo>
                  <a:pt x="0" y="3"/>
                </a:lnTo>
                <a:lnTo>
                  <a:pt x="3" y="0"/>
                </a:lnTo>
                <a:lnTo>
                  <a:pt x="10" y="0"/>
                </a:lnTo>
                <a:lnTo>
                  <a:pt x="1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57880" y="5992920"/>
            <a:ext cx="1605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53200" y="594216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6252840" y="5951520"/>
            <a:ext cx="1206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253200" y="59511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253200" y="595620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283440" y="5964120"/>
            <a:ext cx="2988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288120" y="5969160"/>
            <a:ext cx="30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18360" y="5969160"/>
            <a:ext cx="2052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7720" y="5973840"/>
            <a:ext cx="2052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5808600"/>
            <a:ext cx="144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6178680" y="5891040"/>
            <a:ext cx="74520" cy="5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88040" y="5803920"/>
            <a:ext cx="6516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8680" y="5808600"/>
            <a:ext cx="936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594684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73640" y="5946840"/>
            <a:ext cx="50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3640" y="5969160"/>
            <a:ext cx="79560" cy="23760"/>
          </a:xfrm>
          <a:custGeom>
            <a:avLst/>
            <a:gdLst/>
            <a:ahLst/>
            <a:rect l="l" t="t" r="r" b="b"/>
            <a:pathLst>
              <a:path w="50" h="15">
                <a:moveTo>
                  <a:pt x="0" y="0"/>
                </a:moveTo>
                <a:lnTo>
                  <a:pt x="22" y="0"/>
                </a:lnTo>
                <a:lnTo>
                  <a:pt x="22" y="15"/>
                </a:lnTo>
                <a:lnTo>
                  <a:pt x="25" y="15"/>
                </a:lnTo>
                <a:lnTo>
                  <a:pt x="25" y="0"/>
                </a:lnTo>
                <a:lnTo>
                  <a:pt x="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3640" y="5964120"/>
            <a:ext cx="795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183360" y="5803920"/>
            <a:ext cx="601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8680" y="5886360"/>
            <a:ext cx="64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8680" y="5896080"/>
            <a:ext cx="64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6178680" y="5844960"/>
            <a:ext cx="7452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83360" y="5835600"/>
            <a:ext cx="698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83360" y="5850000"/>
            <a:ext cx="698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3360" y="5813280"/>
            <a:ext cx="69840" cy="5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248520" y="5757480"/>
            <a:ext cx="144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188040" y="5757480"/>
            <a:ext cx="1800" cy="36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38800" y="62136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38"/>
                </a:moveTo>
                <a:lnTo>
                  <a:pt x="41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238440" y="6213600"/>
            <a:ext cx="6516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3480" y="624996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0"/>
                </a:moveTo>
                <a:lnTo>
                  <a:pt x="0" y="0"/>
                </a:lnTo>
                <a:lnTo>
                  <a:pt x="13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64360" y="6249960"/>
            <a:ext cx="237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9360" y="6203880"/>
            <a:ext cx="698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29360" y="6249960"/>
            <a:ext cx="44280" cy="23760"/>
          </a:xfrm>
          <a:custGeom>
            <a:avLst/>
            <a:gdLst/>
            <a:ahLst/>
            <a:rect l="l" t="t" r="r" b="b"/>
            <a:pathLst>
              <a:path w="28" h="15">
                <a:moveTo>
                  <a:pt x="0" y="0"/>
                </a:moveTo>
                <a:lnTo>
                  <a:pt x="28" y="0"/>
                </a:lnTo>
                <a:lnTo>
                  <a:pt x="6" y="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4680" y="622296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0"/>
                </a:moveTo>
                <a:lnTo>
                  <a:pt x="31" y="32"/>
                </a:lnTo>
                <a:lnTo>
                  <a:pt x="31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94520" y="5757840"/>
            <a:ext cx="48960" cy="36360"/>
          </a:xfrm>
          <a:custGeom>
            <a:avLst/>
            <a:gdLst/>
            <a:ahLst/>
            <a:rect l="l" t="t" r="r" b="b"/>
            <a:pathLst>
              <a:path w="31" h="23">
                <a:moveTo>
                  <a:pt x="0" y="23"/>
                </a:moveTo>
                <a:lnTo>
                  <a:pt x="28" y="23"/>
                </a:lnTo>
                <a:lnTo>
                  <a:pt x="31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4520" y="5753160"/>
            <a:ext cx="58680" cy="46080"/>
          </a:xfrm>
          <a:custGeom>
            <a:avLst/>
            <a:gdLst/>
            <a:ahLst/>
            <a:rect l="l" t="t" r="r" b="b"/>
            <a:pathLst>
              <a:path w="37" h="29">
                <a:moveTo>
                  <a:pt x="0" y="26"/>
                </a:moveTo>
                <a:lnTo>
                  <a:pt x="31" y="3"/>
                </a:lnTo>
                <a:lnTo>
                  <a:pt x="3" y="0"/>
                </a:lnTo>
                <a:lnTo>
                  <a:pt x="37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6187680" y="5757480"/>
            <a:ext cx="5076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3600" y="57531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22960" y="575316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5987880"/>
            <a:ext cx="153720" cy="5040"/>
          </a:xfrm>
          <a:custGeom>
            <a:avLst/>
            <a:gdLst/>
            <a:ahLst/>
            <a:rect l="l" t="t" r="r" b="b"/>
            <a:pathLst>
              <a:path w="97" h="3">
                <a:moveTo>
                  <a:pt x="3" y="3"/>
                </a:moveTo>
                <a:lnTo>
                  <a:pt x="0" y="0"/>
                </a:lnTo>
                <a:lnTo>
                  <a:pt x="97" y="0"/>
                </a:lnTo>
                <a:lnTo>
                  <a:pt x="97" y="3"/>
                </a:lnTo>
                <a:lnTo>
                  <a:pt x="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049800" y="5942160"/>
            <a:ext cx="123840" cy="4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59520" y="5946840"/>
            <a:ext cx="1141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138720" y="594684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48440" y="5956200"/>
            <a:ext cx="252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119280" y="5964120"/>
            <a:ext cx="2412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113520" y="5964120"/>
            <a:ext cx="252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94080" y="5964120"/>
            <a:ext cx="190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084720" y="5969160"/>
            <a:ext cx="1440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05440" y="5743440"/>
            <a:ext cx="282600" cy="60480"/>
          </a:xfrm>
          <a:custGeom>
            <a:avLst/>
            <a:gdLst/>
            <a:ahLst/>
            <a:rect l="l" t="t" r="r" b="b"/>
            <a:pathLst>
              <a:path w="178" h="38">
                <a:moveTo>
                  <a:pt x="28" y="32"/>
                </a:moveTo>
                <a:lnTo>
                  <a:pt x="0" y="35"/>
                </a:lnTo>
                <a:lnTo>
                  <a:pt x="0" y="38"/>
                </a:lnTo>
                <a:lnTo>
                  <a:pt x="175" y="38"/>
                </a:lnTo>
                <a:lnTo>
                  <a:pt x="178" y="0"/>
                </a:lnTo>
                <a:lnTo>
                  <a:pt x="2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4360" y="5757840"/>
            <a:ext cx="193680" cy="36360"/>
          </a:xfrm>
          <a:custGeom>
            <a:avLst/>
            <a:gdLst/>
            <a:ahLst/>
            <a:rect l="l" t="t" r="r" b="b"/>
            <a:pathLst>
              <a:path w="122" h="23">
                <a:moveTo>
                  <a:pt x="0" y="23"/>
                </a:moveTo>
                <a:lnTo>
                  <a:pt x="119" y="23"/>
                </a:lnTo>
                <a:lnTo>
                  <a:pt x="122" y="0"/>
                </a:lnTo>
                <a:lnTo>
                  <a:pt x="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54760" y="5748480"/>
            <a:ext cx="233280" cy="50760"/>
          </a:xfrm>
          <a:custGeom>
            <a:avLst/>
            <a:gdLst/>
            <a:ahLst/>
            <a:rect l="l" t="t" r="r" b="b"/>
            <a:pathLst>
              <a:path w="147" h="32">
                <a:moveTo>
                  <a:pt x="0" y="32"/>
                </a:moveTo>
                <a:lnTo>
                  <a:pt x="12" y="32"/>
                </a:lnTo>
                <a:lnTo>
                  <a:pt x="147" y="3"/>
                </a:lnTo>
                <a:lnTo>
                  <a:pt x="147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173640" y="5772240"/>
            <a:ext cx="144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19640" y="5757840"/>
            <a:ext cx="68400" cy="36360"/>
          </a:xfrm>
          <a:custGeom>
            <a:avLst/>
            <a:gdLst/>
            <a:ahLst/>
            <a:rect l="l" t="t" r="r" b="b"/>
            <a:pathLst>
              <a:path w="43" h="23">
                <a:moveTo>
                  <a:pt x="43" y="0"/>
                </a:moveTo>
                <a:lnTo>
                  <a:pt x="31" y="23"/>
                </a:lnTo>
                <a:lnTo>
                  <a:pt x="12" y="0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89760" y="5757840"/>
            <a:ext cx="7452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47" y="23"/>
                </a:moveTo>
                <a:lnTo>
                  <a:pt x="28" y="0"/>
                </a:lnTo>
                <a:lnTo>
                  <a:pt x="25" y="6"/>
                </a:lnTo>
                <a:lnTo>
                  <a:pt x="15" y="2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3920" y="5772240"/>
            <a:ext cx="34920" cy="21960"/>
          </a:xfrm>
          <a:custGeom>
            <a:avLst/>
            <a:gdLst/>
            <a:ahLst/>
            <a:rect l="l" t="t" r="r" b="b"/>
            <a:pathLst>
              <a:path w="22" h="14">
                <a:moveTo>
                  <a:pt x="22" y="14"/>
                </a:moveTo>
                <a:lnTo>
                  <a:pt x="10" y="0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43680" y="5772240"/>
            <a:ext cx="4104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26" y="0"/>
                </a:moveTo>
                <a:lnTo>
                  <a:pt x="16" y="14"/>
                </a:lnTo>
                <a:lnTo>
                  <a:pt x="13" y="17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043680" y="5779800"/>
            <a:ext cx="158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24600" y="5780160"/>
            <a:ext cx="1440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3" y="12"/>
                </a:lnTo>
                <a:lnTo>
                  <a:pt x="0" y="12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53200" y="5605560"/>
            <a:ext cx="16020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48520" y="555948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248520" y="5564160"/>
            <a:ext cx="11880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6252840" y="556416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6248520" y="5573520"/>
            <a:ext cx="252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278400" y="558288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83440" y="5582880"/>
            <a:ext cx="298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13320" y="5583240"/>
            <a:ext cx="1908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23040" y="5587920"/>
            <a:ext cx="2052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9000" y="5605560"/>
            <a:ext cx="155520" cy="9360"/>
          </a:xfrm>
          <a:custGeom>
            <a:avLst/>
            <a:gdLst/>
            <a:ahLst/>
            <a:rect l="l" t="t" r="r" b="b"/>
            <a:pathLst>
              <a:path w="98" h="6">
                <a:moveTo>
                  <a:pt x="3" y="6"/>
                </a:moveTo>
                <a:lnTo>
                  <a:pt x="0" y="0"/>
                </a:lnTo>
                <a:lnTo>
                  <a:pt x="98" y="0"/>
                </a:lnTo>
                <a:lnTo>
                  <a:pt x="98" y="6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3920" y="5559480"/>
            <a:ext cx="12528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078600" y="5564160"/>
            <a:ext cx="1206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159600" y="5564160"/>
            <a:ext cx="349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168960" y="5573520"/>
            <a:ext cx="3024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6138720" y="5582880"/>
            <a:ext cx="3024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6133680" y="5582880"/>
            <a:ext cx="2556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13160" y="5583240"/>
            <a:ext cx="20520" cy="2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103800" y="5587920"/>
            <a:ext cx="2088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94520" y="5559480"/>
            <a:ext cx="58680" cy="50760"/>
          </a:xfrm>
          <a:custGeom>
            <a:avLst/>
            <a:gdLst/>
            <a:ahLst/>
            <a:rect l="l" t="t" r="r" b="b"/>
            <a:pathLst>
              <a:path w="37" h="32">
                <a:moveTo>
                  <a:pt x="0" y="29"/>
                </a:moveTo>
                <a:lnTo>
                  <a:pt x="37" y="32"/>
                </a:lnTo>
                <a:lnTo>
                  <a:pt x="34" y="0"/>
                </a:lnTo>
                <a:lnTo>
                  <a:pt x="3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03880" y="5564160"/>
            <a:ext cx="493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6198840" y="5563800"/>
            <a:ext cx="4932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22960" y="5559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99200" y="5559480"/>
            <a:ext cx="54000" cy="41400"/>
          </a:xfrm>
          <a:custGeom>
            <a:avLst/>
            <a:gdLst/>
            <a:ahLst/>
            <a:rect l="l" t="t" r="r" b="b"/>
            <a:pathLst>
              <a:path w="34" h="26">
                <a:moveTo>
                  <a:pt x="3" y="26"/>
                </a:moveTo>
                <a:lnTo>
                  <a:pt x="28" y="0"/>
                </a:lnTo>
                <a:lnTo>
                  <a:pt x="0" y="0"/>
                </a:lnTo>
                <a:lnTo>
                  <a:pt x="34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22960" y="555948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3480" y="6162840"/>
            <a:ext cx="30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264000" y="6172200"/>
            <a:ext cx="1404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43760" y="6176880"/>
            <a:ext cx="936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43760" y="6162840"/>
            <a:ext cx="29880" cy="1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3480" y="62499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99200" y="55134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29"/>
                </a:moveTo>
                <a:lnTo>
                  <a:pt x="15" y="0"/>
                </a:lnTo>
                <a:lnTo>
                  <a:pt x="31" y="2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22960" y="5504040"/>
            <a:ext cx="230400" cy="55440"/>
          </a:xfrm>
          <a:custGeom>
            <a:avLst/>
            <a:gdLst/>
            <a:ahLst/>
            <a:rect l="l" t="t" r="r" b="b"/>
            <a:pathLst>
              <a:path w="145" h="35">
                <a:moveTo>
                  <a:pt x="16" y="35"/>
                </a:moveTo>
                <a:lnTo>
                  <a:pt x="145" y="0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38800" y="5513400"/>
            <a:ext cx="44640" cy="36360"/>
          </a:xfrm>
          <a:custGeom>
            <a:avLst/>
            <a:gdLst/>
            <a:ahLst/>
            <a:rect l="l" t="t" r="r" b="b"/>
            <a:pathLst>
              <a:path w="28" h="23">
                <a:moveTo>
                  <a:pt x="28" y="23"/>
                </a:moveTo>
                <a:lnTo>
                  <a:pt x="22" y="0"/>
                </a:lnTo>
                <a:lnTo>
                  <a:pt x="0" y="18"/>
                </a:lnTo>
                <a:lnTo>
                  <a:pt x="28" y="2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83440" y="5508720"/>
            <a:ext cx="135000" cy="41040"/>
          </a:xfrm>
          <a:custGeom>
            <a:avLst/>
            <a:gdLst/>
            <a:ahLst/>
            <a:rect l="l" t="t" r="r" b="b"/>
            <a:pathLst>
              <a:path w="85" h="26">
                <a:moveTo>
                  <a:pt x="0" y="26"/>
                </a:moveTo>
                <a:lnTo>
                  <a:pt x="16" y="3"/>
                </a:lnTo>
                <a:lnTo>
                  <a:pt x="28" y="18"/>
                </a:lnTo>
                <a:lnTo>
                  <a:pt x="41" y="0"/>
                </a:lnTo>
                <a:lnTo>
                  <a:pt x="53" y="12"/>
                </a:lnTo>
                <a:lnTo>
                  <a:pt x="60" y="0"/>
                </a:lnTo>
                <a:lnTo>
                  <a:pt x="72" y="6"/>
                </a:lnTo>
                <a:lnTo>
                  <a:pt x="79" y="0"/>
                </a:lnTo>
                <a:lnTo>
                  <a:pt x="85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23120" y="5504040"/>
            <a:ext cx="44280" cy="14040"/>
          </a:xfrm>
          <a:custGeom>
            <a:avLst/>
            <a:gdLst/>
            <a:ahLst/>
            <a:rect l="l" t="t" r="r" b="b"/>
            <a:pathLst>
              <a:path w="28" h="9">
                <a:moveTo>
                  <a:pt x="0" y="6"/>
                </a:moveTo>
                <a:lnTo>
                  <a:pt x="28" y="9"/>
                </a:lnTo>
                <a:lnTo>
                  <a:pt x="28" y="0"/>
                </a:lnTo>
                <a:lnTo>
                  <a:pt x="1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37240" y="580860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27880" y="5886360"/>
            <a:ext cx="1908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05440" y="5803920"/>
            <a:ext cx="18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99320" y="5881680"/>
            <a:ext cx="1584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24600" y="5992920"/>
            <a:ext cx="14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6070680"/>
            <a:ext cx="14040" cy="14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8720" y="5997600"/>
            <a:ext cx="144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2240" y="6075360"/>
            <a:ext cx="16200" cy="14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2240" y="56149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92880" y="5688000"/>
            <a:ext cx="2052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43680" y="561492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39000" y="5688000"/>
            <a:ext cx="15840" cy="19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89680" y="5508720"/>
            <a:ext cx="233280" cy="50760"/>
          </a:xfrm>
          <a:custGeom>
            <a:avLst/>
            <a:gdLst/>
            <a:ahLst/>
            <a:rect l="l" t="t" r="r" b="b"/>
            <a:pathLst>
              <a:path w="147" h="32">
                <a:moveTo>
                  <a:pt x="132" y="32"/>
                </a:moveTo>
                <a:lnTo>
                  <a:pt x="0" y="0"/>
                </a:lnTo>
                <a:lnTo>
                  <a:pt x="147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59600" y="5513400"/>
            <a:ext cx="44280" cy="36360"/>
          </a:xfrm>
          <a:custGeom>
            <a:avLst/>
            <a:gdLst/>
            <a:ahLst/>
            <a:rect l="l" t="t" r="r" b="b"/>
            <a:pathLst>
              <a:path w="28" h="23">
                <a:moveTo>
                  <a:pt x="0" y="23"/>
                </a:moveTo>
                <a:lnTo>
                  <a:pt x="6" y="0"/>
                </a:lnTo>
                <a:lnTo>
                  <a:pt x="28" y="18"/>
                </a:lnTo>
                <a:lnTo>
                  <a:pt x="0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24600" y="5508720"/>
            <a:ext cx="135000" cy="41040"/>
          </a:xfrm>
          <a:custGeom>
            <a:avLst/>
            <a:gdLst/>
            <a:ahLst/>
            <a:rect l="l" t="t" r="r" b="b"/>
            <a:pathLst>
              <a:path w="85" h="26">
                <a:moveTo>
                  <a:pt x="85" y="26"/>
                </a:moveTo>
                <a:lnTo>
                  <a:pt x="69" y="3"/>
                </a:lnTo>
                <a:lnTo>
                  <a:pt x="56" y="18"/>
                </a:lnTo>
                <a:lnTo>
                  <a:pt x="44" y="0"/>
                </a:lnTo>
                <a:lnTo>
                  <a:pt x="34" y="15"/>
                </a:lnTo>
                <a:lnTo>
                  <a:pt x="25" y="0"/>
                </a:lnTo>
                <a:lnTo>
                  <a:pt x="12" y="9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73840" y="5508720"/>
            <a:ext cx="4608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9" y="3"/>
                </a:moveTo>
                <a:lnTo>
                  <a:pt x="0" y="9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6194160" y="5610240"/>
            <a:ext cx="46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48520" y="5610240"/>
            <a:ext cx="1440" cy="13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94520" y="5656320"/>
            <a:ext cx="58680" cy="87120"/>
          </a:xfrm>
          <a:custGeom>
            <a:avLst/>
            <a:gdLst/>
            <a:ahLst/>
            <a:rect l="l" t="t" r="r" b="b"/>
            <a:pathLst>
              <a:path w="37" h="55">
                <a:moveTo>
                  <a:pt x="37" y="0"/>
                </a:moveTo>
                <a:lnTo>
                  <a:pt x="0" y="29"/>
                </a:lnTo>
                <a:lnTo>
                  <a:pt x="31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3480" y="5559480"/>
            <a:ext cx="5040" cy="41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9200" y="5559480"/>
            <a:ext cx="1440" cy="41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119640" y="5992920"/>
            <a:ext cx="54000" cy="28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53200" y="5997600"/>
            <a:ext cx="60120" cy="27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73640" y="5997600"/>
            <a:ext cx="907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68960" y="6029280"/>
            <a:ext cx="10476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64280" y="6039000"/>
            <a:ext cx="109440" cy="4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6075360"/>
            <a:ext cx="1238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3120" y="6084720"/>
            <a:ext cx="13032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43760" y="6116760"/>
            <a:ext cx="16020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43760" y="6126120"/>
            <a:ext cx="16488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138720" y="6162840"/>
            <a:ext cx="149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124680" y="6121440"/>
            <a:ext cx="15876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129360" y="6116400"/>
            <a:ext cx="154080" cy="8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143760" y="6075360"/>
            <a:ext cx="12996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153120" y="6033600"/>
            <a:ext cx="1112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164280" y="5997240"/>
            <a:ext cx="7920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88040" y="5992920"/>
            <a:ext cx="7632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18280" y="619920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51" y="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217920" y="6199200"/>
            <a:ext cx="8100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889600" y="5118120"/>
            <a:ext cx="1486080" cy="64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889600" y="5140440"/>
            <a:ext cx="1486080" cy="622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89600" y="5365800"/>
            <a:ext cx="1486080" cy="484200"/>
          </a:xfrm>
          <a:custGeom>
            <a:avLst/>
            <a:gdLst/>
            <a:ahLst/>
            <a:rect l="l" t="t" r="r" b="b"/>
            <a:pathLst>
              <a:path w="936" h="305">
                <a:moveTo>
                  <a:pt x="936" y="0"/>
                </a:moveTo>
                <a:lnTo>
                  <a:pt x="0" y="305"/>
                </a:lnTo>
                <a:lnTo>
                  <a:pt x="9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32640" y="540864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8" y="11"/>
                </a:moveTo>
                <a:lnTo>
                  <a:pt x="28" y="17"/>
                </a:lnTo>
                <a:lnTo>
                  <a:pt x="25" y="23"/>
                </a:lnTo>
                <a:lnTo>
                  <a:pt x="16" y="26"/>
                </a:lnTo>
                <a:lnTo>
                  <a:pt x="9" y="26"/>
                </a:lnTo>
                <a:lnTo>
                  <a:pt x="3" y="23"/>
                </a:lnTo>
                <a:lnTo>
                  <a:pt x="0" y="17"/>
                </a:lnTo>
                <a:lnTo>
                  <a:pt x="0" y="11"/>
                </a:lnTo>
                <a:lnTo>
                  <a:pt x="3" y="2"/>
                </a:lnTo>
                <a:lnTo>
                  <a:pt x="9" y="0"/>
                </a:lnTo>
                <a:lnTo>
                  <a:pt x="16" y="0"/>
                </a:lnTo>
                <a:lnTo>
                  <a:pt x="25" y="2"/>
                </a:lnTo>
                <a:lnTo>
                  <a:pt x="28" y="11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94360" y="5702400"/>
            <a:ext cx="20520" cy="1908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6"/>
                </a:moveTo>
                <a:lnTo>
                  <a:pt x="9" y="12"/>
                </a:lnTo>
                <a:lnTo>
                  <a:pt x="3" y="12"/>
                </a:lnTo>
                <a:lnTo>
                  <a:pt x="0" y="6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21440" y="5472000"/>
            <a:ext cx="30240" cy="23760"/>
          </a:xfrm>
          <a:custGeom>
            <a:avLst/>
            <a:gdLst/>
            <a:ahLst/>
            <a:rect l="l" t="t" r="r" b="b"/>
            <a:pathLst>
              <a:path w="19" h="15">
                <a:moveTo>
                  <a:pt x="19" y="9"/>
                </a:moveTo>
                <a:lnTo>
                  <a:pt x="15" y="12"/>
                </a:lnTo>
                <a:lnTo>
                  <a:pt x="9" y="15"/>
                </a:lnTo>
                <a:lnTo>
                  <a:pt x="3" y="12"/>
                </a:lnTo>
                <a:lnTo>
                  <a:pt x="0" y="9"/>
                </a:lnTo>
                <a:lnTo>
                  <a:pt x="3" y="3"/>
                </a:lnTo>
                <a:lnTo>
                  <a:pt x="9" y="0"/>
                </a:lnTo>
                <a:lnTo>
                  <a:pt x="15" y="3"/>
                </a:lnTo>
                <a:lnTo>
                  <a:pt x="19" y="9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889600" y="5430600"/>
            <a:ext cx="1486080" cy="45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889600" y="5457600"/>
            <a:ext cx="1486080" cy="438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889600" y="5435280"/>
            <a:ext cx="1486080" cy="45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889600" y="5449680"/>
            <a:ext cx="1479600" cy="446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889600" y="5743080"/>
            <a:ext cx="14860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889600" y="5757480"/>
            <a:ext cx="14860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89600" y="5752800"/>
            <a:ext cx="1469880" cy="244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89600" y="5753160"/>
            <a:ext cx="1479600" cy="239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889600" y="5978520"/>
            <a:ext cx="147960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889600" y="5987520"/>
            <a:ext cx="148608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889600" y="5987520"/>
            <a:ext cx="1486080" cy="101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889600" y="5983200"/>
            <a:ext cx="1479600" cy="101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889600" y="6024600"/>
            <a:ext cx="1479600" cy="7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889600" y="6038640"/>
            <a:ext cx="14796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889600" y="6033960"/>
            <a:ext cx="1486080" cy="68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156360" y="6043680"/>
            <a:ext cx="1485720" cy="63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889600" y="5086440"/>
            <a:ext cx="148608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889600" y="5108040"/>
            <a:ext cx="1486080" cy="65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89600" y="5389560"/>
            <a:ext cx="1486080" cy="465120"/>
          </a:xfrm>
          <a:custGeom>
            <a:avLst/>
            <a:gdLst/>
            <a:ahLst/>
            <a:rect l="l" t="t" r="r" b="b"/>
            <a:pathLst>
              <a:path w="936" h="293">
                <a:moveTo>
                  <a:pt x="936" y="0"/>
                </a:moveTo>
                <a:lnTo>
                  <a:pt x="0" y="293"/>
                </a:lnTo>
                <a:lnTo>
                  <a:pt x="9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889600" y="5375160"/>
            <a:ext cx="1479600" cy="479520"/>
          </a:xfrm>
          <a:custGeom>
            <a:avLst/>
            <a:gdLst/>
            <a:ahLst/>
            <a:rect l="l" t="t" r="r" b="b"/>
            <a:pathLst>
              <a:path w="932" h="302">
                <a:moveTo>
                  <a:pt x="932" y="0"/>
                </a:moveTo>
                <a:lnTo>
                  <a:pt x="0" y="302"/>
                </a:lnTo>
                <a:lnTo>
                  <a:pt x="9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89600" y="5380200"/>
            <a:ext cx="1479600" cy="474480"/>
          </a:xfrm>
          <a:custGeom>
            <a:avLst/>
            <a:gdLst/>
            <a:ahLst/>
            <a:rect l="l" t="t" r="r" b="b"/>
            <a:pathLst>
              <a:path w="932" h="299">
                <a:moveTo>
                  <a:pt x="932" y="0"/>
                </a:moveTo>
                <a:lnTo>
                  <a:pt x="0" y="299"/>
                </a:lnTo>
                <a:lnTo>
                  <a:pt x="9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4856040" y="146700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CBC1-21AF-4C1B-A7FE-AE96D083E65F}" type="slidenum">
              <a:t>3</a:t>
            </a:fld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4440" y="950760"/>
            <a:ext cx="9522000" cy="553104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7000" y="1174680"/>
            <a:ext cx="9312120" cy="5254560"/>
          </a:xfrm>
          <a:custGeom>
            <a:avLst/>
            <a:gdLst/>
            <a:ahLst/>
            <a:rect l="l" t="t" r="r" b="b"/>
            <a:pathLst>
              <a:path w="5813" h="3310">
                <a:moveTo>
                  <a:pt x="3507" y="47"/>
                </a:moveTo>
                <a:cubicBezTo>
                  <a:pt x="3462" y="55"/>
                  <a:pt x="3398" y="155"/>
                  <a:pt x="3360" y="180"/>
                </a:cubicBezTo>
                <a:cubicBezTo>
                  <a:pt x="3347" y="189"/>
                  <a:pt x="3344" y="209"/>
                  <a:pt x="3333" y="220"/>
                </a:cubicBezTo>
                <a:cubicBezTo>
                  <a:pt x="3322" y="231"/>
                  <a:pt x="3306" y="238"/>
                  <a:pt x="3293" y="247"/>
                </a:cubicBezTo>
                <a:cubicBezTo>
                  <a:pt x="3283" y="309"/>
                  <a:pt x="3277" y="371"/>
                  <a:pt x="3267" y="433"/>
                </a:cubicBezTo>
                <a:cubicBezTo>
                  <a:pt x="3263" y="456"/>
                  <a:pt x="3251" y="511"/>
                  <a:pt x="3227" y="527"/>
                </a:cubicBezTo>
                <a:cubicBezTo>
                  <a:pt x="3199" y="546"/>
                  <a:pt x="3164" y="554"/>
                  <a:pt x="3133" y="567"/>
                </a:cubicBezTo>
                <a:cubicBezTo>
                  <a:pt x="3075" y="656"/>
                  <a:pt x="3143" y="569"/>
                  <a:pt x="3067" y="620"/>
                </a:cubicBezTo>
                <a:cubicBezTo>
                  <a:pt x="2961" y="690"/>
                  <a:pt x="3123" y="648"/>
                  <a:pt x="2920" y="673"/>
                </a:cubicBezTo>
                <a:cubicBezTo>
                  <a:pt x="2729" y="737"/>
                  <a:pt x="2533" y="764"/>
                  <a:pt x="2333" y="780"/>
                </a:cubicBezTo>
                <a:cubicBezTo>
                  <a:pt x="2110" y="837"/>
                  <a:pt x="1868" y="825"/>
                  <a:pt x="1640" y="833"/>
                </a:cubicBezTo>
                <a:cubicBezTo>
                  <a:pt x="1201" y="890"/>
                  <a:pt x="1000" y="866"/>
                  <a:pt x="400" y="873"/>
                </a:cubicBezTo>
                <a:cubicBezTo>
                  <a:pt x="275" y="904"/>
                  <a:pt x="329" y="891"/>
                  <a:pt x="240" y="913"/>
                </a:cubicBezTo>
                <a:cubicBezTo>
                  <a:pt x="213" y="920"/>
                  <a:pt x="160" y="940"/>
                  <a:pt x="160" y="940"/>
                </a:cubicBezTo>
                <a:cubicBezTo>
                  <a:pt x="114" y="971"/>
                  <a:pt x="84" y="1001"/>
                  <a:pt x="53" y="1047"/>
                </a:cubicBezTo>
                <a:cubicBezTo>
                  <a:pt x="15" y="1165"/>
                  <a:pt x="13" y="1284"/>
                  <a:pt x="0" y="1407"/>
                </a:cubicBezTo>
                <a:cubicBezTo>
                  <a:pt x="7" y="1541"/>
                  <a:pt x="3" y="1831"/>
                  <a:pt x="80" y="1967"/>
                </a:cubicBezTo>
                <a:cubicBezTo>
                  <a:pt x="153" y="2095"/>
                  <a:pt x="269" y="2116"/>
                  <a:pt x="400" y="2153"/>
                </a:cubicBezTo>
                <a:cubicBezTo>
                  <a:pt x="582" y="2205"/>
                  <a:pt x="771" y="2212"/>
                  <a:pt x="960" y="2220"/>
                </a:cubicBezTo>
                <a:cubicBezTo>
                  <a:pt x="1093" y="2226"/>
                  <a:pt x="1227" y="2229"/>
                  <a:pt x="1360" y="2233"/>
                </a:cubicBezTo>
                <a:cubicBezTo>
                  <a:pt x="1378" y="2242"/>
                  <a:pt x="1401" y="2244"/>
                  <a:pt x="1413" y="2260"/>
                </a:cubicBezTo>
                <a:cubicBezTo>
                  <a:pt x="1461" y="2324"/>
                  <a:pt x="1470" y="2512"/>
                  <a:pt x="1480" y="2580"/>
                </a:cubicBezTo>
                <a:cubicBezTo>
                  <a:pt x="1502" y="2727"/>
                  <a:pt x="1575" y="2875"/>
                  <a:pt x="1680" y="2980"/>
                </a:cubicBezTo>
                <a:cubicBezTo>
                  <a:pt x="1706" y="3061"/>
                  <a:pt x="1760" y="3117"/>
                  <a:pt x="1813" y="3180"/>
                </a:cubicBezTo>
                <a:cubicBezTo>
                  <a:pt x="1848" y="3222"/>
                  <a:pt x="1846" y="3260"/>
                  <a:pt x="1920" y="3273"/>
                </a:cubicBezTo>
                <a:cubicBezTo>
                  <a:pt x="2079" y="3301"/>
                  <a:pt x="1973" y="3286"/>
                  <a:pt x="2240" y="3300"/>
                </a:cubicBezTo>
                <a:cubicBezTo>
                  <a:pt x="3442" y="3261"/>
                  <a:pt x="1828" y="3310"/>
                  <a:pt x="4640" y="3273"/>
                </a:cubicBezTo>
                <a:cubicBezTo>
                  <a:pt x="4714" y="3272"/>
                  <a:pt x="4853" y="3207"/>
                  <a:pt x="4853" y="3207"/>
                </a:cubicBezTo>
                <a:cubicBezTo>
                  <a:pt x="4933" y="3127"/>
                  <a:pt x="4887" y="3185"/>
                  <a:pt x="4947" y="3007"/>
                </a:cubicBezTo>
                <a:cubicBezTo>
                  <a:pt x="4975" y="2924"/>
                  <a:pt x="5028" y="2882"/>
                  <a:pt x="5093" y="2833"/>
                </a:cubicBezTo>
                <a:cubicBezTo>
                  <a:pt x="5102" y="2806"/>
                  <a:pt x="5104" y="2776"/>
                  <a:pt x="5120" y="2753"/>
                </a:cubicBezTo>
                <a:cubicBezTo>
                  <a:pt x="5128" y="2742"/>
                  <a:pt x="5147" y="2746"/>
                  <a:pt x="5160" y="2740"/>
                </a:cubicBezTo>
                <a:cubicBezTo>
                  <a:pt x="5174" y="2733"/>
                  <a:pt x="5186" y="2721"/>
                  <a:pt x="5200" y="2713"/>
                </a:cubicBezTo>
                <a:cubicBezTo>
                  <a:pt x="5330" y="2639"/>
                  <a:pt x="5495" y="2656"/>
                  <a:pt x="5640" y="2620"/>
                </a:cubicBezTo>
                <a:cubicBezTo>
                  <a:pt x="5714" y="2570"/>
                  <a:pt x="5708" y="2540"/>
                  <a:pt x="5733" y="2447"/>
                </a:cubicBezTo>
                <a:cubicBezTo>
                  <a:pt x="5759" y="2349"/>
                  <a:pt x="5789" y="2252"/>
                  <a:pt x="5813" y="2153"/>
                </a:cubicBezTo>
                <a:cubicBezTo>
                  <a:pt x="5778" y="2044"/>
                  <a:pt x="5744" y="1928"/>
                  <a:pt x="5680" y="1833"/>
                </a:cubicBezTo>
                <a:cubicBezTo>
                  <a:pt x="5644" y="1612"/>
                  <a:pt x="5699" y="1872"/>
                  <a:pt x="5627" y="1700"/>
                </a:cubicBezTo>
                <a:cubicBezTo>
                  <a:pt x="5602" y="1640"/>
                  <a:pt x="5594" y="1574"/>
                  <a:pt x="5573" y="1513"/>
                </a:cubicBezTo>
                <a:cubicBezTo>
                  <a:pt x="5544" y="1332"/>
                  <a:pt x="5476" y="1160"/>
                  <a:pt x="5440" y="980"/>
                </a:cubicBezTo>
                <a:cubicBezTo>
                  <a:pt x="5407" y="817"/>
                  <a:pt x="5383" y="655"/>
                  <a:pt x="5320" y="500"/>
                </a:cubicBezTo>
                <a:cubicBezTo>
                  <a:pt x="5280" y="401"/>
                  <a:pt x="5300" y="411"/>
                  <a:pt x="5240" y="340"/>
                </a:cubicBezTo>
                <a:cubicBezTo>
                  <a:pt x="5230" y="328"/>
                  <a:pt x="5225" y="311"/>
                  <a:pt x="5213" y="300"/>
                </a:cubicBezTo>
                <a:cubicBezTo>
                  <a:pt x="5077" y="182"/>
                  <a:pt x="4991" y="79"/>
                  <a:pt x="4827" y="47"/>
                </a:cubicBezTo>
                <a:cubicBezTo>
                  <a:pt x="4527" y="25"/>
                  <a:pt x="3940" y="0"/>
                  <a:pt x="3693" y="20"/>
                </a:cubicBezTo>
                <a:cubicBezTo>
                  <a:pt x="3446" y="40"/>
                  <a:pt x="3419" y="137"/>
                  <a:pt x="3347" y="167"/>
                </a:cubicBezTo>
                <a:lnTo>
                  <a:pt x="3507" y="47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98480" y="1377720"/>
            <a:ext cx="279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dimiento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ctromecánic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67200" y="1377720"/>
            <a:ext cx="255492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Procedimientos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Electrónic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20960" y="4405320"/>
            <a:ext cx="7085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lvl="2" marL="38088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 flexi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y más posibilidades de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control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esta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y 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apidez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de respuesta,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 mantenimien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ida media y mayor fiabilidad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380880">
              <a:lnSpc>
                <a:spcPct val="120000"/>
              </a:lnSpc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No producción del arco eléctrico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" y="2577600"/>
            <a:ext cx="53452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lvl="1" marL="366840" indent="-166680">
              <a:lnSpc>
                <a:spcPct val="11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enor robustez eléctrica, al disponer de menor capacidad para soportar sobretensiones y sobrecorrient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366840" indent="-166680">
              <a:lnSpc>
                <a:spcPct val="11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ayor coste para algunas de sus aplicaciones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70720" y="3535200"/>
            <a:ext cx="566640" cy="622440"/>
          </a:xfrm>
          <a:prstGeom prst="downArrow">
            <a:avLst>
              <a:gd name="adj1" fmla="val 50000"/>
              <a:gd name="adj2" fmla="val 27462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854640" y="4833720"/>
            <a:ext cx="907920" cy="1570320"/>
            <a:chOff x="854640" y="4833720"/>
            <a:chExt cx="907920" cy="1570320"/>
          </a:xfrm>
        </p:grpSpPr>
        <p:sp>
          <p:nvSpPr>
            <p:cNvPr id="450" name=""/>
            <p:cNvSpPr/>
            <p:nvPr/>
          </p:nvSpPr>
          <p:spPr>
            <a:xfrm rot="8266200">
              <a:off x="1109880" y="5656320"/>
              <a:ext cx="491400" cy="669240"/>
            </a:xfrm>
            <a:custGeom>
              <a:avLst/>
              <a:gdLst/>
              <a:ahLst/>
              <a:rect l="l" t="t" r="r" b="b"/>
              <a:pathLst>
                <a:path w="1132" h="1525">
                  <a:moveTo>
                    <a:pt x="1027" y="0"/>
                  </a:moveTo>
                  <a:lnTo>
                    <a:pt x="946" y="64"/>
                  </a:lnTo>
                  <a:lnTo>
                    <a:pt x="892" y="144"/>
                  </a:lnTo>
                  <a:lnTo>
                    <a:pt x="825" y="184"/>
                  </a:lnTo>
                  <a:lnTo>
                    <a:pt x="726" y="340"/>
                  </a:lnTo>
                  <a:lnTo>
                    <a:pt x="687" y="313"/>
                  </a:lnTo>
                  <a:lnTo>
                    <a:pt x="645" y="376"/>
                  </a:lnTo>
                  <a:lnTo>
                    <a:pt x="551" y="385"/>
                  </a:lnTo>
                  <a:lnTo>
                    <a:pt x="600" y="480"/>
                  </a:lnTo>
                  <a:lnTo>
                    <a:pt x="495" y="475"/>
                  </a:lnTo>
                  <a:lnTo>
                    <a:pt x="543" y="574"/>
                  </a:lnTo>
                  <a:lnTo>
                    <a:pt x="430" y="578"/>
                  </a:lnTo>
                  <a:lnTo>
                    <a:pt x="458" y="664"/>
                  </a:lnTo>
                  <a:lnTo>
                    <a:pt x="365" y="676"/>
                  </a:lnTo>
                  <a:lnTo>
                    <a:pt x="382" y="763"/>
                  </a:lnTo>
                  <a:lnTo>
                    <a:pt x="287" y="802"/>
                  </a:lnTo>
                  <a:lnTo>
                    <a:pt x="233" y="883"/>
                  </a:lnTo>
                  <a:lnTo>
                    <a:pt x="0" y="1251"/>
                  </a:lnTo>
                  <a:lnTo>
                    <a:pt x="413" y="1525"/>
                  </a:lnTo>
                  <a:lnTo>
                    <a:pt x="672" y="1046"/>
                  </a:lnTo>
                  <a:lnTo>
                    <a:pt x="678" y="959"/>
                  </a:lnTo>
                  <a:lnTo>
                    <a:pt x="770" y="946"/>
                  </a:lnTo>
                  <a:lnTo>
                    <a:pt x="746" y="857"/>
                  </a:lnTo>
                  <a:lnTo>
                    <a:pt x="838" y="847"/>
                  </a:lnTo>
                  <a:lnTo>
                    <a:pt x="792" y="748"/>
                  </a:lnTo>
                  <a:lnTo>
                    <a:pt x="901" y="745"/>
                  </a:lnTo>
                  <a:lnTo>
                    <a:pt x="841" y="632"/>
                  </a:lnTo>
                  <a:lnTo>
                    <a:pt x="949" y="632"/>
                  </a:lnTo>
                  <a:lnTo>
                    <a:pt x="928" y="574"/>
                  </a:lnTo>
                  <a:lnTo>
                    <a:pt x="976" y="500"/>
                  </a:lnTo>
                  <a:lnTo>
                    <a:pt x="928" y="469"/>
                  </a:lnTo>
                  <a:lnTo>
                    <a:pt x="1027" y="315"/>
                  </a:lnTo>
                  <a:lnTo>
                    <a:pt x="1045" y="243"/>
                  </a:lnTo>
                  <a:lnTo>
                    <a:pt x="1099" y="166"/>
                  </a:lnTo>
                  <a:lnTo>
                    <a:pt x="1132" y="63"/>
                  </a:lnTo>
                  <a:lnTo>
                    <a:pt x="1027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8266200">
              <a:off x="1063440" y="5345280"/>
              <a:ext cx="391320" cy="381600"/>
            </a:xfrm>
            <a:custGeom>
              <a:avLst/>
              <a:gdLst/>
              <a:ahLst/>
              <a:rect l="l" t="t" r="r" b="b"/>
              <a:pathLst>
                <a:path w="898" h="871">
                  <a:moveTo>
                    <a:pt x="406" y="0"/>
                  </a:moveTo>
                  <a:lnTo>
                    <a:pt x="328" y="26"/>
                  </a:lnTo>
                  <a:lnTo>
                    <a:pt x="274" y="102"/>
                  </a:lnTo>
                  <a:lnTo>
                    <a:pt x="223" y="75"/>
                  </a:lnTo>
                  <a:lnTo>
                    <a:pt x="39" y="334"/>
                  </a:lnTo>
                  <a:lnTo>
                    <a:pt x="36" y="381"/>
                  </a:lnTo>
                  <a:lnTo>
                    <a:pt x="0" y="462"/>
                  </a:lnTo>
                  <a:lnTo>
                    <a:pt x="629" y="871"/>
                  </a:lnTo>
                  <a:lnTo>
                    <a:pt x="687" y="812"/>
                  </a:lnTo>
                  <a:lnTo>
                    <a:pt x="728" y="794"/>
                  </a:lnTo>
                  <a:lnTo>
                    <a:pt x="898" y="487"/>
                  </a:lnTo>
                  <a:lnTo>
                    <a:pt x="831" y="444"/>
                  </a:lnTo>
                  <a:lnTo>
                    <a:pt x="870" y="372"/>
                  </a:lnTo>
                  <a:lnTo>
                    <a:pt x="861" y="285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8266200">
              <a:off x="1079280" y="5332320"/>
              <a:ext cx="302400" cy="221400"/>
            </a:xfrm>
            <a:custGeom>
              <a:avLst/>
              <a:gdLst/>
              <a:ahLst/>
              <a:rect l="l" t="t" r="r" b="b"/>
              <a:pathLst>
                <a:path w="695" h="502">
                  <a:moveTo>
                    <a:pt x="34" y="0"/>
                  </a:moveTo>
                  <a:lnTo>
                    <a:pt x="695" y="423"/>
                  </a:lnTo>
                  <a:lnTo>
                    <a:pt x="611" y="502"/>
                  </a:lnTo>
                  <a:lnTo>
                    <a:pt x="0" y="9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266200">
              <a:off x="1019160" y="5136480"/>
              <a:ext cx="404280" cy="347760"/>
            </a:xfrm>
            <a:custGeom>
              <a:avLst/>
              <a:gdLst/>
              <a:ahLst/>
              <a:rect l="l" t="t" r="r" b="b"/>
              <a:pathLst>
                <a:path w="930" h="792">
                  <a:moveTo>
                    <a:pt x="175" y="27"/>
                  </a:moveTo>
                  <a:lnTo>
                    <a:pt x="0" y="297"/>
                  </a:lnTo>
                  <a:lnTo>
                    <a:pt x="746" y="792"/>
                  </a:lnTo>
                  <a:lnTo>
                    <a:pt x="930" y="522"/>
                  </a:lnTo>
                  <a:lnTo>
                    <a:pt x="917" y="400"/>
                  </a:lnTo>
                  <a:lnTo>
                    <a:pt x="306" y="0"/>
                  </a:lnTo>
                  <a:lnTo>
                    <a:pt x="175" y="27"/>
                  </a:lnTo>
                  <a:close/>
                </a:path>
              </a:pathLst>
            </a:custGeom>
            <a:solidFill>
              <a:srgbClr val="60606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8266200">
              <a:off x="1345320" y="5445360"/>
              <a:ext cx="128880" cy="151560"/>
            </a:xfrm>
            <a:custGeom>
              <a:avLst/>
              <a:gdLst/>
              <a:ahLst/>
              <a:rect l="l" t="t" r="r" b="b"/>
              <a:pathLst>
                <a:path w="296" h="346">
                  <a:moveTo>
                    <a:pt x="190" y="0"/>
                  </a:moveTo>
                  <a:lnTo>
                    <a:pt x="0" y="292"/>
                  </a:lnTo>
                  <a:lnTo>
                    <a:pt x="81" y="346"/>
                  </a:lnTo>
                  <a:lnTo>
                    <a:pt x="202" y="316"/>
                  </a:lnTo>
                  <a:lnTo>
                    <a:pt x="296" y="159"/>
                  </a:lnTo>
                  <a:lnTo>
                    <a:pt x="266" y="46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8266200">
              <a:off x="1141200" y="5441760"/>
              <a:ext cx="225720" cy="216000"/>
            </a:xfrm>
            <a:custGeom>
              <a:avLst/>
              <a:gdLst/>
              <a:ahLst/>
              <a:rect l="l" t="t" r="r" b="b"/>
              <a:pathLst>
                <a:path w="519" h="494">
                  <a:moveTo>
                    <a:pt x="198" y="0"/>
                  </a:moveTo>
                  <a:lnTo>
                    <a:pt x="104" y="36"/>
                  </a:lnTo>
                  <a:lnTo>
                    <a:pt x="0" y="197"/>
                  </a:lnTo>
                  <a:lnTo>
                    <a:pt x="18" y="314"/>
                  </a:lnTo>
                  <a:lnTo>
                    <a:pt x="302" y="494"/>
                  </a:lnTo>
                  <a:lnTo>
                    <a:pt x="427" y="455"/>
                  </a:lnTo>
                  <a:lnTo>
                    <a:pt x="519" y="305"/>
                  </a:lnTo>
                  <a:lnTo>
                    <a:pt x="513" y="19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8266200">
              <a:off x="1036800" y="5493240"/>
              <a:ext cx="118800" cy="160560"/>
            </a:xfrm>
            <a:custGeom>
              <a:avLst/>
              <a:gdLst/>
              <a:ahLst/>
              <a:rect l="l" t="t" r="r" b="b"/>
              <a:pathLst>
                <a:path w="272" h="364">
                  <a:moveTo>
                    <a:pt x="85" y="41"/>
                  </a:moveTo>
                  <a:lnTo>
                    <a:pt x="187" y="0"/>
                  </a:lnTo>
                  <a:lnTo>
                    <a:pt x="272" y="53"/>
                  </a:lnTo>
                  <a:lnTo>
                    <a:pt x="91" y="364"/>
                  </a:lnTo>
                  <a:lnTo>
                    <a:pt x="12" y="314"/>
                  </a:lnTo>
                  <a:lnTo>
                    <a:pt x="0" y="189"/>
                  </a:lnTo>
                  <a:lnTo>
                    <a:pt x="85" y="41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1035360" y="5345640"/>
              <a:ext cx="384840" cy="55440"/>
            </a:xfrm>
            <a:prstGeom prst="line">
              <a:avLst/>
            </a:prstGeom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143720" y="5628600"/>
              <a:ext cx="272880" cy="50400"/>
            </a:xfrm>
            <a:prstGeom prst="line">
              <a:avLst/>
            </a:prstGeom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54640" y="4833720"/>
              <a:ext cx="591840" cy="595080"/>
              <a:chOff x="854640" y="4833720"/>
              <a:chExt cx="591840" cy="595080"/>
            </a:xfrm>
          </p:grpSpPr>
          <p:sp>
            <p:nvSpPr>
              <p:cNvPr id="460" name=""/>
              <p:cNvSpPr/>
              <p:nvPr/>
            </p:nvSpPr>
            <p:spPr>
              <a:xfrm rot="8266200">
                <a:off x="1124640" y="4935960"/>
                <a:ext cx="71640" cy="72360"/>
              </a:xfrm>
              <a:custGeom>
                <a:avLst/>
                <a:gdLst/>
                <a:ahLst/>
                <a:rect l="l" t="t" r="r" b="b"/>
                <a:pathLst>
                  <a:path w="166" h="164">
                    <a:moveTo>
                      <a:pt x="30" y="0"/>
                    </a:moveTo>
                    <a:lnTo>
                      <a:pt x="166" y="99"/>
                    </a:lnTo>
                    <a:lnTo>
                      <a:pt x="136" y="144"/>
                    </a:lnTo>
                    <a:lnTo>
                      <a:pt x="87" y="105"/>
                    </a:lnTo>
                    <a:lnTo>
                      <a:pt x="43" y="164"/>
                    </a:lnTo>
                    <a:lnTo>
                      <a:pt x="9" y="137"/>
                    </a:lnTo>
                    <a:lnTo>
                      <a:pt x="48" y="81"/>
                    </a:lnTo>
                    <a:lnTo>
                      <a:pt x="0" y="45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8266200">
                <a:off x="952920" y="4908600"/>
                <a:ext cx="395280" cy="444960"/>
              </a:xfrm>
              <a:custGeom>
                <a:avLst/>
                <a:gdLst/>
                <a:ahLst/>
                <a:rect l="l" t="t" r="r" b="b"/>
                <a:pathLst>
                  <a:path w="908" h="1013">
                    <a:moveTo>
                      <a:pt x="193" y="0"/>
                    </a:moveTo>
                    <a:lnTo>
                      <a:pt x="908" y="444"/>
                    </a:lnTo>
                    <a:lnTo>
                      <a:pt x="782" y="516"/>
                    </a:lnTo>
                    <a:lnTo>
                      <a:pt x="678" y="523"/>
                    </a:lnTo>
                    <a:lnTo>
                      <a:pt x="458" y="878"/>
                    </a:lnTo>
                    <a:lnTo>
                      <a:pt x="377" y="977"/>
                    </a:lnTo>
                    <a:lnTo>
                      <a:pt x="288" y="1013"/>
                    </a:lnTo>
                    <a:lnTo>
                      <a:pt x="216" y="1013"/>
                    </a:lnTo>
                    <a:lnTo>
                      <a:pt x="45" y="869"/>
                    </a:lnTo>
                    <a:lnTo>
                      <a:pt x="72" y="833"/>
                    </a:lnTo>
                    <a:lnTo>
                      <a:pt x="252" y="968"/>
                    </a:lnTo>
                    <a:lnTo>
                      <a:pt x="350" y="934"/>
                    </a:lnTo>
                    <a:lnTo>
                      <a:pt x="401" y="871"/>
                    </a:lnTo>
                    <a:lnTo>
                      <a:pt x="0" y="572"/>
                    </a:lnTo>
                    <a:lnTo>
                      <a:pt x="220" y="210"/>
                    </a:lnTo>
                    <a:lnTo>
                      <a:pt x="189" y="187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60606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8266200">
                <a:off x="1045800" y="5116320"/>
                <a:ext cx="319320" cy="227520"/>
              </a:xfrm>
              <a:custGeom>
                <a:avLst/>
                <a:gdLst/>
                <a:ahLst/>
                <a:rect l="l" t="t" r="r" b="b"/>
                <a:pathLst>
                  <a:path w="733" h="517">
                    <a:moveTo>
                      <a:pt x="0" y="0"/>
                    </a:moveTo>
                    <a:lnTo>
                      <a:pt x="733" y="504"/>
                    </a:lnTo>
                    <a:lnTo>
                      <a:pt x="637" y="517"/>
                    </a:lnTo>
                    <a:lnTo>
                      <a:pt x="526" y="517"/>
                    </a:lnTo>
                    <a:lnTo>
                      <a:pt x="39" y="189"/>
                    </a:lnTo>
                    <a:lnTo>
                      <a:pt x="39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043640" y="5182920"/>
                <a:ext cx="313200" cy="424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046160" y="514368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1044000" y="5115600"/>
                <a:ext cx="27864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036800" y="5086440"/>
                <a:ext cx="27900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1030320" y="5060160"/>
                <a:ext cx="279000" cy="1908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027080" y="503136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1022760" y="5003640"/>
                <a:ext cx="279000" cy="18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rot="8266200">
              <a:off x="1164960" y="5638320"/>
              <a:ext cx="279000" cy="277560"/>
            </a:xfrm>
            <a:custGeom>
              <a:avLst/>
              <a:gdLst/>
              <a:ahLst/>
              <a:rect l="l" t="t" r="r" b="b"/>
              <a:pathLst>
                <a:path w="642" h="633">
                  <a:moveTo>
                    <a:pt x="233" y="0"/>
                  </a:moveTo>
                  <a:lnTo>
                    <a:pt x="642" y="256"/>
                  </a:lnTo>
                  <a:lnTo>
                    <a:pt x="437" y="633"/>
                  </a:lnTo>
                  <a:lnTo>
                    <a:pt x="0" y="362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222920" y="5855760"/>
              <a:ext cx="249120" cy="543240"/>
              <a:chOff x="1222920" y="5855760"/>
              <a:chExt cx="249120" cy="54324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1360080" y="6329520"/>
                <a:ext cx="79920" cy="144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352880" y="6285600"/>
                <a:ext cx="81000" cy="118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1337760" y="6257520"/>
                <a:ext cx="105480" cy="154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1323000" y="6175080"/>
                <a:ext cx="107280" cy="172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1297440" y="6138720"/>
                <a:ext cx="147240" cy="237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1272600" y="6110280"/>
                <a:ext cx="199440" cy="342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1304280" y="6093360"/>
                <a:ext cx="127800" cy="201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254240" y="6064560"/>
                <a:ext cx="205920" cy="288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288080" y="6044760"/>
                <a:ext cx="134640" cy="180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269720" y="5990760"/>
                <a:ext cx="150120" cy="2052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250640" y="6013080"/>
                <a:ext cx="199800" cy="2808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235520" y="5960520"/>
                <a:ext cx="211680" cy="2880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1259640" y="5938560"/>
                <a:ext cx="155160" cy="2484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1222920" y="5855760"/>
                <a:ext cx="206280" cy="36360"/>
              </a:xfrm>
              <a:prstGeom prst="line">
                <a:avLst/>
              </a:prstGeom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8266200">
                <a:off x="1368720" y="6319440"/>
                <a:ext cx="72720" cy="63000"/>
              </a:xfrm>
              <a:custGeom>
                <a:avLst/>
                <a:gdLst/>
                <a:ahLst/>
                <a:rect l="l" t="t" r="r" b="b"/>
                <a:pathLst>
                  <a:path w="167" h="145">
                    <a:moveTo>
                      <a:pt x="74" y="0"/>
                    </a:moveTo>
                    <a:lnTo>
                      <a:pt x="0" y="58"/>
                    </a:lnTo>
                    <a:lnTo>
                      <a:pt x="140" y="145"/>
                    </a:lnTo>
                    <a:lnTo>
                      <a:pt x="167" y="5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876920" y="3352680"/>
            <a:ext cx="1600200" cy="997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7772400" y="3733920"/>
            <a:ext cx="1143000" cy="726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162920" y="2133720"/>
            <a:ext cx="1600200" cy="14875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5638680" y="2362320"/>
            <a:ext cx="120996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9180-8180-4E43-BCC4-B13581CD6348}" type="slidenum">
              <a:t>4</a:t>
            </a:fld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466560" y="909720"/>
            <a:ext cx="8999640" cy="4040640"/>
            <a:chOff x="466560" y="909720"/>
            <a:chExt cx="8999640" cy="4040640"/>
          </a:xfrm>
        </p:grpSpPr>
        <p:sp>
          <p:nvSpPr>
            <p:cNvPr id="492" name=""/>
            <p:cNvSpPr/>
            <p:nvPr/>
          </p:nvSpPr>
          <p:spPr>
            <a:xfrm>
              <a:off x="3373560" y="1868400"/>
              <a:ext cx="3413160" cy="2042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ff0033"/>
                  </a:solidFill>
                  <a:latin typeface="Arial"/>
                </a:rPr>
                <a:t>ELECTRÓNICA DE POTENCIA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6560" y="909720"/>
              <a:ext cx="317196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2" marL="1143000" algn="ctr">
                <a:lnSpc>
                  <a:spcPct val="100000"/>
                </a:lnSpc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EFICIENCIA ENERGÉTICA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508800" y="1000080"/>
              <a:ext cx="295740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ELECTRÓNICA PORTÁTI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07200" y="3781440"/>
              <a:ext cx="2960640" cy="111852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2ª REVOLUCIÓN INDUSTRIAL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2880" y="3666960"/>
              <a:ext cx="3321000" cy="12834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fafd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"/>
                </a:rPr>
                <a:t>MEDIO-AMBIENTE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09520" y="2151000"/>
            <a:ext cx="9700200" cy="4239720"/>
            <a:chOff x="209520" y="2151000"/>
            <a:chExt cx="9700200" cy="4239720"/>
          </a:xfrm>
        </p:grpSpPr>
        <p:sp>
          <p:nvSpPr>
            <p:cNvPr id="498" name=""/>
            <p:cNvSpPr/>
            <p:nvPr/>
          </p:nvSpPr>
          <p:spPr>
            <a:xfrm>
              <a:off x="209520" y="2151000"/>
              <a:ext cx="31035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Balastos electrónico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Almacenadores magnét.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Sist. de transmisión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HVDC, HVAC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74920" y="2206800"/>
              <a:ext cx="3034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municación sin cab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Equipos con batería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30800" y="5365800"/>
              <a:ext cx="426312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ntrol de emisione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alidad de la Potencia consumida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Vehículos eléctricos / híbridos 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59440" y="5078520"/>
              <a:ext cx="362916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alentamiento por Inducción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Automatización de empresas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Robótica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afd00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s-ES_tradnl" sz="2000" spc="-1" strike="noStrike">
                  <a:solidFill>
                    <a:srgbClr val="fafd00"/>
                  </a:solidFill>
                  <a:latin typeface="Arial"/>
                </a:rPr>
                <a:t>Control de velocidad variable</a:t>
              </a:r>
              <a:endParaRPr b="0" lang="en-US" sz="20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38160"/>
            <a:ext cx="10144080" cy="920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c0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ffffff"/>
                </a:solidFill>
                <a:latin typeface="Arial"/>
              </a:rPr>
              <a:t>Nuevas y Emergentes Áreas de Aplicación</a:t>
            </a:r>
            <a:endParaRPr b="0" lang="en-US" sz="33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3002-2308-4C4D-AE1F-1E170C40DE06}" type="slidenum">
              <a:t>5</a:t>
            </a:fld>
          </a:p>
        </p:txBody>
      </p:sp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>
            <a:lum contrast="-48000"/>
          </a:blip>
          <a:srcRect l="0" t="13512" r="0" b="9422"/>
          <a:stretch/>
        </p:blipFill>
        <p:spPr>
          <a:xfrm>
            <a:off x="631800" y="912960"/>
            <a:ext cx="8675640" cy="56196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620800" y="3840120"/>
            <a:ext cx="4502160" cy="18604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86240" y="1855800"/>
            <a:ext cx="2606760" cy="10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77120" y="192240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IRCUITO D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78640" y="2341440"/>
            <a:ext cx="157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5040" y="3832200"/>
            <a:ext cx="321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RCUITO DE MAND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362000" y="2189160"/>
            <a:ext cx="8128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arg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9600" y="1744560"/>
            <a:ext cx="247428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ergía Eléctric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2280" y="2112840"/>
            <a:ext cx="154152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 entrad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21280" y="4486320"/>
            <a:ext cx="1908000" cy="681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32280" y="3073320"/>
            <a:ext cx="66816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Infor.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336400" y="3112920"/>
            <a:ext cx="175032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Alimentación.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73120" y="3297240"/>
            <a:ext cx="2343240" cy="32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100" spc="-1" strike="noStrike">
                <a:solidFill>
                  <a:srgbClr val="0000ff"/>
                </a:solidFill>
                <a:latin typeface="Arial"/>
              </a:rPr>
              <a:t>Señales de mando</a:t>
            </a:r>
            <a:endParaRPr b="0" lang="en-US" sz="21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05120" y="4361040"/>
            <a:ext cx="2033640" cy="9889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15520" y="4632480"/>
            <a:ext cx="141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t. Dispar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223080" y="488160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 Bloque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59880" y="468936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t. de Control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50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2532240"/>
            <a:ext cx="17319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03800" y="2532240"/>
            <a:ext cx="1125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76720" y="2878200"/>
            <a:ext cx="0" cy="909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32480" y="2878200"/>
            <a:ext cx="0" cy="8874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13560" y="2835360"/>
            <a:ext cx="0" cy="930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333D-C0AC-4285-90EB-60192BF84B02}" type="slidenum">
              <a:t>6</a:t>
            </a:fld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7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Electrónica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7120" y="1757520"/>
            <a:ext cx="9204480" cy="456696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3640" y="3100320"/>
            <a:ext cx="4103640" cy="1612800"/>
            <a:chOff x="683640" y="3100320"/>
            <a:chExt cx="4103640" cy="1612800"/>
          </a:xfrm>
        </p:grpSpPr>
        <p:sp>
          <p:nvSpPr>
            <p:cNvPr id="529" name=""/>
            <p:cNvSpPr/>
            <p:nvPr/>
          </p:nvSpPr>
          <p:spPr>
            <a:xfrm>
              <a:off x="1960200" y="3263760"/>
              <a:ext cx="1282680" cy="646200"/>
            </a:xfrm>
            <a:prstGeom prst="rect">
              <a:avLst/>
            </a:prstGeom>
            <a:solidFill>
              <a:srgbClr val="66ccff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680" y="3527280"/>
              <a:ext cx="115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85160" y="3427200"/>
              <a:ext cx="21672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39640" y="3527280"/>
              <a:ext cx="122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45840" y="3427200"/>
              <a:ext cx="216720" cy="2001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543400" y="3905280"/>
              <a:ext cx="1800" cy="53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35040" y="3905280"/>
              <a:ext cx="2163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0" y="127"/>
                  </a:moveTo>
                  <a:lnTo>
                    <a:pt x="63" y="0"/>
                  </a:lnTo>
                  <a:lnTo>
                    <a:pt x="126" y="127"/>
                  </a:lnTo>
                  <a:lnTo>
                    <a:pt x="63" y="63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5360" y="3209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1808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5020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89520" y="3209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22360" y="320976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3640" y="36367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600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75240" y="3636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46520" y="36367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264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6036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928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22320" y="417492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8684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0060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348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64120" y="417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3756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66800" y="4174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3880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7848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08080" y="41749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2940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7944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7680" y="41749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77360" y="41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08760" y="417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2016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5300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83680" y="4438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5568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8816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19200" y="4438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9084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2512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1560" y="4438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81440" y="443844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31120" y="4438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57360" y="3100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5200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5220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864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24360" y="31003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7080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3920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0480" y="31003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9076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319640" y="31003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9344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2628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60200" y="3100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80080" y="36367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424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75280" y="36367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25320" y="363672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8004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12520" y="363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459040" y="2935440"/>
            <a:ext cx="3897000" cy="1776240"/>
            <a:chOff x="5459040" y="2935440"/>
            <a:chExt cx="3897000" cy="1776240"/>
          </a:xfrm>
        </p:grpSpPr>
        <p:sp>
          <p:nvSpPr>
            <p:cNvPr id="594" name=""/>
            <p:cNvSpPr/>
            <p:nvPr/>
          </p:nvSpPr>
          <p:spPr>
            <a:xfrm>
              <a:off x="6738120" y="3313080"/>
              <a:ext cx="1283040" cy="645480"/>
            </a:xfrm>
            <a:prstGeom prst="rect">
              <a:avLst/>
            </a:prstGeom>
            <a:solidFill>
              <a:srgbClr val="c0fef9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13040" y="3576600"/>
              <a:ext cx="1166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61280" y="3476520"/>
              <a:ext cx="218160" cy="19944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27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16120" y="3576600"/>
              <a:ext cx="1045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845200" y="3476520"/>
              <a:ext cx="216720" cy="19944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0" y="0"/>
                  </a:moveTo>
                  <a:lnTo>
                    <a:pt x="126" y="63"/>
                  </a:lnTo>
                  <a:lnTo>
                    <a:pt x="0" y="126"/>
                  </a:lnTo>
                  <a:lnTo>
                    <a:pt x="63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20960" y="3954240"/>
              <a:ext cx="1800" cy="53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10800" y="3954240"/>
              <a:ext cx="218160" cy="20124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127"/>
                  </a:moveTo>
                  <a:lnTo>
                    <a:pt x="64" y="0"/>
                  </a:lnTo>
                  <a:lnTo>
                    <a:pt x="127" y="127"/>
                  </a:lnTo>
                  <a:lnTo>
                    <a:pt x="64" y="63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59040" y="32032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2140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2080" y="3203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2444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5656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0120" y="3203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13240" y="32032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262920" y="320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59040" y="3632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2140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52080" y="3632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23360" y="36320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364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3576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70040" y="3632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87840" y="4437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5505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8772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ñ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205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54840" y="44370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99480" y="443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7328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0576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36800" y="443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08080" y="4437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3264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6512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9760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93188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64000" y="443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04400" y="29354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6532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96360" y="2935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6800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70084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839440" y="2935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958960" y="293544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006840" y="293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137880" y="2935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02600" y="3198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9952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53380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666280" y="31986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713080" y="3198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790480" y="319860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839440" y="31986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95860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09108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28960" y="31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544960" y="374148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70588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840160" y="37414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0200" y="3741480"/>
              <a:ext cx="5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3808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72000" y="3741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955440" y="2065320"/>
            <a:ext cx="316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279f"/>
                </a:solidFill>
                <a:latin typeface="Arial"/>
              </a:rPr>
              <a:t>Electrónica de Señ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6200" y="2065320"/>
            <a:ext cx="362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c0128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63200" y="5281560"/>
            <a:ext cx="2009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plificac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63360" y="5307120"/>
            <a:ext cx="1882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versió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6239600">
            <a:off x="2390400" y="3704400"/>
            <a:ext cx="306360" cy="243036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0360"/>
              <a:gd name="textAreaBottom" fmla="*/ 2367000 h 243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6191600">
            <a:off x="7095960" y="3729960"/>
            <a:ext cx="306360" cy="2430720"/>
          </a:xfrm>
          <a:custGeom>
            <a:avLst/>
            <a:gdLst>
              <a:gd name="textAreaLeft" fmla="*/ 195840 w 306360"/>
              <a:gd name="textAreaRight" fmla="*/ 306360 w 306360"/>
              <a:gd name="textAreaTop" fmla="*/ 63360 h 2430720"/>
              <a:gd name="textAreaBottom" fmla="*/ 2367360 h 243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7226-EB16-44D6-9BB8-8B918576B01A}" type="slidenum">
              <a:t>7</a:t>
            </a:fld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57120" y="1312920"/>
            <a:ext cx="9204480" cy="513720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396360"/>
            <a:ext cx="842004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54480" y="3471840"/>
            <a:ext cx="6110280" cy="2833560"/>
          </a:xfrm>
          <a:custGeom>
            <a:avLst/>
            <a:gdLst/>
            <a:ahLst/>
            <a:rect l="l" t="t" r="r" b="b"/>
            <a:pathLst>
              <a:path w="3849" h="1785">
                <a:moveTo>
                  <a:pt x="3575" y="33"/>
                </a:moveTo>
                <a:cubicBezTo>
                  <a:pt x="3347" y="109"/>
                  <a:pt x="3028" y="107"/>
                  <a:pt x="2795" y="117"/>
                </a:cubicBezTo>
                <a:cubicBezTo>
                  <a:pt x="2660" y="144"/>
                  <a:pt x="2809" y="117"/>
                  <a:pt x="2567" y="141"/>
                </a:cubicBezTo>
                <a:cubicBezTo>
                  <a:pt x="2488" y="149"/>
                  <a:pt x="2484" y="160"/>
                  <a:pt x="2399" y="177"/>
                </a:cubicBezTo>
                <a:cubicBezTo>
                  <a:pt x="2351" y="187"/>
                  <a:pt x="2255" y="201"/>
                  <a:pt x="2255" y="201"/>
                </a:cubicBezTo>
                <a:cubicBezTo>
                  <a:pt x="2231" y="217"/>
                  <a:pt x="2192" y="222"/>
                  <a:pt x="2183" y="249"/>
                </a:cubicBezTo>
                <a:cubicBezTo>
                  <a:pt x="2179" y="261"/>
                  <a:pt x="2179" y="275"/>
                  <a:pt x="2171" y="285"/>
                </a:cubicBezTo>
                <a:cubicBezTo>
                  <a:pt x="2162" y="296"/>
                  <a:pt x="2146" y="299"/>
                  <a:pt x="2135" y="309"/>
                </a:cubicBezTo>
                <a:cubicBezTo>
                  <a:pt x="2110" y="332"/>
                  <a:pt x="2082" y="353"/>
                  <a:pt x="2063" y="381"/>
                </a:cubicBezTo>
                <a:cubicBezTo>
                  <a:pt x="2055" y="393"/>
                  <a:pt x="2049" y="407"/>
                  <a:pt x="2039" y="417"/>
                </a:cubicBezTo>
                <a:cubicBezTo>
                  <a:pt x="1992" y="464"/>
                  <a:pt x="1927" y="500"/>
                  <a:pt x="1871" y="537"/>
                </a:cubicBezTo>
                <a:cubicBezTo>
                  <a:pt x="1863" y="549"/>
                  <a:pt x="1858" y="564"/>
                  <a:pt x="1847" y="573"/>
                </a:cubicBezTo>
                <a:cubicBezTo>
                  <a:pt x="1837" y="581"/>
                  <a:pt x="1820" y="576"/>
                  <a:pt x="1811" y="585"/>
                </a:cubicBezTo>
                <a:cubicBezTo>
                  <a:pt x="1798" y="598"/>
                  <a:pt x="1798" y="619"/>
                  <a:pt x="1787" y="633"/>
                </a:cubicBezTo>
                <a:cubicBezTo>
                  <a:pt x="1773" y="651"/>
                  <a:pt x="1755" y="665"/>
                  <a:pt x="1739" y="681"/>
                </a:cubicBezTo>
                <a:cubicBezTo>
                  <a:pt x="1706" y="780"/>
                  <a:pt x="1729" y="732"/>
                  <a:pt x="1667" y="825"/>
                </a:cubicBezTo>
                <a:cubicBezTo>
                  <a:pt x="1639" y="867"/>
                  <a:pt x="1580" y="875"/>
                  <a:pt x="1535" y="897"/>
                </a:cubicBezTo>
                <a:cubicBezTo>
                  <a:pt x="1517" y="906"/>
                  <a:pt x="1505" y="924"/>
                  <a:pt x="1487" y="933"/>
                </a:cubicBezTo>
                <a:cubicBezTo>
                  <a:pt x="1414" y="970"/>
                  <a:pt x="1325" y="975"/>
                  <a:pt x="1247" y="993"/>
                </a:cubicBezTo>
                <a:cubicBezTo>
                  <a:pt x="1183" y="1008"/>
                  <a:pt x="1119" y="1025"/>
                  <a:pt x="1055" y="1041"/>
                </a:cubicBezTo>
                <a:cubicBezTo>
                  <a:pt x="1006" y="1053"/>
                  <a:pt x="911" y="1089"/>
                  <a:pt x="911" y="1089"/>
                </a:cubicBezTo>
                <a:cubicBezTo>
                  <a:pt x="865" y="1135"/>
                  <a:pt x="808" y="1147"/>
                  <a:pt x="755" y="1185"/>
                </a:cubicBezTo>
                <a:cubicBezTo>
                  <a:pt x="676" y="1241"/>
                  <a:pt x="760" y="1207"/>
                  <a:pt x="683" y="1233"/>
                </a:cubicBezTo>
                <a:cubicBezTo>
                  <a:pt x="596" y="1298"/>
                  <a:pt x="655" y="1266"/>
                  <a:pt x="491" y="1293"/>
                </a:cubicBezTo>
                <a:cubicBezTo>
                  <a:pt x="467" y="1297"/>
                  <a:pt x="419" y="1305"/>
                  <a:pt x="419" y="1305"/>
                </a:cubicBezTo>
                <a:cubicBezTo>
                  <a:pt x="322" y="1353"/>
                  <a:pt x="424" y="1309"/>
                  <a:pt x="275" y="1341"/>
                </a:cubicBezTo>
                <a:cubicBezTo>
                  <a:pt x="238" y="1349"/>
                  <a:pt x="203" y="1365"/>
                  <a:pt x="167" y="1377"/>
                </a:cubicBezTo>
                <a:cubicBezTo>
                  <a:pt x="148" y="1383"/>
                  <a:pt x="127" y="1384"/>
                  <a:pt x="107" y="1389"/>
                </a:cubicBezTo>
                <a:cubicBezTo>
                  <a:pt x="83" y="1396"/>
                  <a:pt x="35" y="1413"/>
                  <a:pt x="35" y="1413"/>
                </a:cubicBezTo>
                <a:cubicBezTo>
                  <a:pt x="0" y="1519"/>
                  <a:pt x="39" y="1640"/>
                  <a:pt x="131" y="1701"/>
                </a:cubicBezTo>
                <a:cubicBezTo>
                  <a:pt x="139" y="1713"/>
                  <a:pt x="144" y="1728"/>
                  <a:pt x="155" y="1737"/>
                </a:cubicBezTo>
                <a:cubicBezTo>
                  <a:pt x="197" y="1771"/>
                  <a:pt x="359" y="1779"/>
                  <a:pt x="407" y="1785"/>
                </a:cubicBezTo>
                <a:cubicBezTo>
                  <a:pt x="796" y="1774"/>
                  <a:pt x="1168" y="1759"/>
                  <a:pt x="1559" y="1749"/>
                </a:cubicBezTo>
                <a:cubicBezTo>
                  <a:pt x="1901" y="1740"/>
                  <a:pt x="2256" y="1749"/>
                  <a:pt x="2591" y="1665"/>
                </a:cubicBezTo>
                <a:cubicBezTo>
                  <a:pt x="2603" y="1653"/>
                  <a:pt x="2613" y="1639"/>
                  <a:pt x="2627" y="1629"/>
                </a:cubicBezTo>
                <a:cubicBezTo>
                  <a:pt x="2642" y="1619"/>
                  <a:pt x="2661" y="1617"/>
                  <a:pt x="2675" y="1605"/>
                </a:cubicBezTo>
                <a:cubicBezTo>
                  <a:pt x="2755" y="1536"/>
                  <a:pt x="2828" y="1452"/>
                  <a:pt x="2903" y="1377"/>
                </a:cubicBezTo>
                <a:cubicBezTo>
                  <a:pt x="2948" y="1332"/>
                  <a:pt x="2974" y="1272"/>
                  <a:pt x="3011" y="1221"/>
                </a:cubicBezTo>
                <a:cubicBezTo>
                  <a:pt x="3072" y="1136"/>
                  <a:pt x="3177" y="1067"/>
                  <a:pt x="3251" y="993"/>
                </a:cubicBezTo>
                <a:cubicBezTo>
                  <a:pt x="3345" y="899"/>
                  <a:pt x="3435" y="784"/>
                  <a:pt x="3563" y="741"/>
                </a:cubicBezTo>
                <a:cubicBezTo>
                  <a:pt x="3600" y="704"/>
                  <a:pt x="3639" y="674"/>
                  <a:pt x="3683" y="645"/>
                </a:cubicBezTo>
                <a:cubicBezTo>
                  <a:pt x="3711" y="603"/>
                  <a:pt x="3748" y="588"/>
                  <a:pt x="3779" y="549"/>
                </a:cubicBezTo>
                <a:cubicBezTo>
                  <a:pt x="3797" y="526"/>
                  <a:pt x="3827" y="477"/>
                  <a:pt x="3827" y="477"/>
                </a:cubicBezTo>
                <a:cubicBezTo>
                  <a:pt x="3849" y="391"/>
                  <a:pt x="3822" y="310"/>
                  <a:pt x="3803" y="225"/>
                </a:cubicBezTo>
                <a:cubicBezTo>
                  <a:pt x="3787" y="154"/>
                  <a:pt x="3782" y="111"/>
                  <a:pt x="3719" y="69"/>
                </a:cubicBezTo>
                <a:cubicBezTo>
                  <a:pt x="3673" y="0"/>
                  <a:pt x="3709" y="33"/>
                  <a:pt x="357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15960"/>
            <a:ext cx="6705720" cy="3591000"/>
          </a:xfrm>
          <a:custGeom>
            <a:avLst/>
            <a:gdLst/>
            <a:ahLst/>
            <a:rect l="l" t="t" r="r" b="b"/>
            <a:pathLst>
              <a:path w="4224" h="2262">
                <a:moveTo>
                  <a:pt x="3812" y="105"/>
                </a:moveTo>
                <a:cubicBezTo>
                  <a:pt x="3598" y="130"/>
                  <a:pt x="4011" y="134"/>
                  <a:pt x="3768" y="121"/>
                </a:cubicBezTo>
                <a:cubicBezTo>
                  <a:pt x="3340" y="98"/>
                  <a:pt x="3237" y="215"/>
                  <a:pt x="2808" y="197"/>
                </a:cubicBezTo>
                <a:cubicBezTo>
                  <a:pt x="2408" y="204"/>
                  <a:pt x="2122" y="128"/>
                  <a:pt x="1777" y="166"/>
                </a:cubicBezTo>
                <a:cubicBezTo>
                  <a:pt x="1579" y="210"/>
                  <a:pt x="1672" y="219"/>
                  <a:pt x="1537" y="342"/>
                </a:cubicBezTo>
                <a:cubicBezTo>
                  <a:pt x="1522" y="375"/>
                  <a:pt x="1511" y="449"/>
                  <a:pt x="1489" y="478"/>
                </a:cubicBezTo>
                <a:cubicBezTo>
                  <a:pt x="1479" y="492"/>
                  <a:pt x="1479" y="523"/>
                  <a:pt x="1465" y="534"/>
                </a:cubicBezTo>
                <a:cubicBezTo>
                  <a:pt x="1433" y="561"/>
                  <a:pt x="1497" y="533"/>
                  <a:pt x="1473" y="566"/>
                </a:cubicBezTo>
                <a:cubicBezTo>
                  <a:pt x="1452" y="594"/>
                  <a:pt x="1523" y="345"/>
                  <a:pt x="1512" y="377"/>
                </a:cubicBezTo>
                <a:cubicBezTo>
                  <a:pt x="1474" y="480"/>
                  <a:pt x="1125" y="770"/>
                  <a:pt x="1056" y="833"/>
                </a:cubicBezTo>
                <a:cubicBezTo>
                  <a:pt x="1035" y="871"/>
                  <a:pt x="1056" y="761"/>
                  <a:pt x="1032" y="797"/>
                </a:cubicBezTo>
                <a:cubicBezTo>
                  <a:pt x="1064" y="813"/>
                  <a:pt x="893" y="1156"/>
                  <a:pt x="785" y="1180"/>
                </a:cubicBezTo>
                <a:cubicBezTo>
                  <a:pt x="602" y="1293"/>
                  <a:pt x="573" y="1309"/>
                  <a:pt x="356" y="1333"/>
                </a:cubicBezTo>
                <a:cubicBezTo>
                  <a:pt x="310" y="1375"/>
                  <a:pt x="72" y="1488"/>
                  <a:pt x="53" y="1543"/>
                </a:cubicBezTo>
                <a:cubicBezTo>
                  <a:pt x="101" y="1678"/>
                  <a:pt x="31" y="1590"/>
                  <a:pt x="106" y="1764"/>
                </a:cubicBezTo>
                <a:cubicBezTo>
                  <a:pt x="149" y="1865"/>
                  <a:pt x="0" y="1774"/>
                  <a:pt x="80" y="1798"/>
                </a:cubicBezTo>
                <a:cubicBezTo>
                  <a:pt x="155" y="1901"/>
                  <a:pt x="60" y="1761"/>
                  <a:pt x="142" y="1939"/>
                </a:cubicBezTo>
                <a:cubicBezTo>
                  <a:pt x="159" y="1973"/>
                  <a:pt x="180" y="2006"/>
                  <a:pt x="203" y="2038"/>
                </a:cubicBezTo>
                <a:cubicBezTo>
                  <a:pt x="232" y="2077"/>
                  <a:pt x="264" y="2112"/>
                  <a:pt x="295" y="2149"/>
                </a:cubicBezTo>
                <a:cubicBezTo>
                  <a:pt x="378" y="2250"/>
                  <a:pt x="571" y="2248"/>
                  <a:pt x="694" y="2262"/>
                </a:cubicBezTo>
                <a:cubicBezTo>
                  <a:pt x="791" y="2258"/>
                  <a:pt x="888" y="2257"/>
                  <a:pt x="985" y="2248"/>
                </a:cubicBezTo>
                <a:cubicBezTo>
                  <a:pt x="1047" y="2243"/>
                  <a:pt x="1094" y="2191"/>
                  <a:pt x="1154" y="2178"/>
                </a:cubicBezTo>
                <a:cubicBezTo>
                  <a:pt x="1463" y="2106"/>
                  <a:pt x="1148" y="2187"/>
                  <a:pt x="1338" y="2122"/>
                </a:cubicBezTo>
                <a:cubicBezTo>
                  <a:pt x="1398" y="2101"/>
                  <a:pt x="1436" y="2106"/>
                  <a:pt x="1505" y="2093"/>
                </a:cubicBezTo>
                <a:cubicBezTo>
                  <a:pt x="1621" y="2072"/>
                  <a:pt x="1559" y="2081"/>
                  <a:pt x="1673" y="2054"/>
                </a:cubicBezTo>
                <a:cubicBezTo>
                  <a:pt x="1729" y="2015"/>
                  <a:pt x="1773" y="2007"/>
                  <a:pt x="1809" y="1950"/>
                </a:cubicBezTo>
                <a:cubicBezTo>
                  <a:pt x="1858" y="1872"/>
                  <a:pt x="1861" y="1727"/>
                  <a:pt x="1953" y="1654"/>
                </a:cubicBezTo>
                <a:cubicBezTo>
                  <a:pt x="2059" y="1571"/>
                  <a:pt x="2182" y="1268"/>
                  <a:pt x="2313" y="1246"/>
                </a:cubicBezTo>
                <a:cubicBezTo>
                  <a:pt x="2453" y="1221"/>
                  <a:pt x="2449" y="1184"/>
                  <a:pt x="2593" y="1174"/>
                </a:cubicBezTo>
                <a:cubicBezTo>
                  <a:pt x="2670" y="1151"/>
                  <a:pt x="2772" y="1085"/>
                  <a:pt x="2849" y="1062"/>
                </a:cubicBezTo>
                <a:cubicBezTo>
                  <a:pt x="2880" y="1053"/>
                  <a:pt x="3129" y="966"/>
                  <a:pt x="3129" y="966"/>
                </a:cubicBezTo>
                <a:cubicBezTo>
                  <a:pt x="3417" y="767"/>
                  <a:pt x="3515" y="931"/>
                  <a:pt x="3745" y="826"/>
                </a:cubicBezTo>
                <a:cubicBezTo>
                  <a:pt x="3963" y="726"/>
                  <a:pt x="3536" y="901"/>
                  <a:pt x="3817" y="814"/>
                </a:cubicBezTo>
                <a:cubicBezTo>
                  <a:pt x="3837" y="800"/>
                  <a:pt x="3890" y="799"/>
                  <a:pt x="3905" y="774"/>
                </a:cubicBezTo>
                <a:cubicBezTo>
                  <a:pt x="3921" y="748"/>
                  <a:pt x="4030" y="614"/>
                  <a:pt x="4049" y="590"/>
                </a:cubicBezTo>
                <a:cubicBezTo>
                  <a:pt x="4062" y="571"/>
                  <a:pt x="4022" y="651"/>
                  <a:pt x="4041" y="634"/>
                </a:cubicBezTo>
                <a:cubicBezTo>
                  <a:pt x="4053" y="622"/>
                  <a:pt x="4091" y="564"/>
                  <a:pt x="4101" y="550"/>
                </a:cubicBezTo>
                <a:cubicBezTo>
                  <a:pt x="4121" y="517"/>
                  <a:pt x="4032" y="652"/>
                  <a:pt x="4049" y="618"/>
                </a:cubicBezTo>
                <a:cubicBezTo>
                  <a:pt x="4063" y="590"/>
                  <a:pt x="3960" y="704"/>
                  <a:pt x="3977" y="678"/>
                </a:cubicBezTo>
                <a:cubicBezTo>
                  <a:pt x="3980" y="673"/>
                  <a:pt x="3932" y="733"/>
                  <a:pt x="3957" y="703"/>
                </a:cubicBezTo>
                <a:cubicBezTo>
                  <a:pt x="3969" y="689"/>
                  <a:pt x="3990" y="685"/>
                  <a:pt x="4003" y="674"/>
                </a:cubicBezTo>
                <a:cubicBezTo>
                  <a:pt x="4037" y="649"/>
                  <a:pt x="4072" y="609"/>
                  <a:pt x="4095" y="576"/>
                </a:cubicBezTo>
                <a:cubicBezTo>
                  <a:pt x="4146" y="504"/>
                  <a:pt x="4167" y="516"/>
                  <a:pt x="4224" y="453"/>
                </a:cubicBezTo>
                <a:cubicBezTo>
                  <a:pt x="4212" y="265"/>
                  <a:pt x="4006" y="88"/>
                  <a:pt x="4020" y="77"/>
                </a:cubicBezTo>
                <a:cubicBezTo>
                  <a:pt x="3779" y="0"/>
                  <a:pt x="3618" y="155"/>
                  <a:pt x="3708" y="125"/>
                </a:cubicBezTo>
                <a:cubicBezTo>
                  <a:pt x="3708" y="125"/>
                  <a:pt x="3812" y="105"/>
                  <a:pt x="3812" y="10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16320" y="2841480"/>
            <a:ext cx="519120" cy="4636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395520" y="2995560"/>
            <a:ext cx="164160" cy="15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12227"/>
                </a:moveTo>
                <a:arcTo wR="10800" hR="10800" stAng="10344321" swAng="6205259"/>
                <a:lnTo>
                  <a:pt x="10800" y="10800"/>
                </a:lnTo>
                <a:close/>
              </a:path>
              <a:path fill="none" w="21600" h="21600">
                <a:moveTo>
                  <a:pt x="95" y="12227"/>
                </a:moveTo>
                <a:arcTo wR="10800" hR="10800" stAng="10344321" swAng="6205259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95520" y="2997000"/>
            <a:ext cx="168120" cy="15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96" y="56"/>
                </a:moveTo>
                <a:arcTo wR="10800" hR="10800" stAng="-5050420" swAng="5398824"/>
                <a:lnTo>
                  <a:pt x="10800" y="10800"/>
                </a:lnTo>
                <a:close/>
              </a:path>
              <a:path fill="none" w="21600" h="21600">
                <a:moveTo>
                  <a:pt x="11896" y="56"/>
                </a:moveTo>
                <a:arcTo wR="10800" hR="10800" stAng="-5050420" swAng="5398824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80920" y="2995560"/>
            <a:ext cx="14832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18" y="21462"/>
                </a:moveTo>
                <a:arcTo wR="10800" hR="10800" stAng="4850798" swAng="5526064"/>
                <a:lnTo>
                  <a:pt x="10800" y="10800"/>
                </a:lnTo>
                <a:close/>
              </a:path>
              <a:path fill="none" w="21600" h="21600">
                <a:moveTo>
                  <a:pt x="12518" y="21462"/>
                </a:moveTo>
                <a:arcTo wR="10800" hR="10800" stAng="4850798" swAng="5526064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79840" y="2996280"/>
            <a:ext cx="149040" cy="15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55" y="11786"/>
                </a:moveTo>
                <a:arcTo wR="10800" hR="10800" stAng="314420" swAng="4536378"/>
                <a:lnTo>
                  <a:pt x="10800" y="10800"/>
                </a:lnTo>
                <a:close/>
              </a:path>
              <a:path fill="none" w="21600" h="21600">
                <a:moveTo>
                  <a:pt x="21555" y="11786"/>
                </a:moveTo>
                <a:arcTo wR="10800" hR="10800" stAng="314420" swAng="4536378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08800" y="2798640"/>
            <a:ext cx="541440" cy="50004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2880" y="300996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2880" y="309564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989680" y="2841480"/>
            <a:ext cx="2952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0"/>
                </a:moveTo>
                <a:lnTo>
                  <a:pt x="171" y="85"/>
                </a:lnTo>
                <a:lnTo>
                  <a:pt x="0" y="171"/>
                </a:lnTo>
                <a:lnTo>
                  <a:pt x="85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4146120" y="5281560"/>
            <a:ext cx="2203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21200" y="512460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171"/>
                </a:moveTo>
                <a:lnTo>
                  <a:pt x="0" y="85"/>
                </a:lnTo>
                <a:lnTo>
                  <a:pt x="170" y="0"/>
                </a:lnTo>
                <a:lnTo>
                  <a:pt x="85" y="85"/>
                </a:lnTo>
                <a:lnTo>
                  <a:pt x="17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4997520"/>
            <a:ext cx="541440" cy="4888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62880" y="519588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62880" y="5275440"/>
            <a:ext cx="272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395520" y="5021280"/>
            <a:ext cx="519120" cy="463680"/>
          </a:xfrm>
          <a:prstGeom prst="ellipse">
            <a:avLst/>
          </a:prstGeom>
          <a:solidFill>
            <a:srgbClr val="c0fef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81560" y="5176800"/>
            <a:ext cx="1641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" y="11896"/>
                </a:moveTo>
                <a:arcTo wR="10800" hR="10800" stAng="10450420" swAng="5889819"/>
                <a:lnTo>
                  <a:pt x="10800" y="10800"/>
                </a:lnTo>
                <a:close/>
              </a:path>
              <a:path fill="none" w="21600" h="21600">
                <a:moveTo>
                  <a:pt x="56" y="11896"/>
                </a:moveTo>
                <a:arcTo wR="10800" hR="10800" stAng="10450420" swAng="5889819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81200" y="5178600"/>
            <a:ext cx="168120" cy="1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40" y="9"/>
                </a:moveTo>
                <a:arcTo wR="10800" hR="10800" stAng="-5259761" swAng="5565892"/>
                <a:lnTo>
                  <a:pt x="10800" y="10800"/>
                </a:lnTo>
                <a:close/>
              </a:path>
              <a:path fill="none" w="21600" h="21600">
                <a:moveTo>
                  <a:pt x="11240" y="9"/>
                </a:moveTo>
                <a:arcTo wR="10800" hR="10800" stAng="-5259761" swAng="5565892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70200" y="5176800"/>
            <a:ext cx="146520" cy="15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59" y="21580"/>
                </a:moveTo>
                <a:arcTo wR="10800" hR="10800" stAng="5190096" swAng="5290353"/>
                <a:lnTo>
                  <a:pt x="10800" y="10800"/>
                </a:lnTo>
                <a:close/>
              </a:path>
              <a:path fill="none" w="21600" h="21600">
                <a:moveTo>
                  <a:pt x="11459" y="21580"/>
                </a:moveTo>
                <a:arcTo wR="10800" hR="10800" stAng="5190096" swAng="5290353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68760" y="5178240"/>
            <a:ext cx="1461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5" y="11673"/>
                </a:moveTo>
                <a:arcTo wR="10800" hR="10800" stAng="278321" swAng="4911775"/>
                <a:lnTo>
                  <a:pt x="10800" y="10800"/>
                </a:lnTo>
                <a:close/>
              </a:path>
              <a:path fill="none" w="21600" h="21600">
                <a:moveTo>
                  <a:pt x="21565" y="11673"/>
                </a:moveTo>
                <a:arcTo wR="10800" hR="10800" stAng="278321" swAng="4911775"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683400" y="353376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0" y="171"/>
                </a:moveTo>
                <a:lnTo>
                  <a:pt x="85" y="0"/>
                </a:lnTo>
                <a:lnTo>
                  <a:pt x="170" y="171"/>
                </a:lnTo>
                <a:lnTo>
                  <a:pt x="85" y="86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683400" y="4572000"/>
            <a:ext cx="291960" cy="271440"/>
          </a:xfrm>
          <a:custGeom>
            <a:avLst/>
            <a:gdLst/>
            <a:ahLst/>
            <a:rect l="l" t="t" r="r" b="b"/>
            <a:pathLst>
              <a:path w="170" h="171">
                <a:moveTo>
                  <a:pt x="170" y="0"/>
                </a:moveTo>
                <a:lnTo>
                  <a:pt x="85" y="171"/>
                </a:lnTo>
                <a:lnTo>
                  <a:pt x="0" y="0"/>
                </a:lnTo>
                <a:lnTo>
                  <a:pt x="85" y="86"/>
                </a:lnTo>
                <a:lnTo>
                  <a:pt x="17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29160" y="3409920"/>
            <a:ext cx="6120" cy="14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481560" y="3409920"/>
            <a:ext cx="2934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0" y="171"/>
                </a:moveTo>
                <a:lnTo>
                  <a:pt x="86" y="0"/>
                </a:lnTo>
                <a:lnTo>
                  <a:pt x="171" y="171"/>
                </a:lnTo>
                <a:lnTo>
                  <a:pt x="86" y="85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481560" y="4595760"/>
            <a:ext cx="293400" cy="271440"/>
          </a:xfrm>
          <a:custGeom>
            <a:avLst/>
            <a:gdLst/>
            <a:ahLst/>
            <a:rect l="l" t="t" r="r" b="b"/>
            <a:pathLst>
              <a:path w="171" h="171">
                <a:moveTo>
                  <a:pt x="171" y="0"/>
                </a:moveTo>
                <a:lnTo>
                  <a:pt x="86" y="171"/>
                </a:lnTo>
                <a:lnTo>
                  <a:pt x="0" y="0"/>
                </a:lnTo>
                <a:lnTo>
                  <a:pt x="86" y="86"/>
                </a:lnTo>
                <a:lnTo>
                  <a:pt x="17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51280" y="1879200"/>
            <a:ext cx="41126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tificadores controlad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no controlado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63800" y="3803400"/>
            <a:ext cx="209628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oceadores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. A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66800" y="5694480"/>
            <a:ext cx="3774240" cy="45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versores, Ondulad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7080" y="3801600"/>
            <a:ext cx="2690640" cy="82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cloconvertidor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guladores A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18400" y="3624120"/>
            <a:ext cx="0" cy="11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114280" y="283248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14280" y="497412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494480" y="277380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94480" y="4915080"/>
            <a:ext cx="69552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fc0128"/>
                </a:solidFill>
                <a:latin typeface="Arial"/>
              </a:rPr>
              <a:t>DC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095360" y="2971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3352-4173-4C87-8025-64E8DAA42733}" type="slidenum">
              <a:t>8</a:t>
            </a:fld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100000">
              <a:srgbClr val="000b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457200" y="1219320"/>
            <a:ext cx="9204480" cy="5137200"/>
          </a:xfrm>
          <a:prstGeom prst="roundRect">
            <a:avLst>
              <a:gd name="adj" fmla="val 5606"/>
            </a:avLst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1447920"/>
            <a:ext cx="4495680" cy="213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52880" y="1371600"/>
            <a:ext cx="457200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3440" y="144684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RECTIFICAD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23520" y="144684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INVERSOR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7120" y="1845360"/>
            <a:ext cx="4092840" cy="161856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ierten CA en C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constant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Diodo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varia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Tiristor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on reversib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Inversor no 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4" marL="2286000">
              <a:lnSpc>
                <a:spcPct val="100000"/>
              </a:lnSpc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ónomo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71800" y="2286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19520" y="25909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819520" y="2895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5960" y="1950120"/>
            <a:ext cx="4430880" cy="7038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ierten CC en 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ón de frecuencia fija o variabl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9428000">
            <a:off x="3412800" y="33066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2677400">
            <a:off x="1752120" y="3428640"/>
            <a:ext cx="1366920" cy="210960"/>
          </a:xfrm>
          <a:prstGeom prst="leftArrow">
            <a:avLst>
              <a:gd name="adj1" fmla="val 50000"/>
              <a:gd name="adj2" fmla="val 161988"/>
            </a:avLst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3200" y="3961440"/>
            <a:ext cx="2602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icloconvertido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2062400">
            <a:off x="4334760" y="3010680"/>
            <a:ext cx="2057400" cy="211320"/>
          </a:xfrm>
          <a:prstGeom prst="leftArrow">
            <a:avLst>
              <a:gd name="adj1" fmla="val 50000"/>
              <a:gd name="adj2" fmla="val 243399"/>
            </a:avLst>
          </a:prstGeom>
          <a:solidFill>
            <a:srgbClr val="919191"/>
          </a:solidFill>
          <a:ln w="0">
            <a:noFill/>
          </a:ln>
          <a:effectLst>
            <a:outerShdw dist="52300" dir="4563564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8663600">
            <a:off x="6435720" y="2973240"/>
            <a:ext cx="1219320" cy="247680"/>
          </a:xfrm>
          <a:prstGeom prst="leftArrow">
            <a:avLst>
              <a:gd name="adj1" fmla="val 50000"/>
              <a:gd name="adj2" fmla="val 123074"/>
            </a:avLst>
          </a:prstGeom>
          <a:solidFill>
            <a:srgbClr val="919191"/>
          </a:solidFill>
          <a:ln w="0">
            <a:noFill/>
          </a:ln>
          <a:effectLst>
            <a:outerShdw dist="52300" dir="4563564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44360" y="3748680"/>
            <a:ext cx="265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dor de A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3960" y="4875840"/>
            <a:ext cx="2651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Regulador de CC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638680" y="4145400"/>
            <a:ext cx="3657600" cy="1008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en CA de voltaje constante en CA de voltaje variable y misma frecuenci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124080" y="5210640"/>
            <a:ext cx="4267440" cy="10087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vierten CC de voltaje constante en CC de voltaje variable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9480" y="4464720"/>
            <a:ext cx="37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Reguladores de AC de distinta frecuencia.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3040" y="396720"/>
            <a:ext cx="84200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fafd00"/>
                </a:solidFill>
                <a:latin typeface="Arial"/>
              </a:rPr>
              <a:t>Sistemas de Potenci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8B49-42DC-4C77-BCFB-B7D7A635A661}" type="slidenum">
              <a:t>9</a:t>
            </a:fld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31T17:20:10Z</dcterms:created>
  <dc:creator>Javier</dc:creator>
  <dc:description/>
  <dc:language>en-US</dc:language>
  <cp:lastModifiedBy>Enrique Maset Sancho</cp:lastModifiedBy>
  <cp:lastPrinted>1998-02-15T11:46:15Z</cp:lastPrinted>
  <dcterms:modified xsi:type="dcterms:W3CDTF">2002-09-20T15:33:17Z</dcterms:modified>
  <cp:revision>34</cp:revision>
  <dc:subject/>
  <dc:title>¿Qué es un Sistema de Alimentación ?</dc:title>
</cp:coreProperties>
</file>