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DC6-EEEE-4539-B5C5-02B2DC09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FE9-21BA-4302-AD58-045F0ADB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4B4-A3F0-4D9C-B4E0-742F4A60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BE8-C800-49A5-9BF6-DA797241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5BC-7682-4DCF-9689-0F335A25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558-41BD-4A0B-995D-ECFFEB45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6A0-7268-4AF0-9AEC-E68B3DC4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8B9-8276-401B-8AD5-79537649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51B-41B0-44B0-8B41-A595F7B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D7B-1177-4357-9651-D88287B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B28-ED65-4764-B399-AC7AD94C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8A3-18BA-4895-B9D9-6CB1DB3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7234-73C9-436B-888E-B6F0B840EB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7345440" cy="2799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7416720" cy="331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7093080" y="4653000"/>
            <a:ext cx="7207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4869000"/>
            <a:ext cx="5763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4859280"/>
            <a:ext cx="15843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2967120"/>
            <a:ext cx="6265800" cy="388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12000" cy="28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724360" y="4292640"/>
            <a:ext cx="7207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80080" y="5516640"/>
            <a:ext cx="7207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651640" y="6308640"/>
            <a:ext cx="7207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372360" y="4292640"/>
            <a:ext cx="71280" cy="2016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7080" y="4327560"/>
            <a:ext cx="2505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1360" y="4043520"/>
            <a:ext cx="422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4240080"/>
            <a:ext cx="422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4437000"/>
            <a:ext cx="1079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4662360"/>
            <a:ext cx="14396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568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5651640" y="3500280"/>
            <a:ext cx="7207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724360" y="5373720"/>
            <a:ext cx="7207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651640" y="6434280"/>
            <a:ext cx="7207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372360" y="5373720"/>
            <a:ext cx="71280" cy="10796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645000"/>
            <a:ext cx="1008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0" y="3490920"/>
            <a:ext cx="647640" cy="9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97000" y="5186520"/>
            <a:ext cx="206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4941720"/>
            <a:ext cx="422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6280" y="5435640"/>
            <a:ext cx="422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2680" y="5796000"/>
            <a:ext cx="422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28800" y="6400800"/>
            <a:ext cx="422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00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5580000" y="4005360"/>
            <a:ext cx="7207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580000" y="4581360"/>
            <a:ext cx="7207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076640"/>
            <a:ext cx="422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508640"/>
            <a:ext cx="93492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25480" y="4057560"/>
            <a:ext cx="8017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9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5435640" y="5445000"/>
            <a:ext cx="7207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364000" y="6597720"/>
            <a:ext cx="7207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84360" y="5445000"/>
            <a:ext cx="71640" cy="1150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52360" y="5065560"/>
            <a:ext cx="289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5425920"/>
            <a:ext cx="422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37000" y="6543720"/>
            <a:ext cx="422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9:14:51Z</dcterms:created>
  <dc:creator>SAGRADO</dc:creator>
  <dc:description/>
  <dc:language>en-US</dc:language>
  <cp:lastModifiedBy>Salva</cp:lastModifiedBy>
  <dcterms:modified xsi:type="dcterms:W3CDTF">2010-10-20T21:35:00Z</dcterms:modified>
  <cp:revision>5</cp:revision>
  <dc:subject/>
  <dc:title>Diapositiva 1</dc:title>
</cp:coreProperties>
</file>