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D1BD-3647-4250-85EA-080DE113F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0C20-45CD-4F0D-BA13-7BE87594D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E2A2-563D-45CC-8B4F-B6F651BEF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9E4D-6410-4E47-BEA3-D3CE0EC8C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AFC7-7866-4C19-8409-0C71D0BEA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78A5-F2A7-454C-A999-64D59942A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7B87-768A-4E9E-B53F-646C11419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BBB8-E110-4141-839B-9417F00D7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E4FD-C27D-43B4-AB75-FE4C9B724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7C3F-A674-44A4-B443-59065567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8BF9-3986-4A88-B7A9-884B8C39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0585-AA9B-4C52-ADE1-0EA83B69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404E1-A770-4668-9AFB-2C271E45D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0920" y="1125360"/>
          <a:ext cx="8686800" cy="4743720"/>
        </p:xfrm>
        <a:graphic>
          <a:graphicData uri="http://schemas.openxmlformats.org/drawingml/2006/table">
            <a:tbl>
              <a:tblPr/>
              <a:tblGrid>
                <a:gridCol w="3838320"/>
                <a:gridCol w="4848480"/>
              </a:tblGrid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mb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G.C. de medi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(X-Char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 </a:t>
                      </a:r>
                      <a:r>
                        <a:rPr b="0" lang="es-ES_tradnl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buClr>
                          <a:srgbClr val="808080"/>
                        </a:buClr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 </a:t>
                      </a:r>
                      <a:r>
                        <a:rPr b="1" lang="es-ES_tradnl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Tendencias (Error sistemático, deriva, periodicida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buClr>
                          <a:srgbClr val="808080"/>
                        </a:buClr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 </a:t>
                      </a:r>
                      <a:r>
                        <a:rPr b="1" lang="es-ES_tradnl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eclarar método ‘fuera de control’ (reglas, criterios de </a:t>
                      </a:r>
                      <a:r>
                        <a:rPr b="0" i="1" lang="es-ES_tradnl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</a:t>
                      </a:r>
                      <a:r>
                        <a:rPr b="1" lang="es-ES_tradnl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buClr>
                          <a:srgbClr val="808080"/>
                        </a:buClr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.C. de </a:t>
                      </a:r>
                      <a:r>
                        <a:rPr b="1" lang="es-ES_tradnl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rang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Detecta </a:t>
                      </a:r>
                      <a:r>
                        <a:rPr b="1" lang="es-ES_tradnl" sz="2000" spc="-1" strike="noStrike">
                          <a:solidFill>
                            <a:srgbClr val="990099"/>
                          </a:solidFill>
                          <a:latin typeface="Tahoma"/>
                        </a:rPr>
                        <a:t>error aleatorio (ej. un cambio en repetibilidad, si </a:t>
                      </a:r>
                      <a:r>
                        <a:rPr b="0" i="1" lang="es-ES_tradnl" sz="2000" spc="-1" strike="noStrike">
                          <a:solidFill>
                            <a:srgbClr val="990099"/>
                          </a:solidFill>
                          <a:latin typeface="Tahoma"/>
                        </a:rPr>
                        <a:t>Nr </a:t>
                      </a:r>
                      <a:r>
                        <a:rPr b="1" lang="es-ES_tradnl" sz="2000" spc="-1" strike="noStrike">
                          <a:solidFill>
                            <a:srgbClr val="990099"/>
                          </a:solidFill>
                          <a:latin typeface="Tahoma"/>
                        </a:rPr>
                        <a:t>&gt;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.C. de </a:t>
                      </a:r>
                      <a:r>
                        <a:rPr b="1" lang="es-ES_tradnl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medias móviles</a:t>
                      </a: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(</a:t>
                      </a:r>
                      <a:r>
                        <a:rPr b="0" i="1" lang="es-ES_tradnl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MM</a:t>
                      </a: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</a:t>
                      </a:r>
                      <a:r>
                        <a:rPr b="1" lang="es-ES_tradnl" sz="2000" spc="-1" strike="noStrike">
                          <a:solidFill>
                            <a:srgbClr val="990099"/>
                          </a:solidFill>
                          <a:latin typeface="Tahoma"/>
                        </a:rPr>
                        <a:t>Reducen</a:t>
                      </a: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l </a:t>
                      </a:r>
                      <a:r>
                        <a:rPr b="1" lang="es-ES_tradnl" sz="2000" spc="-1" strike="noStrike">
                          <a:solidFill>
                            <a:srgbClr val="990099"/>
                          </a:solidFill>
                          <a:latin typeface="Tahoma"/>
                        </a:rPr>
                        <a:t>impacto</a:t>
                      </a: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del </a:t>
                      </a:r>
                      <a:r>
                        <a:rPr b="1" lang="es-ES_tradnl" sz="2000" spc="-1" strike="noStrike">
                          <a:solidFill>
                            <a:srgbClr val="990099"/>
                          </a:solidFill>
                          <a:latin typeface="Tahoma"/>
                        </a:rPr>
                        <a:t>error</a:t>
                      </a:r>
                      <a:r>
                        <a:rPr b="1" lang="es-ES_tradnl" sz="2000" spc="-1" strike="noStrike">
                          <a:solidFill>
                            <a:srgbClr val="d60093"/>
                          </a:solidFill>
                          <a:latin typeface="Tahoma"/>
                        </a:rPr>
                        <a:t> </a:t>
                      </a:r>
                      <a:r>
                        <a:rPr b="1" lang="es-ES_tradnl" sz="2000" spc="-1" strike="noStrike">
                          <a:solidFill>
                            <a:srgbClr val="990099"/>
                          </a:solidFill>
                          <a:latin typeface="Tahoma"/>
                        </a:rPr>
                        <a:t>aleatorio</a:t>
                      </a: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(mejor detección de tendencias; ej. </a:t>
                      </a:r>
                      <a:r>
                        <a:rPr b="1" lang="es-ES_tradnl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deriva</a:t>
                      </a: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.C. de </a:t>
                      </a:r>
                      <a:r>
                        <a:rPr b="1" lang="es-ES_tradnl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sumas acumuladas</a:t>
                      </a: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(</a:t>
                      </a:r>
                      <a:r>
                        <a:rPr b="0" i="1" lang="es-ES_tradnl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SA</a:t>
                      </a: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s-ES_tradnl" sz="2000" spc="-1" strike="noStrike">
                          <a:solidFill>
                            <a:srgbClr val="990099"/>
                          </a:solidFill>
                          <a:latin typeface="Tahoma"/>
                        </a:rPr>
                        <a:t>Sensible (y rápido)</a:t>
                      </a: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para detectar tendencias; ej. </a:t>
                      </a:r>
                      <a:r>
                        <a:rPr b="1" lang="es-ES_tradnl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deri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.C. de </a:t>
                      </a:r>
                      <a:r>
                        <a:rPr b="1" i="1" lang="es-ES_tradnl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MM</a:t>
                      </a:r>
                      <a:r>
                        <a:rPr b="1" lang="es-ES_tradnl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 exponencialmente ponderadas</a:t>
                      </a: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(</a:t>
                      </a:r>
                      <a:r>
                        <a:rPr b="0" i="1" lang="es-ES_tradnl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MMEP</a:t>
                      </a: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Detecta </a:t>
                      </a:r>
                      <a:r>
                        <a:rPr b="1" lang="es-ES_tradnl" sz="2000" spc="-1" strike="noStrike">
                          <a:solidFill>
                            <a:srgbClr val="990099"/>
                          </a:solidFill>
                          <a:latin typeface="Tahoma"/>
                        </a:rPr>
                        <a:t>error aleatorio </a:t>
                      </a: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parando </a:t>
                      </a:r>
                      <a:r>
                        <a:rPr b="0" i="1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MEP</a:t>
                      </a: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y </a:t>
                      </a:r>
                      <a:r>
                        <a:rPr b="0" i="1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di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250920" y="620640"/>
            <a:ext cx="71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ahoma"/>
              </a:rPr>
              <a:t>Tipos de gráficos d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144000" y="6634080"/>
            <a:ext cx="936720" cy="215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" spc="-1" strike="noStrike">
                <a:solidFill>
                  <a:srgbClr val="008000"/>
                </a:solidFill>
                <a:latin typeface="Times New Roman"/>
              </a:rPr>
              <a:t>(Anexo 8.1a,b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2520" y="0"/>
            <a:ext cx="385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Criterios gráficos d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56000" y="1844640"/>
            <a:ext cx="3087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C de med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C de ran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C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C 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C MM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C Rango móvil (</a:t>
            </a:r>
            <a:r>
              <a:rPr b="0" i="1" lang="en-US" sz="2400" spc="-1" strike="noStrike">
                <a:solidFill>
                  <a:srgbClr val="990099"/>
                </a:solidFill>
                <a:latin typeface="Times New Roman"/>
              </a:rPr>
              <a:t>R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634000" y="2708280"/>
            <a:ext cx="196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(individu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(subgrup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13440" y="1773360"/>
            <a:ext cx="5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333399"/>
                </a:solidFill>
                <a:latin typeface="Times New Roman"/>
              </a:rPr>
              <a:t>N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435640" y="3284640"/>
            <a:ext cx="223200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435640" y="4797360"/>
            <a:ext cx="223200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71640" y="2852640"/>
            <a:ext cx="2521080" cy="2232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851280" y="3644640"/>
            <a:ext cx="1368360" cy="208908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198400" y="3284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54040" y="5300640"/>
            <a:ext cx="45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Times New Roman"/>
              </a:rPr>
              <a:t>&gt;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3603600" y="646200"/>
          <a:ext cx="538812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03600" y="646200"/>
                    <a:ext cx="538812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155520" y="685800"/>
            <a:ext cx="3273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Métodos multianal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99"/>
                </a:solidFill>
                <a:latin typeface="Times New Roman"/>
              </a:rPr>
              <a:t>(ej: Cromatografí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80880" y="2967120"/>
          <a:ext cx="2667240" cy="312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967120"/>
                    <a:ext cx="2667240" cy="31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1128960" y="3089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4008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-3960" y="-27000"/>
            <a:ext cx="466740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Gráficos de control multivari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206360" y="4140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GR. CONTROL x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260680" y="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GR. CONTROL x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57200" y="3276720"/>
            <a:ext cx="37332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GR. CONTROL MULTI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6960" y="3276720"/>
            <a:ext cx="265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GR. DISPER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33720" y="6213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x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8640" y="4114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x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383960" y="6289560"/>
            <a:ext cx="4719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57240" y="4308480"/>
            <a:ext cx="4183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308720" y="3716280"/>
            <a:ext cx="153360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o PCA (1-C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21:47:06Z</dcterms:created>
  <dc:creator>Salva</dc:creator>
  <dc:description/>
  <dc:language>en-US</dc:language>
  <cp:lastModifiedBy>Salva</cp:lastModifiedBy>
  <dcterms:modified xsi:type="dcterms:W3CDTF">2010-10-20T21:35:12Z</dcterms:modified>
  <cp:revision>6</cp:revision>
  <dc:subject/>
  <dc:title>Diapositiva 1</dc:title>
</cp:coreProperties>
</file>