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50E-866B-4F16-A5D5-9A240C0B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29C-E25C-48AD-A848-75F2C2DF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B28-55F6-46C1-A3F6-06564B8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F06-E61C-4A98-9818-E6715568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BD6-6597-4DA2-B01E-3145D51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3BD-5A50-447B-B5D6-3BEBFEE5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1C8-8BE7-4048-A052-4BEE2028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12A-2608-425F-B130-E926083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2D3-C581-4535-B951-445D1C2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444-2EED-4FA4-B80D-4FA0AC4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BA1-2CE8-4A67-A11D-F7CFF44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898-6F09-44C8-A8A6-FAFC005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514-7BF4-43E8-A9E3-79BAF785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nac.es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v.es/sagrado" TargetMode="External"/><Relationship Id="rId2" Type="http://schemas.openxmlformats.org/officeDocument/2006/relationships/hyperlink" Target="http://www.uv.es/sagrado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v.es/sagrado" TargetMode="External"/><Relationship Id="rId2" Type="http://schemas.openxmlformats.org/officeDocument/2006/relationships/hyperlink" Target="http://www.uv.es/sagrado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v.es/sagrado" TargetMode="External"/><Relationship Id="rId2" Type="http://schemas.openxmlformats.org/officeDocument/2006/relationships/hyperlink" Target="http://www.uv.es/sagrado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360" y="-27000"/>
            <a:ext cx="9177120" cy="6899400"/>
            <a:chOff x="-36360" y="-27000"/>
            <a:chExt cx="9177120" cy="6899400"/>
          </a:xfrm>
        </p:grpSpPr>
        <p:sp>
          <p:nvSpPr>
            <p:cNvPr id="42" name=""/>
            <p:cNvSpPr/>
            <p:nvPr/>
          </p:nvSpPr>
          <p:spPr>
            <a:xfrm>
              <a:off x="216000" y="5367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36360" y="-126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-126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6400" y="-270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nexo II-Documentos ENAC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52360" y="12492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riterios Generales para la </a:t>
            </a:r>
            <a:r>
              <a:rPr b="1" lang="es-ES" sz="1800" spc="-1" strike="noStrike">
                <a:solidFill>
                  <a:srgbClr val="660066"/>
                </a:solidFill>
                <a:latin typeface="Tahoma"/>
              </a:rPr>
              <a:t>acreditación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de Laboratorios de Ensay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alibración según Norma UNE-EN-ISO/IEC 17025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CGA-ENAC-LEC Rev. 5 (Octubre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cedimiento de </a:t>
            </a:r>
            <a:r>
              <a:rPr b="1" lang="es-ES" sz="1800" spc="-1" strike="noStrike">
                <a:solidFill>
                  <a:srgbClr val="660066"/>
                </a:solidFill>
                <a:latin typeface="Tahoma"/>
              </a:rPr>
              <a:t>acreditación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de labo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PAC-ENAC - LEC Rev. 4 (Julio 20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uestionario de </a:t>
            </a:r>
            <a:r>
              <a:rPr b="1" lang="es-ES" sz="1800" spc="-1" strike="noStrike">
                <a:solidFill>
                  <a:srgbClr val="660066"/>
                </a:solidFill>
                <a:latin typeface="Tahoma"/>
              </a:rPr>
              <a:t>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G-ENAC - 99 Rev. 2 (Julio 200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Guía sobre la participación en programas de </a:t>
            </a:r>
            <a:r>
              <a:rPr b="1" lang="es-ES" sz="1800" spc="-1" strike="noStrike">
                <a:solidFill>
                  <a:srgbClr val="333399"/>
                </a:solidFill>
                <a:latin typeface="Tahoma"/>
              </a:rPr>
              <a:t>intercompa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G-ENAC-14 Rev. 1 (Septiembre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olítica de ENAC sobre </a:t>
            </a:r>
            <a:r>
              <a:rPr b="1" lang="es-ES" sz="1800" spc="-1" strike="noStrike">
                <a:solidFill>
                  <a:srgbClr val="333399"/>
                </a:solidFill>
                <a:latin typeface="Tahoma"/>
              </a:rPr>
              <a:t>Intercompa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NT-03 Rev. 3 (Octubre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2680" y="6477120"/>
            <a:ext cx="31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Disponibles en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enac.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6360" y="-27000"/>
            <a:ext cx="9177120" cy="6899400"/>
            <a:chOff x="-36360" y="-27000"/>
            <a:chExt cx="9177120" cy="6899400"/>
          </a:xfrm>
        </p:grpSpPr>
        <p:sp>
          <p:nvSpPr>
            <p:cNvPr id="49" name=""/>
            <p:cNvSpPr/>
            <p:nvPr/>
          </p:nvSpPr>
          <p:spPr>
            <a:xfrm>
              <a:off x="216000" y="5367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36360" y="-126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95560" y="-126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16400" y="-270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nexo II. Estructurar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-40680" y="6592320"/>
            <a:ext cx="8465400" cy="30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S. Sagrado y col., Manual Práctico de Calidad en los Laboratorios. Enfoque ISO 17025. AENOR 2005.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uv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/sagrado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86120"/>
            <a:ext cx="716292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dad en el 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278320"/>
            <a:ext cx="23781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357800"/>
            <a:ext cx="23623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GARANTI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443400"/>
            <a:ext cx="23623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VALUACIÓN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529000"/>
            <a:ext cx="23623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919080"/>
            <a:ext cx="6400800" cy="106704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280" y="5043600"/>
            <a:ext cx="237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145040"/>
            <a:ext cx="257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sponsable (</a:t>
            </a:r>
            <a:r>
              <a:rPr b="1" lang="es-ES_tradnl" sz="1800" spc="-1" strike="noStrike">
                <a:solidFill>
                  <a:srgbClr val="808080"/>
                </a:solidFill>
                <a:latin typeface="Tahoma"/>
              </a:rPr>
              <a:t>Comité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)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3595680"/>
            <a:ext cx="2361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280" y="2529000"/>
            <a:ext cx="2361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14280" y="2595600"/>
            <a:ext cx="147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b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97720" y="3595680"/>
            <a:ext cx="1768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ual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15000" y="3062160"/>
            <a:ext cx="175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al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13560" y="4129200"/>
            <a:ext cx="1768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964000">
            <a:off x="1128600" y="5715000"/>
            <a:ext cx="243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372200">
            <a:off x="6123960" y="5795640"/>
            <a:ext cx="2438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98560" y="126828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orma ISO 17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Tahoma"/>
              </a:rPr>
              <a:t>CGA-ENAC-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13560" y="4662360"/>
            <a:ext cx="1768320" cy="5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06216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6200" y="6159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33480" y="-41400"/>
            <a:ext cx="9177120" cy="6899400"/>
            <a:chOff x="-33480" y="-41400"/>
            <a:chExt cx="9177120" cy="6899400"/>
          </a:xfrm>
        </p:grpSpPr>
        <p:sp>
          <p:nvSpPr>
            <p:cNvPr id="75" name=""/>
            <p:cNvSpPr/>
            <p:nvPr/>
          </p:nvSpPr>
          <p:spPr>
            <a:xfrm>
              <a:off x="218880" y="5223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3480" y="-270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440" y="-270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9280" y="-414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nexo II. Docu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9" name=""/>
          <p:cNvGraphicFramePr/>
          <p:nvPr/>
        </p:nvGraphicFramePr>
        <p:xfrm>
          <a:off x="304920" y="1413000"/>
          <a:ext cx="8515080" cy="3905280"/>
        </p:xfrm>
        <a:graphic>
          <a:graphicData uri="http://schemas.openxmlformats.org/drawingml/2006/table">
            <a:tbl>
              <a:tblPr/>
              <a:tblGrid>
                <a:gridCol w="1982520"/>
                <a:gridCol w="1981440"/>
                <a:gridCol w="2055600"/>
                <a:gridCol w="249552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Tahoma"/>
                          <a:ea typeface="Times New Roman"/>
                        </a:rPr>
                        <a:t>Documento</a:t>
                      </a: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rite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660066"/>
                          </a:solidFill>
                          <a:latin typeface="Tahoma"/>
                          <a:ea typeface="Arial"/>
                        </a:rPr>
                        <a:t>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r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ahoma"/>
                          <a:ea typeface="Times New Roman"/>
                        </a:rPr>
                        <a:t>ISO 1702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anual de Calidad y P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5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Otras</a:t>
                      </a:r>
                      <a:r>
                        <a:rPr b="1" lang="es-ES_tradnl" sz="18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 nor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333399"/>
                          </a:solidFill>
                          <a:latin typeface="Tahoma"/>
                          <a:ea typeface="Arial"/>
                        </a:rPr>
                        <a:t>Técnicos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ncretos y detallado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Gu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Tahoma"/>
                          <a:ea typeface="Arial"/>
                        </a:rPr>
                        <a:t>CGA-ENAC-L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anual de Calidad y P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660066"/>
                          </a:solidFill>
                          <a:latin typeface="Tahoma"/>
                          <a:ea typeface="Arial"/>
                        </a:rPr>
                        <a:t>Otras</a:t>
                      </a:r>
                      <a:r>
                        <a:rPr b="1" lang="es-ES_tradnl" sz="1800" spc="-1" strike="noStrike">
                          <a:solidFill>
                            <a:srgbClr val="660066"/>
                          </a:solidFill>
                          <a:latin typeface="Tahoma"/>
                          <a:ea typeface="Arial"/>
                        </a:rPr>
                        <a:t> gu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Gs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área a acreditar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Otros documento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ub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8000"/>
                          </a:solidFill>
                          <a:latin typeface="Tahoma"/>
                          <a:ea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8000"/>
                          </a:solidFill>
                          <a:latin typeface="Tahoma"/>
                          <a:ea typeface="Arial"/>
                        </a:rPr>
                        <a:t>Manu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Leye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8000"/>
                          </a:solidFill>
                          <a:latin typeface="Tahoma"/>
                          <a:ea typeface="Arial"/>
                        </a:rPr>
                        <a:t>Técnicos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ncretos y detallado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E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PEQs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46960" y="955800"/>
            <a:ext cx="68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ocumentos empleados en preparar la acredi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080" y="5800680"/>
            <a:ext cx="8763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ormalizado (Oficial, Norma, Publicación de prestigio). Poca/nula re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nterno (Desarrollado/Adaptado por el LEC). Revisión (acreditació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320" y="5362560"/>
            <a:ext cx="77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j. Método -&gt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ocumen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 (procedimiento específico de ensay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36360" y="-27000"/>
            <a:ext cx="9177120" cy="6899400"/>
            <a:chOff x="-36360" y="-27000"/>
            <a:chExt cx="9177120" cy="6899400"/>
          </a:xfrm>
        </p:grpSpPr>
        <p:sp>
          <p:nvSpPr>
            <p:cNvPr id="84" name=""/>
            <p:cNvSpPr/>
            <p:nvPr/>
          </p:nvSpPr>
          <p:spPr>
            <a:xfrm>
              <a:off x="216000" y="5367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36360" y="-126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5560" y="-126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6400" y="-270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nexo II. Docu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89280" y="934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762120"/>
            <a:ext cx="7467480" cy="518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cdcdc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914480"/>
            <a:ext cx="18288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nual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276720"/>
            <a:ext cx="12952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2680" y="5354640"/>
            <a:ext cx="1439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gis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070080"/>
            <a:ext cx="42670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Normas (ej. ISO 17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Documentos legales (ej. B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Métodos oficiales (ej. AO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838080"/>
            <a:ext cx="35812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Documento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interno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l sistem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267080"/>
            <a:ext cx="2743200" cy="825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Li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ojas de control de mod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762120"/>
            <a:ext cx="2286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Documentos exter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1700280"/>
            <a:ext cx="1828800" cy="53316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752480"/>
            <a:ext cx="914400" cy="175284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1676520"/>
            <a:ext cx="380880" cy="259056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599840" y="1752480"/>
            <a:ext cx="304920" cy="35053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57640" y="1752480"/>
            <a:ext cx="609480" cy="1295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40680" y="6592320"/>
            <a:ext cx="8465400" cy="30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S. Sagrado y col., Manual Práctico de Calidad en los Laboratorios. Enfoque ISO 17025. AENOR 2005.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uv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/sagrado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3645000"/>
            <a:ext cx="1800000" cy="48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ahoma"/>
              </a:rPr>
              <a:t>PG, PEE, PEQ, PEV,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89752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ta: Documentos dinámicos (revisiones; nº re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36360" y="-27000"/>
            <a:ext cx="9177120" cy="6899400"/>
            <a:chOff x="-36360" y="-27000"/>
            <a:chExt cx="9177120" cy="6899400"/>
          </a:xfrm>
        </p:grpSpPr>
        <p:sp>
          <p:nvSpPr>
            <p:cNvPr id="106" name=""/>
            <p:cNvSpPr/>
            <p:nvPr/>
          </p:nvSpPr>
          <p:spPr>
            <a:xfrm>
              <a:off x="216000" y="5367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36360" y="-126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5560" y="-126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-270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nexo II. Docu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89280" y="934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838080"/>
            <a:ext cx="48481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Relaciones entre Documento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9900cc"/>
                </a:solidFill>
                <a:latin typeface="Tahoma"/>
              </a:rPr>
              <a:t>interno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l sistem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2560" y="2678040"/>
            <a:ext cx="62712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9200" y="3881520"/>
            <a:ext cx="68652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2368440"/>
            <a:ext cx="174888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istado P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3880" y="3521160"/>
            <a:ext cx="180828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istado PE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205000"/>
            <a:ext cx="3095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ja de control de mod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3429000"/>
            <a:ext cx="3024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ja de control de mod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2" idx="1"/>
            <a:endCxn id="114" idx="3"/>
          </p:cNvCxnSpPr>
          <p:nvPr/>
        </p:nvCxnSpPr>
        <p:spPr>
          <a:xfrm flipH="1" flipV="1">
            <a:off x="2261880" y="2566440"/>
            <a:ext cx="1373760" cy="30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>
            <a:stCxn id="113" idx="1"/>
            <a:endCxn id="115" idx="3"/>
          </p:cNvCxnSpPr>
          <p:nvPr/>
        </p:nvCxnSpPr>
        <p:spPr>
          <a:xfrm flipH="1" flipV="1">
            <a:off x="2444400" y="3718800"/>
            <a:ext cx="17676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13" idx="0"/>
            <a:endCxn id="112" idx="2"/>
          </p:cNvCxnSpPr>
          <p:nvPr/>
        </p:nvCxnSpPr>
        <p:spPr>
          <a:xfrm flipH="1" flipV="1">
            <a:off x="3966840" y="3074760"/>
            <a:ext cx="59616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6" idx="1"/>
            <a:endCxn id="112" idx="3"/>
          </p:cNvCxnSpPr>
          <p:nvPr/>
        </p:nvCxnSpPr>
        <p:spPr>
          <a:xfrm flipH="1">
            <a:off x="4296600" y="2495520"/>
            <a:ext cx="1212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23" idx="1"/>
            <a:endCxn id="124" idx="3"/>
          </p:cNvCxnSpPr>
          <p:nvPr/>
        </p:nvCxnSpPr>
        <p:spPr>
          <a:xfrm flipH="1">
            <a:off x="5320800" y="5087880"/>
            <a:ext cx="7992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876200" y="5105520"/>
            <a:ext cx="4276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4" idx="0"/>
            <a:endCxn id="113" idx="2"/>
          </p:cNvCxnSpPr>
          <p:nvPr/>
        </p:nvCxnSpPr>
        <p:spPr>
          <a:xfrm flipH="1" flipV="1">
            <a:off x="4562280" y="4277880"/>
            <a:ext cx="52920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119640" y="4797360"/>
            <a:ext cx="2700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ja de control de mod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1"/>
            <a:endCxn id="113" idx="3"/>
          </p:cNvCxnSpPr>
          <p:nvPr/>
        </p:nvCxnSpPr>
        <p:spPr>
          <a:xfrm flipH="1">
            <a:off x="4912560" y="3719160"/>
            <a:ext cx="1027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416320" y="5897520"/>
            <a:ext cx="124740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7" idx="0"/>
            <a:endCxn id="112" idx="2"/>
          </p:cNvCxnSpPr>
          <p:nvPr/>
        </p:nvCxnSpPr>
        <p:spPr>
          <a:xfrm flipV="1">
            <a:off x="3039840" y="3074760"/>
            <a:ext cx="927720" cy="28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716360" y="5950080"/>
            <a:ext cx="3024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ja de control de mod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1"/>
            <a:endCxn id="127" idx="3"/>
          </p:cNvCxnSpPr>
          <p:nvPr/>
        </p:nvCxnSpPr>
        <p:spPr>
          <a:xfrm flipH="1" flipV="1">
            <a:off x="3668400" y="6095520"/>
            <a:ext cx="104832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417240" y="4478400"/>
            <a:ext cx="154944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istado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373720"/>
            <a:ext cx="1728720" cy="52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tado reg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endCxn id="131" idx="3"/>
          </p:cNvCxnSpPr>
          <p:nvPr/>
        </p:nvCxnSpPr>
        <p:spPr>
          <a:xfrm flipH="1" flipV="1">
            <a:off x="1988640" y="4676040"/>
            <a:ext cx="281088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27" idx="1"/>
            <a:endCxn id="132" idx="3"/>
          </p:cNvCxnSpPr>
          <p:nvPr/>
        </p:nvCxnSpPr>
        <p:spPr>
          <a:xfrm flipH="1" flipV="1">
            <a:off x="1978920" y="5631840"/>
            <a:ext cx="43236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 flipV="1">
            <a:off x="6588000" y="17002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928800"/>
            <a:ext cx="2376720" cy="5806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Historia (justificación) de las rev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36360" y="-27000"/>
            <a:ext cx="9177120" cy="6899400"/>
            <a:chOff x="-36360" y="-27000"/>
            <a:chExt cx="9177120" cy="6899400"/>
          </a:xfrm>
        </p:grpSpPr>
        <p:sp>
          <p:nvSpPr>
            <p:cNvPr id="138" name=""/>
            <p:cNvSpPr/>
            <p:nvPr/>
          </p:nvSpPr>
          <p:spPr>
            <a:xfrm>
              <a:off x="216000" y="536760"/>
              <a:ext cx="8820000" cy="6335640"/>
            </a:xfrm>
            <a:prstGeom prst="rect">
              <a:avLst/>
            </a:prstGeom>
            <a:gradFill rotWithShape="0">
              <a:gsLst>
                <a:gs pos="0">
                  <a:srgbClr val="9191a9">
                    <a:alpha val="0"/>
                  </a:srgbClr>
                </a:gs>
                <a:gs pos="100000">
                  <a:srgbClr val="dbdbff">
                    <a:alpha val="5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36360" y="-12600"/>
              <a:ext cx="213192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ASTER 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QUÍMICA FORE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95560" y="-12600"/>
              <a:ext cx="3124080" cy="549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segura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6400" y="-27000"/>
              <a:ext cx="3924360" cy="5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Anexo II. LI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-40680" y="6592320"/>
            <a:ext cx="8465400" cy="30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S. Sagrado y col., Manual Práctico de Calidad en los Laboratorios. Enfoque ISO 17025. AENOR 2005.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uv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/sagrado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838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SISTEM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GESTIÓN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INFORMACIÓN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N LOS </a:t>
            </a: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LABO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LIMS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1" lang="es-ES_tradnl" sz="1800" spc="-1" strike="noStrike">
                <a:solidFill>
                  <a:srgbClr val="808080"/>
                </a:solidFill>
                <a:latin typeface="Tahoma"/>
              </a:rPr>
              <a:t>el segundo escalón de la calidad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440" y="2556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07324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62640" y="19112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413080"/>
            <a:ext cx="2057400" cy="711000"/>
          </a:xfrm>
          <a:prstGeom prst="leftRightArrow">
            <a:avLst>
              <a:gd name="adj1" fmla="val 50000"/>
              <a:gd name="adj2" fmla="val 576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56880" y="32068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454120"/>
            <a:ext cx="3456000" cy="398520"/>
          </a:xfrm>
          <a:prstGeom prst="upDownArrow">
            <a:avLst>
              <a:gd name="adj1" fmla="val 99648"/>
              <a:gd name="adj2" fmla="val 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438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Tahoma"/>
              </a:rPr>
              <a:t>Software/Hardware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06396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19680" y="305424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Cuanti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uali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905120"/>
            <a:ext cx="8610480" cy="1981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6640" y="456264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ahoma"/>
              </a:rPr>
              <a:t>Documento-es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495680"/>
            <a:ext cx="1447560" cy="486000"/>
          </a:xfrm>
          <a:prstGeom prst="rightArrow">
            <a:avLst>
              <a:gd name="adj1" fmla="val 50000"/>
              <a:gd name="adj2" fmla="val 744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4000" y="4365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ahoma"/>
              </a:rPr>
              <a:t>Documento-electrón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gistros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irmas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ormes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Hojas de trabajo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8440" y="2581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86200"/>
            <a:ext cx="8610480" cy="206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520" y="5950080"/>
            <a:ext cx="86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cc"/>
                </a:solidFill>
                <a:latin typeface="Tahoma"/>
              </a:rPr>
              <a:t>Aspectos clave: definir tareas, implementación </a:t>
            </a:r>
            <a:r>
              <a:rPr b="0" lang="es-ES_tradnl" sz="1800" spc="-1" strike="noStrike">
                <a:solidFill>
                  <a:srgbClr val="cc00cc"/>
                </a:solidFill>
                <a:latin typeface="Tahoma"/>
              </a:rPr>
              <a:t>(adaptar software exist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18:25Z</dcterms:created>
  <dc:creator>SAGRADO</dc:creator>
  <dc:description/>
  <dc:language>en-US</dc:language>
  <cp:lastModifiedBy>Salva</cp:lastModifiedBy>
  <dcterms:modified xsi:type="dcterms:W3CDTF">2010-10-20T21:35:07Z</dcterms:modified>
  <cp:revision>3</cp:revision>
  <dc:subject/>
  <dc:title>Diapositiva 1</dc:title>
</cp:coreProperties>
</file>